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7609-269F-4FE0-A1F7-2BF162CF92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A484-BE07-4DE9-97F9-B63684F0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BDFB-8152-4147-BF4B-1B43209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0314-C77A-4CCE-A468-6E24968E7E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B102-010F-4FC0-9447-A2598E00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7D7E-E65D-47B7-A085-26CEB90C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8EC8-710A-4318-83BA-C98B3EF2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0DC0-37C9-47D8-86BC-9348EF44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4800-4AEC-4EA2-8726-427562CE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EEF0-DC8C-400D-AEF9-77F200A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FC76-F588-478B-BA3A-7F731278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9AA5-0EBA-47F6-91CC-8391870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504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999 IM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3EAA-E4AB-47A1-9122-3F1A129CA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80880" y="228600"/>
          <a:ext cx="107172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0717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2057400" y="3808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imulink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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blocks for simulation of ligh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762120"/>
            <a:ext cx="792468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 the construction of Simulink™ blocks to simulate and analyze optical sour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se of educational softwares is very common in present days in electrical engine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imulink software provide a friendly computational environment, easy to comprehend and familiar to the stud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acility offered is that the simulation parameters can be changed,and the influence of a certain variable can be investiga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SHOWN IN THIS WORK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is work are observed the behavior of three kinds of light sources: the LED diode, Fabry - Perot laser and Quantum Well las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90920" y="914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 transfer 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1676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85800" y="2133720"/>
                <a:ext cx="335916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f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29200" y="2133720"/>
                <a:ext cx="205740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τ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281952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mode Fabry - Pero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28600" y="4114800"/>
                <a:ext cx="45720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2</m:t>
                        </m:r>
                        <m:r>
                          <m:t xml:space="preserve">π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19920" y="4191120"/>
                <a:ext cx="25146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81532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038480" y="5181480"/>
                <a:ext cx="21337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905120"/>
                <a:ext cx="746784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S</m:t>
                        </m:r>
                      </m:e>
                    </m:d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71600" y="3505320"/>
                <a:ext cx="662940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Γ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S</m:t>
                        </m:r>
                      </m:e>
                    </m:d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βN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124080" y="4800600"/>
                <a:ext cx="28195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t</m:t>
                            </m:r>
                          </m:sub>
                        </m:sSub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371600" y="1295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Well  laser (time domain implementati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52680" y="762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447920"/>
          <a:ext cx="4343400" cy="164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434340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181480" y="1219320"/>
          <a:ext cx="3710160" cy="472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219320"/>
                    <a:ext cx="3710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57200" y="3505320"/>
          <a:ext cx="4176720" cy="2654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505320"/>
                    <a:ext cx="41767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838080" y="3809880"/>
            <a:ext cx="762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(m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4114800"/>
            <a:ext cx="609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(m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60199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box to the LE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019920"/>
            <a:ext cx="4496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to the 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322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used to simulate the behavior of a 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71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bry - Perot Laser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1143000"/>
          <a:ext cx="35578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143000"/>
                    <a:ext cx="3557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52280" y="2209680"/>
          <a:ext cx="4953240" cy="3370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209680"/>
                    <a:ext cx="495324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2860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Results to the LASER Di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60199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box with LASER diod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4382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3505320"/>
            <a:ext cx="70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7617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ntum Well Laser simu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4197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diagram used to simulate a QW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648320" cy="238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5334120" y="1371600"/>
          <a:ext cx="3214440" cy="4735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371600"/>
                    <a:ext cx="321444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809880" y="603576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lock diagram used to simulate a QW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62120" y="1066680"/>
          <a:ext cx="8381880" cy="47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838188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914400" y="59436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lock diagram of  “rate equations” module in tim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149480" y="1371600"/>
          <a:ext cx="7232400" cy="42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9480" y="1371600"/>
                    <a:ext cx="72324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943600" y="1600200"/>
            <a:ext cx="100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t) 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t-BR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914400" y="5791320"/>
            <a:ext cx="9677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ptical Output Power to a input current varying between 0 and 1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295280"/>
            <a:ext cx="8001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cks described here have been used as a teaching tool for undergraduating students in basic courses of optical fiber communications at UFP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cilities of the computer simulation allows a better understanding of the theory, improving the student’s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exibility of the software permits the investigation of the influence of various parameters, proving to be a good didatic comp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, the authors are developing models for filters, optical and semiconductor amplifiers, nonlinear fiber optics blocks, to analyze high bit rate optical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8380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8:33:12Z</dcterms:created>
  <dc:creator>Laps</dc:creator>
  <dc:description/>
  <dc:language>en-US</dc:language>
  <cp:lastModifiedBy>Claudio franco</cp:lastModifiedBy>
  <dcterms:modified xsi:type="dcterms:W3CDTF">1999-08-06T18:17:48Z</dcterms:modified>
  <cp:revision>23</cp:revision>
  <dc:subject/>
  <dc:title>Slide sem título </dc:title>
</cp:coreProperties>
</file>