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261-AA21-49B3-BAC5-5380357D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9EF-0D85-47AA-85E4-533A6FE8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227-1B77-4438-B8BA-D3B2D6F4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132-1964-41A5-BADD-FC7794FD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AC4-45E7-44AA-9864-3A65F15E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EB8-9DBE-424A-AEE6-44B51C2A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18D-17BB-4A3E-9FAC-F6CE4E04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133-CB1C-45B1-9012-3EB70D43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21D-1379-4708-8F5C-395BE857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FEB-1716-441D-A7D8-021D21FA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F45-2B8D-4736-8CDE-0404CD7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CDC-B157-4490-9E4F-D284A657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0F6B-0B06-4F26-B8DC-DCFF0F947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795320"/>
            <a:ext cx="7848720" cy="51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in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locks for simulation of light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s: Cláudio F. de Melo JR, João C. W. A. Costa, Licinius D. S. de Alcantara, Ronaldo O. dos Sa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amento de Engenharia El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idade Federal do Pará -Belém – Pará - 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weyl@ufpa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ancial support: CNPq/CAPES/FINE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UFPA2" descr=""/>
          <p:cNvPicPr/>
          <p:nvPr/>
        </p:nvPicPr>
        <p:blipFill>
          <a:blip r:embed="rId1"/>
          <a:stretch/>
        </p:blipFill>
        <p:spPr>
          <a:xfrm>
            <a:off x="3581280" y="0"/>
            <a:ext cx="1675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5T02:54:08Z</dcterms:created>
  <dc:creator>Claudio franco</dc:creator>
  <dc:description/>
  <dc:language>en-US</dc:language>
  <cp:lastModifiedBy>Claudio franco</cp:lastModifiedBy>
  <dcterms:modified xsi:type="dcterms:W3CDTF">1999-08-06T17:59:04Z</dcterms:modified>
  <cp:revision>2</cp:revision>
  <dc:subject/>
  <dc:title>Slide sem título </dc:title>
</cp:coreProperties>
</file>