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5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15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2EE-5822-4106-A805-F539897D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7A4D-9C9A-4246-8204-267B2053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916-48FE-4D0A-A7D6-CC987124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B46F-A908-4075-A4D8-17E08B2F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FDD-212F-4369-894A-1BD61828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1B3F-4BFA-46D2-8D14-5B9D15B3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F1F-0E59-401D-936E-690F3FCF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0E48-FBC3-49E3-94E2-654358BA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09B-B4E8-4363-AC69-5E552A2F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1CC-85D5-41EF-8977-DBF6C6E9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9BF-3515-4972-A5F9-572BFB01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E16-E587-402A-9443-64B7F3B2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49F8-69B7-46B4-8F15-EE54E5B5A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99"/>
                </a:solidFill>
                <a:latin typeface="Times New Roman"/>
              </a:rPr>
              <a:t>Transmissores</a:t>
            </a:r>
            <a:br>
              <a:rPr sz="7200"/>
            </a:br>
            <a:r>
              <a:rPr b="1" lang="en-US" sz="7200" spc="-1" strike="noStrike">
                <a:solidFill>
                  <a:srgbClr val="ff9999"/>
                </a:solidFill>
                <a:latin typeface="Times New Roman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ff9999"/>
                </a:solidFill>
                <a:latin typeface="Times New Roman"/>
              </a:rPr>
              <a:t>Receptores</a:t>
            </a:r>
            <a:br>
              <a:rPr sz="7200"/>
            </a:br>
            <a:r>
              <a:rPr b="1" lang="en-US" sz="7200" spc="-1" strike="noStrike">
                <a:solidFill>
                  <a:srgbClr val="ff9999"/>
                </a:solidFill>
                <a:latin typeface="Times New Roman"/>
              </a:rPr>
              <a:t>Ópticos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cro Lent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38680" y="2590920"/>
            <a:ext cx="157320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38680" y="2133720"/>
            <a:ext cx="157320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00040" y="4340160"/>
            <a:ext cx="228600" cy="381240"/>
          </a:xfrm>
          <a:custGeom>
            <a:avLst/>
            <a:gdLst/>
            <a:ahLst/>
            <a:rect l="l" t="t" r="r" b="b"/>
            <a:pathLst>
              <a:path w="250" h="218">
                <a:moveTo>
                  <a:pt x="0" y="218"/>
                </a:moveTo>
                <a:cubicBezTo>
                  <a:pt x="14" y="123"/>
                  <a:pt x="16" y="56"/>
                  <a:pt x="100" y="0"/>
                </a:cubicBezTo>
                <a:cubicBezTo>
                  <a:pt x="136" y="3"/>
                  <a:pt x="173" y="1"/>
                  <a:pt x="209" y="9"/>
                </a:cubicBezTo>
                <a:cubicBezTo>
                  <a:pt x="250" y="18"/>
                  <a:pt x="245" y="172"/>
                  <a:pt x="245" y="1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4343400"/>
            <a:ext cx="210960" cy="243000"/>
          </a:xfrm>
          <a:custGeom>
            <a:avLst/>
            <a:gdLst/>
            <a:ahLst/>
            <a:rect l="l" t="t" r="r" b="b"/>
            <a:pathLst>
              <a:path w="250" h="218">
                <a:moveTo>
                  <a:pt x="0" y="218"/>
                </a:moveTo>
                <a:cubicBezTo>
                  <a:pt x="14" y="123"/>
                  <a:pt x="16" y="56"/>
                  <a:pt x="100" y="0"/>
                </a:cubicBezTo>
                <a:cubicBezTo>
                  <a:pt x="136" y="3"/>
                  <a:pt x="173" y="1"/>
                  <a:pt x="209" y="9"/>
                </a:cubicBezTo>
                <a:cubicBezTo>
                  <a:pt x="250" y="18"/>
                  <a:pt x="245" y="172"/>
                  <a:pt x="245" y="1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94000" y="44197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19160" y="3429000"/>
            <a:ext cx="152280" cy="160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694960" y="3429000"/>
            <a:ext cx="152280" cy="1600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029200"/>
            <a:ext cx="1885680" cy="166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95280" y="4876920"/>
            <a:ext cx="1295640" cy="304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3992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9092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81280" y="4495680"/>
            <a:ext cx="609840" cy="30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905120" y="4495680"/>
            <a:ext cx="456840" cy="152280"/>
            <a:chOff x="1905120" y="4495680"/>
            <a:chExt cx="456840" cy="152280"/>
          </a:xfrm>
        </p:grpSpPr>
        <p:sp>
          <p:nvSpPr>
            <p:cNvPr id="353" name=""/>
            <p:cNvSpPr/>
            <p:nvPr/>
          </p:nvSpPr>
          <p:spPr>
            <a:xfrm>
              <a:off x="1905120" y="4495680"/>
              <a:ext cx="45684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05120" y="4571640"/>
              <a:ext cx="4568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143000" y="3352680"/>
            <a:ext cx="15732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94000" y="5181480"/>
            <a:ext cx="152280" cy="5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438280" y="440064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78680" y="548640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38400" y="4648320"/>
            <a:ext cx="1392120" cy="21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94000" y="4648320"/>
            <a:ext cx="152280" cy="5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9400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4628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39920" y="44197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9220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39920" y="5181480"/>
            <a:ext cx="152280" cy="5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39920" y="4648320"/>
            <a:ext cx="152280" cy="5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3992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9220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9528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05120" y="4114800"/>
            <a:ext cx="380880" cy="380880"/>
          </a:xfrm>
          <a:prstGeom prst="ellipse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05120" y="3886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133720" y="46483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32640" y="491508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-46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57200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O Cera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480" y="39625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cro-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840" y="3352680"/>
            <a:ext cx="98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 vi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361960" y="35053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209320" y="4114800"/>
            <a:ext cx="83844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666520" y="4800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742840" y="5105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15000" y="3733920"/>
            <a:ext cx="1447920" cy="1447560"/>
          </a:xfrm>
          <a:prstGeom prst="ellipse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5867280" y="3962520"/>
            <a:ext cx="60984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6477120" y="3962520"/>
            <a:ext cx="4572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6019920" y="388620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6477120" y="3809880"/>
            <a:ext cx="3045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6248160" y="3733560"/>
            <a:ext cx="2286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477120" y="3733920"/>
            <a:ext cx="1522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2590920"/>
            <a:ext cx="16002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892840" y="2166480"/>
            <a:ext cx="617400" cy="181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6324480" y="2133720"/>
            <a:ext cx="6098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019920" y="2133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6781680" y="2133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6248520" y="21333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629400" y="21333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386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05760" y="2278080"/>
            <a:ext cx="468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6426360" y="2165400"/>
            <a:ext cx="7920" cy="30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419112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724280" y="2742840"/>
            <a:ext cx="83844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248520" y="5181480"/>
            <a:ext cx="4572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48520" y="5257800"/>
            <a:ext cx="4572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24852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0572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9132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70572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92760" y="556272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3.5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 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088400" y="350532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8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 D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otência de Saída VS Corrente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Driv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765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76520" y="525780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66688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5760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64832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3868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62940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600200" y="4343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60020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00200" y="5295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54120" y="5257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21160" y="5257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1520" y="5257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78560" y="5257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96720" y="3276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6720" y="415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6720" y="243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-287280" y="3595680"/>
            <a:ext cx="26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ência de saída (m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47280" y="5691240"/>
            <a:ext cx="27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nte de Driver (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1119960" y="3886200"/>
            <a:ext cx="11241000" cy="470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25" y="10"/>
                </a:moveTo>
                <a:arcTo wR="10800" hR="10800" stAng="-5551235" swAng="4009108"/>
                <a:lnTo>
                  <a:pt x="10800" y="10800"/>
                </a:lnTo>
                <a:close/>
              </a:path>
              <a:path fill="none" w="21600" h="21600">
                <a:moveTo>
                  <a:pt x="10325" y="10"/>
                </a:moveTo>
                <a:arcTo wR="10800" hR="10800" stAng="-5551235" swAng="4009108"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676520" y="4876920"/>
            <a:ext cx="4190760" cy="380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5639040" y="441900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6095880" y="2514240"/>
            <a:ext cx="533520" cy="2133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959080" y="4724280"/>
            <a:ext cx="136440" cy="51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83880" y="451008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s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095880" y="4876920"/>
            <a:ext cx="53352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19520" y="3672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15720" y="26431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rgura Espectral da Fon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62320" y="1905120"/>
            <a:ext cx="4647960" cy="39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5268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72428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588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988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6708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5308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3868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82520" y="1981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753920" y="29718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906200" y="38098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753920" y="4724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06560" y="5486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113560" y="5867280"/>
            <a:ext cx="51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70           790                  820                  850          8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86000" y="4944960"/>
            <a:ext cx="47242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86000" y="4030560"/>
            <a:ext cx="47242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86000" y="3116160"/>
            <a:ext cx="47242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0" y="2201760"/>
            <a:ext cx="47242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362320" y="2209680"/>
            <a:ext cx="4647960" cy="3429000"/>
            <a:chOff x="2362320" y="2209680"/>
            <a:chExt cx="4647960" cy="3429000"/>
          </a:xfrm>
        </p:grpSpPr>
        <p:sp>
          <p:nvSpPr>
            <p:cNvPr id="461" name=""/>
            <p:cNvSpPr/>
            <p:nvPr/>
          </p:nvSpPr>
          <p:spPr>
            <a:xfrm>
              <a:off x="2362320" y="2209680"/>
              <a:ext cx="2361960" cy="3276720"/>
            </a:xfrm>
            <a:custGeom>
              <a:avLst/>
              <a:gdLst/>
              <a:ahLst/>
              <a:rect l="l" t="t" r="r" b="b"/>
              <a:pathLst>
                <a:path w="1488" h="2064">
                  <a:moveTo>
                    <a:pt x="0" y="2064"/>
                  </a:moveTo>
                  <a:cubicBezTo>
                    <a:pt x="104" y="2024"/>
                    <a:pt x="208" y="1984"/>
                    <a:pt x="288" y="1920"/>
                  </a:cubicBezTo>
                  <a:cubicBezTo>
                    <a:pt x="368" y="1856"/>
                    <a:pt x="416" y="1776"/>
                    <a:pt x="480" y="1680"/>
                  </a:cubicBezTo>
                  <a:cubicBezTo>
                    <a:pt x="544" y="1584"/>
                    <a:pt x="608" y="1472"/>
                    <a:pt x="672" y="1344"/>
                  </a:cubicBezTo>
                  <a:cubicBezTo>
                    <a:pt x="736" y="1216"/>
                    <a:pt x="808" y="1056"/>
                    <a:pt x="864" y="912"/>
                  </a:cubicBezTo>
                  <a:cubicBezTo>
                    <a:pt x="920" y="768"/>
                    <a:pt x="960" y="600"/>
                    <a:pt x="1008" y="480"/>
                  </a:cubicBezTo>
                  <a:cubicBezTo>
                    <a:pt x="1056" y="360"/>
                    <a:pt x="1096" y="264"/>
                    <a:pt x="1152" y="192"/>
                  </a:cubicBezTo>
                  <a:cubicBezTo>
                    <a:pt x="1208" y="120"/>
                    <a:pt x="1288" y="80"/>
                    <a:pt x="1344" y="48"/>
                  </a:cubicBezTo>
                  <a:cubicBezTo>
                    <a:pt x="1400" y="16"/>
                    <a:pt x="1464" y="8"/>
                    <a:pt x="148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4724280" y="2209680"/>
              <a:ext cx="2286000" cy="3429000"/>
            </a:xfrm>
            <a:custGeom>
              <a:avLst/>
              <a:gdLst/>
              <a:ahLst/>
              <a:rect l="l" t="t" r="r" b="b"/>
              <a:pathLst>
                <a:path w="1488" h="2064">
                  <a:moveTo>
                    <a:pt x="0" y="2064"/>
                  </a:moveTo>
                  <a:cubicBezTo>
                    <a:pt x="104" y="2024"/>
                    <a:pt x="208" y="1984"/>
                    <a:pt x="288" y="1920"/>
                  </a:cubicBezTo>
                  <a:cubicBezTo>
                    <a:pt x="368" y="1856"/>
                    <a:pt x="416" y="1776"/>
                    <a:pt x="480" y="1680"/>
                  </a:cubicBezTo>
                  <a:cubicBezTo>
                    <a:pt x="544" y="1584"/>
                    <a:pt x="608" y="1472"/>
                    <a:pt x="672" y="1344"/>
                  </a:cubicBezTo>
                  <a:cubicBezTo>
                    <a:pt x="736" y="1216"/>
                    <a:pt x="808" y="1056"/>
                    <a:pt x="864" y="912"/>
                  </a:cubicBezTo>
                  <a:cubicBezTo>
                    <a:pt x="920" y="768"/>
                    <a:pt x="960" y="600"/>
                    <a:pt x="1008" y="480"/>
                  </a:cubicBezTo>
                  <a:cubicBezTo>
                    <a:pt x="1056" y="360"/>
                    <a:pt x="1096" y="264"/>
                    <a:pt x="1152" y="192"/>
                  </a:cubicBezTo>
                  <a:cubicBezTo>
                    <a:pt x="1208" y="120"/>
                    <a:pt x="1288" y="80"/>
                    <a:pt x="1344" y="48"/>
                  </a:cubicBezTo>
                  <a:cubicBezTo>
                    <a:pt x="1400" y="16"/>
                    <a:pt x="1464" y="8"/>
                    <a:pt x="148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419720" y="2057400"/>
            <a:ext cx="609120" cy="3581280"/>
            <a:chOff x="4419720" y="2057400"/>
            <a:chExt cx="609120" cy="3581280"/>
          </a:xfrm>
        </p:grpSpPr>
        <p:sp>
          <p:nvSpPr>
            <p:cNvPr id="464" name=""/>
            <p:cNvSpPr/>
            <p:nvPr/>
          </p:nvSpPr>
          <p:spPr>
            <a:xfrm>
              <a:off x="4419720" y="2057400"/>
              <a:ext cx="304560" cy="3581280"/>
            </a:xfrm>
            <a:custGeom>
              <a:avLst/>
              <a:gdLst/>
              <a:ahLst/>
              <a:rect l="l" t="t" r="r" b="b"/>
              <a:pathLst>
                <a:path w="288" h="2240">
                  <a:moveTo>
                    <a:pt x="0" y="2240"/>
                  </a:moveTo>
                  <a:cubicBezTo>
                    <a:pt x="16" y="2228"/>
                    <a:pt x="32" y="2216"/>
                    <a:pt x="48" y="2192"/>
                  </a:cubicBezTo>
                  <a:cubicBezTo>
                    <a:pt x="64" y="2168"/>
                    <a:pt x="80" y="2160"/>
                    <a:pt x="96" y="2096"/>
                  </a:cubicBezTo>
                  <a:cubicBezTo>
                    <a:pt x="112" y="2032"/>
                    <a:pt x="120" y="2112"/>
                    <a:pt x="144" y="1808"/>
                  </a:cubicBezTo>
                  <a:cubicBezTo>
                    <a:pt x="168" y="1504"/>
                    <a:pt x="216" y="544"/>
                    <a:pt x="240" y="272"/>
                  </a:cubicBezTo>
                  <a:cubicBezTo>
                    <a:pt x="264" y="0"/>
                    <a:pt x="280" y="200"/>
                    <a:pt x="288" y="176"/>
                  </a:cubicBezTo>
                </a:path>
              </a:pathLst>
            </a:custGeom>
            <a:noFill/>
            <a:ln w="28440">
              <a:solidFill>
                <a:srgbClr val="cc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4723560" y="2057400"/>
              <a:ext cx="304920" cy="3581280"/>
            </a:xfrm>
            <a:custGeom>
              <a:avLst/>
              <a:gdLst/>
              <a:ahLst/>
              <a:rect l="l" t="t" r="r" b="b"/>
              <a:pathLst>
                <a:path w="288" h="2240">
                  <a:moveTo>
                    <a:pt x="0" y="2240"/>
                  </a:moveTo>
                  <a:cubicBezTo>
                    <a:pt x="16" y="2228"/>
                    <a:pt x="32" y="2216"/>
                    <a:pt x="48" y="2192"/>
                  </a:cubicBezTo>
                  <a:cubicBezTo>
                    <a:pt x="64" y="2168"/>
                    <a:pt x="80" y="2160"/>
                    <a:pt x="96" y="2096"/>
                  </a:cubicBezTo>
                  <a:cubicBezTo>
                    <a:pt x="112" y="2032"/>
                    <a:pt x="120" y="2112"/>
                    <a:pt x="144" y="1808"/>
                  </a:cubicBezTo>
                  <a:cubicBezTo>
                    <a:pt x="168" y="1504"/>
                    <a:pt x="216" y="544"/>
                    <a:pt x="240" y="272"/>
                  </a:cubicBezTo>
                  <a:cubicBezTo>
                    <a:pt x="264" y="0"/>
                    <a:pt x="280" y="200"/>
                    <a:pt x="288" y="176"/>
                  </a:cubicBezTo>
                </a:path>
              </a:pathLst>
            </a:custGeom>
            <a:noFill/>
            <a:ln w="28440">
              <a:solidFill>
                <a:srgbClr val="cc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6174000" y="41911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79440" y="42670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79480" y="6180120"/>
            <a:ext cx="90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(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8868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odo Burru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00400" y="4249800"/>
            <a:ext cx="274320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952880" y="4402080"/>
            <a:ext cx="990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00400" y="4402080"/>
            <a:ext cx="990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00400" y="5773680"/>
            <a:ext cx="274320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200400" y="5621400"/>
            <a:ext cx="2743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11640" y="5621400"/>
            <a:ext cx="68580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200400" y="5316480"/>
            <a:ext cx="2743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00400" y="5468760"/>
            <a:ext cx="2743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00400" y="5164200"/>
            <a:ext cx="2743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224240" y="5164200"/>
            <a:ext cx="68580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00400" y="5011560"/>
            <a:ext cx="2743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57800" y="3564000"/>
            <a:ext cx="44280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809160" y="3487680"/>
            <a:ext cx="819000" cy="152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12" y="8"/>
                </a:moveTo>
                <a:arcTo wR="10800" hR="10800" stAng="-5268914" swAng="5268914"/>
                <a:lnTo>
                  <a:pt x="10800" y="10800"/>
                </a:lnTo>
                <a:close/>
              </a:path>
              <a:path fill="none" w="21600" h="21600">
                <a:moveTo>
                  <a:pt x="11212" y="8"/>
                </a:moveTo>
                <a:arcTo wR="10800" hR="10800" stAng="-5268914" swAng="5268914"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543200" y="3487680"/>
            <a:ext cx="819000" cy="152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12" y="8"/>
                </a:moveTo>
                <a:arcTo wR="10800" hR="10800" stAng="-5268914" swAng="5268914"/>
                <a:lnTo>
                  <a:pt x="10800" y="10800"/>
                </a:lnTo>
                <a:close/>
              </a:path>
              <a:path fill="none" w="21600" h="21600">
                <a:moveTo>
                  <a:pt x="11212" y="8"/>
                </a:moveTo>
                <a:arcTo wR="10800" hR="10800" stAng="-5268914" swAng="5268914"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92600" y="3789360"/>
            <a:ext cx="431640" cy="476280"/>
          </a:xfrm>
          <a:custGeom>
            <a:avLst/>
            <a:gdLst/>
            <a:ahLst/>
            <a:rect l="l" t="t" r="r" b="b"/>
            <a:pathLst>
              <a:path w="245" h="300">
                <a:moveTo>
                  <a:pt x="0" y="291"/>
                </a:moveTo>
                <a:cubicBezTo>
                  <a:pt x="9" y="267"/>
                  <a:pt x="9" y="236"/>
                  <a:pt x="27" y="218"/>
                </a:cubicBezTo>
                <a:cubicBezTo>
                  <a:pt x="45" y="200"/>
                  <a:pt x="76" y="202"/>
                  <a:pt x="100" y="191"/>
                </a:cubicBezTo>
                <a:cubicBezTo>
                  <a:pt x="143" y="171"/>
                  <a:pt x="161" y="125"/>
                  <a:pt x="200" y="100"/>
                </a:cubicBezTo>
                <a:cubicBezTo>
                  <a:pt x="203" y="76"/>
                  <a:pt x="203" y="51"/>
                  <a:pt x="209" y="27"/>
                </a:cubicBezTo>
                <a:cubicBezTo>
                  <a:pt x="212" y="17"/>
                  <a:pt x="216" y="0"/>
                  <a:pt x="227" y="0"/>
                </a:cubicBezTo>
                <a:cubicBezTo>
                  <a:pt x="238" y="0"/>
                  <a:pt x="239" y="18"/>
                  <a:pt x="245" y="27"/>
                </a:cubicBezTo>
                <a:cubicBezTo>
                  <a:pt x="234" y="118"/>
                  <a:pt x="240" y="211"/>
                  <a:pt x="218" y="300"/>
                </a:cubicBezTo>
                <a:cubicBezTo>
                  <a:pt x="131" y="271"/>
                  <a:pt x="200" y="291"/>
                  <a:pt x="0" y="291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09880" y="4219560"/>
            <a:ext cx="381240" cy="76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4926960" y="3768840"/>
            <a:ext cx="431640" cy="476280"/>
          </a:xfrm>
          <a:custGeom>
            <a:avLst/>
            <a:gdLst/>
            <a:ahLst/>
            <a:rect l="l" t="t" r="r" b="b"/>
            <a:pathLst>
              <a:path w="245" h="300">
                <a:moveTo>
                  <a:pt x="0" y="291"/>
                </a:moveTo>
                <a:cubicBezTo>
                  <a:pt x="9" y="267"/>
                  <a:pt x="9" y="236"/>
                  <a:pt x="27" y="218"/>
                </a:cubicBezTo>
                <a:cubicBezTo>
                  <a:pt x="45" y="200"/>
                  <a:pt x="76" y="202"/>
                  <a:pt x="100" y="191"/>
                </a:cubicBezTo>
                <a:cubicBezTo>
                  <a:pt x="143" y="171"/>
                  <a:pt x="161" y="125"/>
                  <a:pt x="200" y="100"/>
                </a:cubicBezTo>
                <a:cubicBezTo>
                  <a:pt x="203" y="76"/>
                  <a:pt x="203" y="51"/>
                  <a:pt x="209" y="27"/>
                </a:cubicBezTo>
                <a:cubicBezTo>
                  <a:pt x="212" y="17"/>
                  <a:pt x="216" y="0"/>
                  <a:pt x="227" y="0"/>
                </a:cubicBezTo>
                <a:cubicBezTo>
                  <a:pt x="238" y="0"/>
                  <a:pt x="239" y="18"/>
                  <a:pt x="245" y="27"/>
                </a:cubicBezTo>
                <a:cubicBezTo>
                  <a:pt x="234" y="118"/>
                  <a:pt x="240" y="211"/>
                  <a:pt x="218" y="300"/>
                </a:cubicBezTo>
                <a:cubicBezTo>
                  <a:pt x="131" y="271"/>
                  <a:pt x="200" y="291"/>
                  <a:pt x="0" y="291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4960080" y="4214880"/>
            <a:ext cx="381240" cy="75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00600" y="2954160"/>
            <a:ext cx="15228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205160" y="5773680"/>
            <a:ext cx="68580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91120" y="2954160"/>
            <a:ext cx="15228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91120" y="2819520"/>
            <a:ext cx="761760" cy="30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561640" y="281628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4966920" y="30304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30080" y="331164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P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19360" y="35640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56080" y="5622840"/>
            <a:ext cx="20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ntato de Fai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790960" y="586728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"/>
          <p:cNvGrpSpPr/>
          <p:nvPr/>
        </p:nvGrpSpPr>
        <p:grpSpPr>
          <a:xfrm>
            <a:off x="2489040" y="3510000"/>
            <a:ext cx="3860280" cy="1694520"/>
            <a:chOff x="2489040" y="3510000"/>
            <a:chExt cx="3860280" cy="1694520"/>
          </a:xfrm>
        </p:grpSpPr>
        <p:sp>
          <p:nvSpPr>
            <p:cNvPr id="499" name=""/>
            <p:cNvSpPr/>
            <p:nvPr/>
          </p:nvSpPr>
          <p:spPr>
            <a:xfrm>
              <a:off x="3150720" y="3510000"/>
              <a:ext cx="2536920" cy="1694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87640" y="3510000"/>
              <a:ext cx="661680" cy="1694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489040" y="3510000"/>
              <a:ext cx="661680" cy="1694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778040" y="4237200"/>
            <a:ext cx="1930320" cy="484200"/>
          </a:xfrm>
          <a:custGeom>
            <a:avLst/>
            <a:gdLst/>
            <a:ahLst/>
            <a:rect l="l" t="t" r="r" b="b"/>
            <a:pathLst>
              <a:path w="912" h="416">
                <a:moveTo>
                  <a:pt x="0" y="224"/>
                </a:moveTo>
                <a:cubicBezTo>
                  <a:pt x="32" y="112"/>
                  <a:pt x="64" y="0"/>
                  <a:pt x="96" y="32"/>
                </a:cubicBezTo>
                <a:cubicBezTo>
                  <a:pt x="128" y="64"/>
                  <a:pt x="160" y="416"/>
                  <a:pt x="192" y="416"/>
                </a:cubicBezTo>
                <a:cubicBezTo>
                  <a:pt x="224" y="416"/>
                  <a:pt x="256" y="32"/>
                  <a:pt x="288" y="32"/>
                </a:cubicBezTo>
                <a:cubicBezTo>
                  <a:pt x="320" y="32"/>
                  <a:pt x="352" y="416"/>
                  <a:pt x="384" y="416"/>
                </a:cubicBezTo>
                <a:cubicBezTo>
                  <a:pt x="416" y="416"/>
                  <a:pt x="448" y="32"/>
                  <a:pt x="480" y="32"/>
                </a:cubicBezTo>
                <a:cubicBezTo>
                  <a:pt x="512" y="32"/>
                  <a:pt x="544" y="416"/>
                  <a:pt x="576" y="416"/>
                </a:cubicBezTo>
                <a:cubicBezTo>
                  <a:pt x="608" y="416"/>
                  <a:pt x="640" y="56"/>
                  <a:pt x="672" y="32"/>
                </a:cubicBezTo>
                <a:cubicBezTo>
                  <a:pt x="704" y="8"/>
                  <a:pt x="728" y="224"/>
                  <a:pt x="768" y="272"/>
                </a:cubicBezTo>
                <a:cubicBezTo>
                  <a:pt x="808" y="320"/>
                  <a:pt x="860" y="320"/>
                  <a:pt x="912" y="3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42000" y="351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92720" y="351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11760" y="351000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970920" y="42512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ó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4842000"/>
            <a:ext cx="203040" cy="241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09880" y="4842000"/>
            <a:ext cx="203400" cy="241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622760" y="4962600"/>
            <a:ext cx="406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012920" y="4962600"/>
            <a:ext cx="406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3606840" y="5567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299120" y="5300640"/>
            <a:ext cx="33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066680" y="2421000"/>
            <a:ext cx="1727280" cy="1573200"/>
          </a:xfrm>
          <a:custGeom>
            <a:avLst/>
            <a:gdLst/>
            <a:ahLst/>
            <a:rect l="l" t="t" r="r" b="b"/>
            <a:pathLst>
              <a:path w="816" h="624">
                <a:moveTo>
                  <a:pt x="672" y="624"/>
                </a:moveTo>
                <a:lnTo>
                  <a:pt x="0" y="624"/>
                </a:lnTo>
                <a:lnTo>
                  <a:pt x="0" y="0"/>
                </a:lnTo>
                <a:lnTo>
                  <a:pt x="81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793960" y="2300400"/>
            <a:ext cx="0" cy="24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98880" y="2300400"/>
            <a:ext cx="0" cy="24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95480" y="2057400"/>
            <a:ext cx="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00400" y="2057400"/>
            <a:ext cx="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00400" y="2421000"/>
            <a:ext cx="477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350040" y="4962600"/>
            <a:ext cx="162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7164000" y="3025440"/>
            <a:ext cx="305280" cy="1211400"/>
            <a:chOff x="7164000" y="3025440"/>
            <a:chExt cx="305280" cy="1211400"/>
          </a:xfrm>
        </p:grpSpPr>
        <p:sp>
          <p:nvSpPr>
            <p:cNvPr id="521" name=""/>
            <p:cNvSpPr/>
            <p:nvPr/>
          </p:nvSpPr>
          <p:spPr>
            <a:xfrm rot="16200000">
              <a:off x="6786720" y="3478680"/>
              <a:ext cx="1059840" cy="304920"/>
            </a:xfrm>
            <a:custGeom>
              <a:avLst/>
              <a:gdLst/>
              <a:ahLst/>
              <a:rect l="l" t="t" r="r" b="b"/>
              <a:pathLst>
                <a:path w="2016" h="384">
                  <a:moveTo>
                    <a:pt x="0" y="384"/>
                  </a:moveTo>
                  <a:lnTo>
                    <a:pt x="288" y="0"/>
                  </a:lnTo>
                  <a:lnTo>
                    <a:pt x="576" y="384"/>
                  </a:lnTo>
                  <a:lnTo>
                    <a:pt x="864" y="0"/>
                  </a:lnTo>
                  <a:lnTo>
                    <a:pt x="1152" y="384"/>
                  </a:lnTo>
                  <a:lnTo>
                    <a:pt x="1440" y="0"/>
                  </a:lnTo>
                  <a:lnTo>
                    <a:pt x="1728" y="384"/>
                  </a:lnTo>
                  <a:lnTo>
                    <a:pt x="2016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7278120" y="4161240"/>
              <a:ext cx="190440" cy="75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7164000" y="3025440"/>
              <a:ext cx="190440" cy="75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 flipV="1">
            <a:off x="7367760" y="2421000"/>
            <a:ext cx="0" cy="60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7265880" y="4236840"/>
            <a:ext cx="0" cy="72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19040" y="2879640"/>
            <a:ext cx="17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ensão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60880" y="5083200"/>
            <a:ext cx="103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671960" y="33894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sa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19960" y="3898800"/>
            <a:ext cx="541080" cy="1693800"/>
          </a:xfrm>
          <a:custGeom>
            <a:avLst/>
            <a:gdLst/>
            <a:ahLst/>
            <a:rect l="l" t="t" r="r" b="b"/>
            <a:pathLst>
              <a:path w="256" h="672">
                <a:moveTo>
                  <a:pt x="160" y="672"/>
                </a:moveTo>
                <a:cubicBezTo>
                  <a:pt x="80" y="536"/>
                  <a:pt x="0" y="400"/>
                  <a:pt x="16" y="288"/>
                </a:cubicBezTo>
                <a:cubicBezTo>
                  <a:pt x="32" y="176"/>
                  <a:pt x="144" y="88"/>
                  <a:pt x="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0" y="2567160"/>
            <a:ext cx="1015920" cy="7254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0"/>
                </a:moveTo>
                <a:cubicBezTo>
                  <a:pt x="152" y="0"/>
                  <a:pt x="304" y="0"/>
                  <a:pt x="384" y="48"/>
                </a:cubicBezTo>
                <a:cubicBezTo>
                  <a:pt x="464" y="96"/>
                  <a:pt x="472" y="192"/>
                  <a:pt x="480" y="288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0600" y="2541600"/>
            <a:ext cx="515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833480" y="76212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OTODETECTOR  pin  POLAR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138480" y="2043000"/>
            <a:ext cx="2536920" cy="1698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675400" y="2043000"/>
            <a:ext cx="662040" cy="1698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476440" y="2043000"/>
            <a:ext cx="662040" cy="1698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10800000">
            <a:off x="5283000" y="2892600"/>
            <a:ext cx="1625400" cy="242640"/>
          </a:xfrm>
          <a:custGeom>
            <a:avLst/>
            <a:gdLst/>
            <a:ahLst/>
            <a:rect l="l" t="t" r="r" b="b"/>
            <a:pathLst>
              <a:path w="912" h="416">
                <a:moveTo>
                  <a:pt x="0" y="224"/>
                </a:moveTo>
                <a:cubicBezTo>
                  <a:pt x="32" y="112"/>
                  <a:pt x="64" y="0"/>
                  <a:pt x="96" y="32"/>
                </a:cubicBezTo>
                <a:cubicBezTo>
                  <a:pt x="128" y="64"/>
                  <a:pt x="160" y="416"/>
                  <a:pt x="192" y="416"/>
                </a:cubicBezTo>
                <a:cubicBezTo>
                  <a:pt x="224" y="416"/>
                  <a:pt x="256" y="32"/>
                  <a:pt x="288" y="32"/>
                </a:cubicBezTo>
                <a:cubicBezTo>
                  <a:pt x="320" y="32"/>
                  <a:pt x="352" y="416"/>
                  <a:pt x="384" y="416"/>
                </a:cubicBezTo>
                <a:cubicBezTo>
                  <a:pt x="416" y="416"/>
                  <a:pt x="448" y="32"/>
                  <a:pt x="480" y="32"/>
                </a:cubicBezTo>
                <a:cubicBezTo>
                  <a:pt x="512" y="32"/>
                  <a:pt x="544" y="416"/>
                  <a:pt x="576" y="416"/>
                </a:cubicBezTo>
                <a:cubicBezTo>
                  <a:pt x="608" y="416"/>
                  <a:pt x="640" y="56"/>
                  <a:pt x="672" y="32"/>
                </a:cubicBezTo>
                <a:cubicBezTo>
                  <a:pt x="704" y="8"/>
                  <a:pt x="728" y="224"/>
                  <a:pt x="768" y="272"/>
                </a:cubicBezTo>
                <a:cubicBezTo>
                  <a:pt x="808" y="320"/>
                  <a:pt x="860" y="320"/>
                  <a:pt x="912" y="3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689440" y="204300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79760" y="20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98800" y="204300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353280" y="2286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fó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97280" y="3257640"/>
            <a:ext cx="368280" cy="363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75040" y="3257640"/>
            <a:ext cx="343080" cy="363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181480" y="3498840"/>
            <a:ext cx="406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352320" y="3498840"/>
            <a:ext cx="406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594240" y="42274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86520" y="3840120"/>
            <a:ext cx="33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54080" y="952560"/>
            <a:ext cx="1727280" cy="1576440"/>
          </a:xfrm>
          <a:custGeom>
            <a:avLst/>
            <a:gdLst/>
            <a:ahLst/>
            <a:rect l="l" t="t" r="r" b="b"/>
            <a:pathLst>
              <a:path w="816" h="624">
                <a:moveTo>
                  <a:pt x="672" y="624"/>
                </a:moveTo>
                <a:lnTo>
                  <a:pt x="0" y="624"/>
                </a:lnTo>
                <a:lnTo>
                  <a:pt x="0" y="0"/>
                </a:lnTo>
                <a:lnTo>
                  <a:pt x="81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781360" y="587520"/>
            <a:ext cx="406080" cy="728280"/>
            <a:chOff x="2781360" y="587520"/>
            <a:chExt cx="406080" cy="728280"/>
          </a:xfrm>
        </p:grpSpPr>
        <p:sp>
          <p:nvSpPr>
            <p:cNvPr id="549" name=""/>
            <p:cNvSpPr/>
            <p:nvPr/>
          </p:nvSpPr>
          <p:spPr>
            <a:xfrm>
              <a:off x="3187440" y="830520"/>
              <a:ext cx="0" cy="24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82880" y="830520"/>
              <a:ext cx="0" cy="24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85920" y="587520"/>
              <a:ext cx="0" cy="72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781360" y="587520"/>
              <a:ext cx="0" cy="72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187800" y="952560"/>
            <a:ext cx="477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337440" y="3498840"/>
            <a:ext cx="162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16200000">
            <a:off x="6771240" y="2013480"/>
            <a:ext cx="1062000" cy="304920"/>
          </a:xfrm>
          <a:custGeom>
            <a:avLst/>
            <a:gdLst/>
            <a:ahLst/>
            <a:rect l="l" t="t" r="r" b="b"/>
            <a:pathLst>
              <a:path w="2016" h="384">
                <a:moveTo>
                  <a:pt x="0" y="384"/>
                </a:moveTo>
                <a:lnTo>
                  <a:pt x="288" y="0"/>
                </a:lnTo>
                <a:lnTo>
                  <a:pt x="576" y="384"/>
                </a:lnTo>
                <a:lnTo>
                  <a:pt x="864" y="0"/>
                </a:lnTo>
                <a:lnTo>
                  <a:pt x="1152" y="384"/>
                </a:lnTo>
                <a:lnTo>
                  <a:pt x="1440" y="0"/>
                </a:lnTo>
                <a:lnTo>
                  <a:pt x="1728" y="384"/>
                </a:lnTo>
                <a:lnTo>
                  <a:pt x="2016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7262640" y="2693880"/>
            <a:ext cx="190800" cy="74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148160" y="1555200"/>
            <a:ext cx="190440" cy="75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353360" y="952560"/>
            <a:ext cx="0" cy="60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251840" y="2771640"/>
            <a:ext cx="0" cy="72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61160" y="129528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Tensão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453000" y="3718080"/>
            <a:ext cx="110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e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710480" y="14367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a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7518240" y="2435400"/>
            <a:ext cx="541440" cy="1698480"/>
          </a:xfrm>
          <a:custGeom>
            <a:avLst/>
            <a:gdLst/>
            <a:ahLst/>
            <a:rect l="l" t="t" r="r" b="b"/>
            <a:pathLst>
              <a:path w="256" h="672">
                <a:moveTo>
                  <a:pt x="160" y="672"/>
                </a:moveTo>
                <a:cubicBezTo>
                  <a:pt x="80" y="536"/>
                  <a:pt x="0" y="400"/>
                  <a:pt x="16" y="288"/>
                </a:cubicBezTo>
                <a:cubicBezTo>
                  <a:pt x="32" y="176"/>
                  <a:pt x="144" y="88"/>
                  <a:pt x="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227640" y="1073160"/>
            <a:ext cx="51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28800" y="2043000"/>
            <a:ext cx="662040" cy="1698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40760" y="2043000"/>
            <a:ext cx="4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892840" y="1052640"/>
            <a:ext cx="1219320" cy="869760"/>
          </a:xfrm>
          <a:custGeom>
            <a:avLst/>
            <a:gdLst/>
            <a:ahLst/>
            <a:rect l="l" t="t" r="r" b="b"/>
            <a:pathLst>
              <a:path w="576" h="344">
                <a:moveTo>
                  <a:pt x="576" y="344"/>
                </a:moveTo>
                <a:cubicBezTo>
                  <a:pt x="552" y="228"/>
                  <a:pt x="528" y="112"/>
                  <a:pt x="432" y="56"/>
                </a:cubicBezTo>
                <a:cubicBezTo>
                  <a:pt x="336" y="0"/>
                  <a:pt x="168" y="4"/>
                  <a:pt x="0" y="8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685800" y="3967200"/>
                <a:ext cx="6364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6899400" y="6257880"/>
                <a:ext cx="26352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0" name=""/>
          <p:cNvSpPr/>
          <p:nvPr/>
        </p:nvSpPr>
        <p:spPr>
          <a:xfrm flipH="1">
            <a:off x="1733400" y="6580080"/>
            <a:ext cx="5080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1835280" y="4190760"/>
            <a:ext cx="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35280" y="4516560"/>
            <a:ext cx="3860640" cy="2112840"/>
          </a:xfrm>
          <a:custGeom>
            <a:avLst/>
            <a:gdLst/>
            <a:ahLst/>
            <a:rect l="l" t="t" r="r" b="b"/>
            <a:pathLst>
              <a:path w="2048" h="1040">
                <a:moveTo>
                  <a:pt x="0" y="1016"/>
                </a:moveTo>
                <a:cubicBezTo>
                  <a:pt x="44" y="1000"/>
                  <a:pt x="88" y="984"/>
                  <a:pt x="144" y="824"/>
                </a:cubicBezTo>
                <a:cubicBezTo>
                  <a:pt x="200" y="664"/>
                  <a:pt x="288" y="112"/>
                  <a:pt x="336" y="56"/>
                </a:cubicBezTo>
                <a:cubicBezTo>
                  <a:pt x="384" y="0"/>
                  <a:pt x="392" y="384"/>
                  <a:pt x="432" y="488"/>
                </a:cubicBezTo>
                <a:cubicBezTo>
                  <a:pt x="472" y="592"/>
                  <a:pt x="496" y="632"/>
                  <a:pt x="576" y="680"/>
                </a:cubicBezTo>
                <a:cubicBezTo>
                  <a:pt x="656" y="728"/>
                  <a:pt x="704" y="752"/>
                  <a:pt x="912" y="776"/>
                </a:cubicBezTo>
                <a:cubicBezTo>
                  <a:pt x="1120" y="800"/>
                  <a:pt x="1640" y="784"/>
                  <a:pt x="1824" y="824"/>
                </a:cubicBezTo>
                <a:cubicBezTo>
                  <a:pt x="2008" y="864"/>
                  <a:pt x="1984" y="992"/>
                  <a:pt x="2016" y="1016"/>
                </a:cubicBezTo>
                <a:cubicBezTo>
                  <a:pt x="2048" y="1040"/>
                  <a:pt x="2032" y="1004"/>
                  <a:pt x="2016" y="9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2038320" y="516564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135600" y="4483080"/>
            <a:ext cx="10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egiã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valan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647800" y="4776840"/>
            <a:ext cx="508320" cy="9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63240" y="1825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imes New Roman"/>
              </a:rPr>
              <a:t>A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495520" y="3809520"/>
            <a:ext cx="0" cy="7621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 rot="16200000">
            <a:off x="3987720" y="1269360"/>
            <a:ext cx="1625400" cy="152424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lnTo>
                  <a:pt x="384" y="0"/>
                </a:lnTo>
                <a:lnTo>
                  <a:pt x="192" y="432"/>
                </a:lnTo>
                <a:lnTo>
                  <a:pt x="0" y="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rot="16200000">
            <a:off x="876240" y="4381200"/>
            <a:ext cx="60948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lnTo>
                  <a:pt x="384" y="0"/>
                </a:lnTo>
                <a:lnTo>
                  <a:pt x="192" y="432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562720" y="203184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969840" y="1955880"/>
            <a:ext cx="2158920" cy="771120"/>
            <a:chOff x="969840" y="1955880"/>
            <a:chExt cx="2158920" cy="771120"/>
          </a:xfrm>
        </p:grpSpPr>
        <p:sp>
          <p:nvSpPr>
            <p:cNvPr id="582" name=""/>
            <p:cNvSpPr/>
            <p:nvPr/>
          </p:nvSpPr>
          <p:spPr>
            <a:xfrm>
              <a:off x="1339920" y="1955880"/>
              <a:ext cx="1418760" cy="7711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758680" y="1955880"/>
              <a:ext cx="370080" cy="771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969840" y="1955880"/>
              <a:ext cx="370080" cy="771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1680" y="2286000"/>
            <a:ext cx="1079280" cy="220680"/>
          </a:xfrm>
          <a:custGeom>
            <a:avLst/>
            <a:gdLst/>
            <a:ahLst/>
            <a:rect l="l" t="t" r="r" b="b"/>
            <a:pathLst>
              <a:path w="912" h="416">
                <a:moveTo>
                  <a:pt x="0" y="224"/>
                </a:moveTo>
                <a:cubicBezTo>
                  <a:pt x="32" y="112"/>
                  <a:pt x="64" y="0"/>
                  <a:pt x="96" y="32"/>
                </a:cubicBezTo>
                <a:cubicBezTo>
                  <a:pt x="128" y="64"/>
                  <a:pt x="160" y="416"/>
                  <a:pt x="192" y="416"/>
                </a:cubicBezTo>
                <a:cubicBezTo>
                  <a:pt x="224" y="416"/>
                  <a:pt x="256" y="32"/>
                  <a:pt x="288" y="32"/>
                </a:cubicBezTo>
                <a:cubicBezTo>
                  <a:pt x="320" y="32"/>
                  <a:pt x="352" y="416"/>
                  <a:pt x="384" y="416"/>
                </a:cubicBezTo>
                <a:cubicBezTo>
                  <a:pt x="416" y="416"/>
                  <a:pt x="448" y="32"/>
                  <a:pt x="480" y="32"/>
                </a:cubicBezTo>
                <a:cubicBezTo>
                  <a:pt x="512" y="32"/>
                  <a:pt x="544" y="416"/>
                  <a:pt x="576" y="416"/>
                </a:cubicBezTo>
                <a:cubicBezTo>
                  <a:pt x="608" y="416"/>
                  <a:pt x="640" y="56"/>
                  <a:pt x="672" y="32"/>
                </a:cubicBezTo>
                <a:cubicBezTo>
                  <a:pt x="704" y="8"/>
                  <a:pt x="728" y="224"/>
                  <a:pt x="768" y="272"/>
                </a:cubicBezTo>
                <a:cubicBezTo>
                  <a:pt x="808" y="320"/>
                  <a:pt x="860" y="320"/>
                  <a:pt x="912" y="3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789280" y="195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027440" y="195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65440" y="195408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90760" y="2562120"/>
            <a:ext cx="11268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708200" y="2562120"/>
            <a:ext cx="114120" cy="109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163600" y="2617920"/>
            <a:ext cx="227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1821960" y="2617920"/>
            <a:ext cx="227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52280" y="1471680"/>
            <a:ext cx="966960" cy="716040"/>
          </a:xfrm>
          <a:custGeom>
            <a:avLst/>
            <a:gdLst/>
            <a:ahLst/>
            <a:rect l="l" t="t" r="r" b="b"/>
            <a:pathLst>
              <a:path w="816" h="624">
                <a:moveTo>
                  <a:pt x="672" y="624"/>
                </a:moveTo>
                <a:lnTo>
                  <a:pt x="0" y="624"/>
                </a:lnTo>
                <a:lnTo>
                  <a:pt x="0" y="0"/>
                </a:lnTo>
                <a:lnTo>
                  <a:pt x="81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139760" y="1405080"/>
            <a:ext cx="0" cy="11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309680" y="1405080"/>
            <a:ext cx="0" cy="11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197000" y="1295280"/>
            <a:ext cx="0" cy="33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366920" y="1295280"/>
            <a:ext cx="0" cy="33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366920" y="1460520"/>
            <a:ext cx="2671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9120" y="2617920"/>
            <a:ext cx="909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3584160" y="1737000"/>
            <a:ext cx="170280" cy="549360"/>
            <a:chOff x="3584160" y="1737000"/>
            <a:chExt cx="170280" cy="549360"/>
          </a:xfrm>
        </p:grpSpPr>
        <p:sp>
          <p:nvSpPr>
            <p:cNvPr id="601" name=""/>
            <p:cNvSpPr/>
            <p:nvPr/>
          </p:nvSpPr>
          <p:spPr>
            <a:xfrm rot="16200000">
              <a:off x="3429000" y="1926360"/>
              <a:ext cx="480600" cy="169920"/>
            </a:xfrm>
            <a:custGeom>
              <a:avLst/>
              <a:gdLst/>
              <a:ahLst/>
              <a:rect l="l" t="t" r="r" b="b"/>
              <a:pathLst>
                <a:path w="2016" h="384">
                  <a:moveTo>
                    <a:pt x="0" y="384"/>
                  </a:moveTo>
                  <a:lnTo>
                    <a:pt x="288" y="0"/>
                  </a:lnTo>
                  <a:lnTo>
                    <a:pt x="576" y="384"/>
                  </a:lnTo>
                  <a:lnTo>
                    <a:pt x="864" y="0"/>
                  </a:lnTo>
                  <a:lnTo>
                    <a:pt x="1152" y="384"/>
                  </a:lnTo>
                  <a:lnTo>
                    <a:pt x="1440" y="0"/>
                  </a:lnTo>
                  <a:lnTo>
                    <a:pt x="1728" y="384"/>
                  </a:lnTo>
                  <a:lnTo>
                    <a:pt x="2016" y="0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3647880" y="2252160"/>
              <a:ext cx="106200" cy="34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3584160" y="1737000"/>
              <a:ext cx="106200" cy="34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 flipV="1">
            <a:off x="3697200" y="1460160"/>
            <a:ext cx="0" cy="27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639960" y="2286000"/>
            <a:ext cx="0" cy="33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403880" y="685440"/>
            <a:ext cx="853920" cy="206280"/>
            <a:chOff x="4403880" y="685440"/>
            <a:chExt cx="853920" cy="206280"/>
          </a:xfrm>
        </p:grpSpPr>
        <p:sp>
          <p:nvSpPr>
            <p:cNvPr id="607" name=""/>
            <p:cNvSpPr/>
            <p:nvPr/>
          </p:nvSpPr>
          <p:spPr>
            <a:xfrm rot="10800000">
              <a:off x="4457160" y="685440"/>
              <a:ext cx="747360" cy="206280"/>
            </a:xfrm>
            <a:custGeom>
              <a:avLst/>
              <a:gdLst/>
              <a:ahLst/>
              <a:rect l="l" t="t" r="r" b="b"/>
              <a:pathLst>
                <a:path w="2016" h="384">
                  <a:moveTo>
                    <a:pt x="0" y="384"/>
                  </a:moveTo>
                  <a:lnTo>
                    <a:pt x="288" y="0"/>
                  </a:lnTo>
                  <a:lnTo>
                    <a:pt x="576" y="384"/>
                  </a:lnTo>
                  <a:lnTo>
                    <a:pt x="864" y="0"/>
                  </a:lnTo>
                  <a:lnTo>
                    <a:pt x="1152" y="384"/>
                  </a:lnTo>
                  <a:lnTo>
                    <a:pt x="1440" y="0"/>
                  </a:lnTo>
                  <a:lnTo>
                    <a:pt x="1728" y="384"/>
                  </a:lnTo>
                  <a:lnTo>
                    <a:pt x="2016" y="0"/>
                  </a:lnTo>
                </a:path>
              </a:pathLst>
            </a:custGeom>
            <a:noFill/>
            <a:ln w="38160">
              <a:solidFill>
                <a:srgbClr val="ff00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04520" y="685440"/>
              <a:ext cx="53280" cy="128880"/>
            </a:xfrm>
            <a:prstGeom prst="line">
              <a:avLst/>
            </a:prstGeom>
            <a:ln w="381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403880" y="762840"/>
              <a:ext cx="53280" cy="128880"/>
            </a:xfrm>
            <a:prstGeom prst="line">
              <a:avLst/>
            </a:prstGeom>
            <a:ln w="381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95760" y="762120"/>
            <a:ext cx="685800" cy="685800"/>
          </a:xfrm>
          <a:custGeom>
            <a:avLst/>
            <a:gdLst/>
            <a:ahLst/>
            <a:rect l="l" t="t" r="r" b="b"/>
            <a:pathLst>
              <a:path w="432" h="432">
                <a:moveTo>
                  <a:pt x="432" y="0"/>
                </a:moveTo>
                <a:lnTo>
                  <a:pt x="0" y="0"/>
                </a:lnTo>
                <a:lnTo>
                  <a:pt x="0" y="432"/>
                </a:lnTo>
              </a:path>
            </a:pathLst>
          </a:custGeom>
          <a:noFill/>
          <a:ln w="28440">
            <a:solidFill>
              <a:srgbClr val="ff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257800" y="825480"/>
            <a:ext cx="838080" cy="1219320"/>
          </a:xfrm>
          <a:custGeom>
            <a:avLst/>
            <a:gdLst/>
            <a:ahLst/>
            <a:rect l="l" t="t" r="r" b="b"/>
            <a:pathLst>
              <a:path w="528" h="768">
                <a:moveTo>
                  <a:pt x="0" y="0"/>
                </a:moveTo>
                <a:lnTo>
                  <a:pt x="528" y="0"/>
                </a:lnTo>
                <a:lnTo>
                  <a:pt x="528" y="768"/>
                </a:lnTo>
              </a:path>
            </a:pathLst>
          </a:custGeom>
          <a:noFill/>
          <a:ln w="28440">
            <a:solidFill>
              <a:srgbClr val="ff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553080" y="1638360"/>
            <a:ext cx="16765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52280" y="1981080"/>
            <a:ext cx="8686800" cy="2743200"/>
          </a:xfrm>
          <a:custGeom>
            <a:avLst/>
            <a:gdLst/>
            <a:ahLst/>
            <a:rect l="l" t="t" r="r" b="b"/>
            <a:pathLst>
              <a:path w="5472" h="1728">
                <a:moveTo>
                  <a:pt x="5088" y="0"/>
                </a:moveTo>
                <a:lnTo>
                  <a:pt x="5472" y="0"/>
                </a:lnTo>
                <a:lnTo>
                  <a:pt x="5472" y="960"/>
                </a:lnTo>
                <a:lnTo>
                  <a:pt x="0" y="960"/>
                </a:lnTo>
                <a:lnTo>
                  <a:pt x="0" y="1728"/>
                </a:lnTo>
                <a:lnTo>
                  <a:pt x="432" y="172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523880" y="4724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33720" y="4419720"/>
            <a:ext cx="99036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95880" y="4338720"/>
            <a:ext cx="1371600" cy="838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86200" y="518148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124080" y="47242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4724280"/>
            <a:ext cx="380880" cy="914400"/>
          </a:xfrm>
          <a:custGeom>
            <a:avLst/>
            <a:gdLst/>
            <a:ahLst/>
            <a:rect l="l" t="t" r="r" b="b"/>
            <a:pathLst>
              <a:path w="240" h="576">
                <a:moveTo>
                  <a:pt x="0" y="0"/>
                </a:moveTo>
                <a:lnTo>
                  <a:pt x="0" y="576"/>
                </a:lnTo>
                <a:lnTo>
                  <a:pt x="240" y="57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257800" y="563868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858000" y="51814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67480" y="4724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33000" y="28954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E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555600" y="251460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QU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58280" y="51814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POST 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240920" y="281952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OTODIODO p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166840" y="51814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793840" y="3962520"/>
            <a:ext cx="235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CIRCUIT O de DECI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582360" y="6172200"/>
            <a:ext cx="19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CLOCK RE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03480" y="5715000"/>
            <a:ext cx="13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CLOCK 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627680" y="480060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37960" y="212760"/>
            <a:ext cx="70966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DIAGRAMA ESQUEMÁTICO DE UM RECEPTOR ÓP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"/>
          <p:cNvGrpSpPr/>
          <p:nvPr/>
        </p:nvGrpSpPr>
        <p:grpSpPr>
          <a:xfrm>
            <a:off x="1129320" y="2327400"/>
            <a:ext cx="7023960" cy="2853720"/>
            <a:chOff x="1129320" y="2327400"/>
            <a:chExt cx="7023960" cy="2853720"/>
          </a:xfrm>
        </p:grpSpPr>
        <p:pic>
          <p:nvPicPr>
            <p:cNvPr id="634" name="Yariv1131" descr=""/>
            <p:cNvPicPr/>
            <p:nvPr/>
          </p:nvPicPr>
          <p:blipFill>
            <a:blip r:embed="rId1"/>
            <a:stretch/>
          </p:blipFill>
          <p:spPr>
            <a:xfrm>
              <a:off x="1385640" y="2344680"/>
              <a:ext cx="6767640" cy="28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6019560" y="2800080"/>
              <a:ext cx="838440" cy="7617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57400" y="2793960"/>
              <a:ext cx="471240" cy="6901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944880" y="2987640"/>
              <a:ext cx="2004840" cy="345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174760" y="3073320"/>
              <a:ext cx="236520" cy="172440"/>
            </a:xfrm>
            <a:prstGeom prst="rightArrow">
              <a:avLst>
                <a:gd name="adj1" fmla="val 50000"/>
                <a:gd name="adj2" fmla="val 3429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43200" y="2800080"/>
              <a:ext cx="758880" cy="1028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94560" y="232740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Isol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35760" y="301284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Filt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9160" y="4460760"/>
              <a:ext cx="118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Laser 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bombe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11000" y="4011480"/>
              <a:ext cx="132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Acopl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dicró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3590280" y="3763440"/>
              <a:ext cx="706680" cy="51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793960" y="4130640"/>
              <a:ext cx="944640" cy="34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6" name=""/>
            <p:cNvGraphicFramePr/>
            <p:nvPr/>
          </p:nvGraphicFramePr>
          <p:xfrm>
            <a:off x="2438280" y="2342880"/>
            <a:ext cx="1295280" cy="456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38280" y="2342880"/>
                      <a:ext cx="1295280" cy="45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8" name=""/>
            <p:cNvGraphicFramePr/>
            <p:nvPr/>
          </p:nvGraphicFramePr>
          <p:xfrm>
            <a:off x="4484520" y="2419200"/>
            <a:ext cx="1306440" cy="456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4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484520" y="2419200"/>
                      <a:ext cx="1306440" cy="45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0" name=""/>
            <p:cNvGraphicFramePr/>
            <p:nvPr/>
          </p:nvGraphicFramePr>
          <p:xfrm>
            <a:off x="6627600" y="2342880"/>
            <a:ext cx="1449360" cy="456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5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27600" y="2342880"/>
                      <a:ext cx="1449360" cy="45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2" name=""/>
            <p:cNvSpPr/>
            <p:nvPr/>
          </p:nvSpPr>
          <p:spPr>
            <a:xfrm>
              <a:off x="1129320" y="2936880"/>
              <a:ext cx="7887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Fib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184640" y="3360600"/>
              <a:ext cx="1662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Fibra dopa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452600" y="669960"/>
            <a:ext cx="631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cc"/>
                </a:solidFill>
                <a:latin typeface="Times New Roman"/>
              </a:rPr>
              <a:t>Amplificador Óptico  EDF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oplamento Fonte-Fib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20600" y="5637600"/>
            <a:ext cx="30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luz guiada entra 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e de aceitação da fi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68280" y="2132640"/>
            <a:ext cx="8013600" cy="3239640"/>
            <a:chOff x="368280" y="2132640"/>
            <a:chExt cx="8013600" cy="3239640"/>
          </a:xfrm>
        </p:grpSpPr>
        <p:sp>
          <p:nvSpPr>
            <p:cNvPr id="45" name=""/>
            <p:cNvSpPr/>
            <p:nvPr/>
          </p:nvSpPr>
          <p:spPr>
            <a:xfrm>
              <a:off x="2209680" y="3200400"/>
              <a:ext cx="152424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otodio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iss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3505320"/>
              <a:ext cx="7596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5400000">
              <a:off x="3809520" y="3095280"/>
              <a:ext cx="1295280" cy="1295640"/>
            </a:xfrm>
            <a:custGeom>
              <a:avLst/>
              <a:gdLst>
                <a:gd name="textAreaLeft" fmla="*/ 331560 w 1295280"/>
                <a:gd name="textAreaRight" fmla="*/ 963720 w 1295280"/>
                <a:gd name="textAreaTop" fmla="*/ 331560 h 1295640"/>
                <a:gd name="textAreaBottom" fmla="*/ 96408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798" y="21600"/>
                  </a:lnTo>
                  <a:lnTo>
                    <a:pt x="6802" y="216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05520" y="2895480"/>
              <a:ext cx="3124080" cy="1676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05520" y="3429000"/>
              <a:ext cx="3124080" cy="6094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úcleo da fib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96080" y="2819520"/>
              <a:ext cx="68580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95680" y="3048120"/>
              <a:ext cx="6098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495680" y="4038120"/>
              <a:ext cx="60984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38480" y="3429000"/>
              <a:ext cx="177840" cy="609480"/>
            </a:xfrm>
            <a:custGeom>
              <a:avLst/>
              <a:gdLst/>
              <a:ahLst/>
              <a:rect l="l" t="t" r="r" b="b"/>
              <a:pathLst>
                <a:path w="112" h="384">
                  <a:moveTo>
                    <a:pt x="0" y="0"/>
                  </a:moveTo>
                  <a:cubicBezTo>
                    <a:pt x="40" y="24"/>
                    <a:pt x="80" y="48"/>
                    <a:pt x="96" y="96"/>
                  </a:cubicBezTo>
                  <a:cubicBezTo>
                    <a:pt x="112" y="144"/>
                    <a:pt x="112" y="240"/>
                    <a:pt x="96" y="288"/>
                  </a:cubicBezTo>
                  <a:cubicBezTo>
                    <a:pt x="80" y="336"/>
                    <a:pt x="40" y="360"/>
                    <a:pt x="0" y="38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494960" y="3200400"/>
              <a:ext cx="228600" cy="1066680"/>
            </a:xfrm>
            <a:custGeom>
              <a:avLst/>
              <a:gdLst/>
              <a:ahLst/>
              <a:rect l="l" t="t" r="r" b="b"/>
              <a:pathLst>
                <a:path w="112" h="384">
                  <a:moveTo>
                    <a:pt x="0" y="0"/>
                  </a:moveTo>
                  <a:cubicBezTo>
                    <a:pt x="40" y="24"/>
                    <a:pt x="80" y="48"/>
                    <a:pt x="96" y="96"/>
                  </a:cubicBezTo>
                  <a:cubicBezTo>
                    <a:pt x="112" y="144"/>
                    <a:pt x="112" y="240"/>
                    <a:pt x="96" y="288"/>
                  </a:cubicBezTo>
                  <a:cubicBezTo>
                    <a:pt x="80" y="336"/>
                    <a:pt x="40" y="360"/>
                    <a:pt x="0" y="38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00880" y="4372560"/>
              <a:ext cx="125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Ângulo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eit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47640" y="2132640"/>
              <a:ext cx="1000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Ângu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iss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53800" y="2513520"/>
              <a:ext cx="1000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Área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iss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5480" y="2895480"/>
              <a:ext cx="83844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9880" y="2971800"/>
              <a:ext cx="2286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81080" y="32767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8280" y="3351600"/>
              <a:ext cx="1511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inha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onte-fib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19440" y="3733920"/>
              <a:ext cx="381240" cy="1295280"/>
            </a:xfrm>
            <a:custGeom>
              <a:avLst/>
              <a:gdLst/>
              <a:ahLst/>
              <a:rect l="l" t="t" r="r" b="b"/>
              <a:pathLst>
                <a:path w="240" h="816">
                  <a:moveTo>
                    <a:pt x="0" y="816"/>
                  </a:moveTo>
                  <a:lnTo>
                    <a:pt x="0" y="0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76800" y="3733920"/>
              <a:ext cx="380880" cy="1295280"/>
            </a:xfrm>
            <a:custGeom>
              <a:avLst/>
              <a:gdLst/>
              <a:ahLst/>
              <a:rect l="l" t="t" r="r" b="b"/>
              <a:pathLst>
                <a:path w="240" h="816">
                  <a:moveTo>
                    <a:pt x="0" y="816"/>
                  </a:moveTo>
                  <a:lnTo>
                    <a:pt x="0" y="0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3124080" y="4815000"/>
            <a:ext cx="685800" cy="51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4815000"/>
                      <a:ext cx="68580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5181480" y="4876920"/>
            <a:ext cx="414360" cy="495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81480" y="4876920"/>
                      <a:ext cx="414360" cy="4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87720" y="529272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94200" y="2557440"/>
            <a:ext cx="30456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ght Emitting Diod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666880"/>
            <a:ext cx="3505320" cy="2743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403848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3581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3124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2819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240520" y="3385440"/>
            <a:ext cx="299520" cy="520560"/>
            <a:chOff x="5240520" y="3385440"/>
            <a:chExt cx="299520" cy="520560"/>
          </a:xfrm>
        </p:grpSpPr>
        <p:sp>
          <p:nvSpPr>
            <p:cNvPr id="77" name=""/>
            <p:cNvSpPr/>
            <p:nvPr/>
          </p:nvSpPr>
          <p:spPr>
            <a:xfrm>
              <a:off x="5257800" y="3581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40520" y="33854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219480" y="4767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2200" y="45712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793120" y="4571280"/>
            <a:ext cx="299520" cy="520560"/>
            <a:chOff x="5793120" y="4571280"/>
            <a:chExt cx="299520" cy="520560"/>
          </a:xfrm>
        </p:grpSpPr>
        <p:sp>
          <p:nvSpPr>
            <p:cNvPr id="82" name=""/>
            <p:cNvSpPr/>
            <p:nvPr/>
          </p:nvSpPr>
          <p:spPr>
            <a:xfrm>
              <a:off x="5810400" y="4767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93120" y="45712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35268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352680" y="3123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8672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038480" y="3961800"/>
            <a:ext cx="510840" cy="520560"/>
            <a:chOff x="4038480" y="3961800"/>
            <a:chExt cx="510840" cy="520560"/>
          </a:xfrm>
        </p:grpSpPr>
        <p:sp>
          <p:nvSpPr>
            <p:cNvPr id="89" name=""/>
            <p:cNvSpPr/>
            <p:nvPr/>
          </p:nvSpPr>
          <p:spPr>
            <a:xfrm>
              <a:off x="4038480" y="41580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4249800" y="3961800"/>
              <a:ext cx="299520" cy="520560"/>
              <a:chOff x="4249800" y="3961800"/>
              <a:chExt cx="299520" cy="520560"/>
            </a:xfrm>
          </p:grpSpPr>
          <p:sp>
            <p:nvSpPr>
              <p:cNvPr id="91" name=""/>
              <p:cNvSpPr/>
              <p:nvPr/>
            </p:nvSpPr>
            <p:spPr>
              <a:xfrm>
                <a:off x="4267080" y="415764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249800" y="39618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198320" y="274212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ão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7800" y="411372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ã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57800" y="2362320"/>
            <a:ext cx="106668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505320" y="4343400"/>
            <a:ext cx="76176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38240" y="1981080"/>
            <a:ext cx="1295640" cy="609840"/>
            <a:chOff x="1938240" y="1981080"/>
            <a:chExt cx="1295640" cy="609840"/>
          </a:xfrm>
        </p:grpSpPr>
        <p:sp>
          <p:nvSpPr>
            <p:cNvPr id="98" name=""/>
            <p:cNvSpPr/>
            <p:nvPr/>
          </p:nvSpPr>
          <p:spPr>
            <a:xfrm>
              <a:off x="1938240" y="19810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33880" y="19810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44720" y="5497200"/>
            <a:ext cx="1295280" cy="609480"/>
            <a:chOff x="1944720" y="5497200"/>
            <a:chExt cx="1295280" cy="609480"/>
          </a:xfrm>
        </p:grpSpPr>
        <p:sp>
          <p:nvSpPr>
            <p:cNvPr id="101" name=""/>
            <p:cNvSpPr/>
            <p:nvPr/>
          </p:nvSpPr>
          <p:spPr>
            <a:xfrm>
              <a:off x="1944720" y="61066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240000" y="5497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H="1" flipV="1">
            <a:off x="6095520" y="49528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548532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1560" y="23612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cu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2590920"/>
            <a:ext cx="10666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3048120"/>
            <a:ext cx="2286000" cy="685800"/>
          </a:xfrm>
          <a:custGeom>
            <a:avLst/>
            <a:gdLst/>
            <a:ahLst/>
            <a:rect l="l" t="t" r="r" b="b"/>
            <a:pathLst>
              <a:path w="2592" h="440">
                <a:moveTo>
                  <a:pt x="0" y="432"/>
                </a:moveTo>
                <a:cubicBezTo>
                  <a:pt x="428" y="436"/>
                  <a:pt x="856" y="440"/>
                  <a:pt x="1104" y="432"/>
                </a:cubicBezTo>
                <a:cubicBezTo>
                  <a:pt x="1352" y="424"/>
                  <a:pt x="1392" y="400"/>
                  <a:pt x="1488" y="384"/>
                </a:cubicBezTo>
                <a:cubicBezTo>
                  <a:pt x="1584" y="368"/>
                  <a:pt x="1592" y="360"/>
                  <a:pt x="1680" y="336"/>
                </a:cubicBezTo>
                <a:cubicBezTo>
                  <a:pt x="1768" y="312"/>
                  <a:pt x="1864" y="296"/>
                  <a:pt x="2016" y="240"/>
                </a:cubicBezTo>
                <a:cubicBezTo>
                  <a:pt x="2168" y="184"/>
                  <a:pt x="2496" y="40"/>
                  <a:pt x="259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1360" y="3666960"/>
            <a:ext cx="1463760" cy="1057320"/>
          </a:xfrm>
          <a:custGeom>
            <a:avLst/>
            <a:gdLst/>
            <a:ahLst/>
            <a:rect l="l" t="t" r="r" b="b"/>
            <a:pathLst>
              <a:path w="344" h="632">
                <a:moveTo>
                  <a:pt x="0" y="8"/>
                </a:moveTo>
                <a:cubicBezTo>
                  <a:pt x="116" y="4"/>
                  <a:pt x="232" y="0"/>
                  <a:pt x="288" y="104"/>
                </a:cubicBezTo>
                <a:cubicBezTo>
                  <a:pt x="344" y="208"/>
                  <a:pt x="328" y="544"/>
                  <a:pt x="336" y="63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44760" y="327564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89400" y="2102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832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419720" y="4419720"/>
            <a:ext cx="7617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5640" y="579024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mbin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752480" y="40384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9200" y="43423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n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72400" y="3124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773480" y="2706840"/>
            <a:ext cx="42372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reção nominal da cor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38880" y="3124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7241040" y="3425400"/>
            <a:ext cx="423720" cy="15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uxo de elétr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2590920"/>
            <a:ext cx="312408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2590920"/>
            <a:ext cx="3124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5181480"/>
            <a:ext cx="3124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3352680"/>
            <a:ext cx="312408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7160" y="1827720"/>
            <a:ext cx="183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trodo op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220968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52360" y="33519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n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172200" y="33526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365760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86240" y="335196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z de sa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22280" y="277236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ão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28040" y="4342320"/>
            <a:ext cx="13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ã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ubstra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D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3429000"/>
            <a:ext cx="220968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572000" y="32004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89880" y="274248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ção 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35812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41148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4191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4267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3429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3429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38098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3962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39625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41911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7120" y="342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7960" y="4571640"/>
            <a:ext cx="10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étr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v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200400" y="41148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75640" y="46476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cu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410080" y="4114440"/>
            <a:ext cx="1526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1520" y="3428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48006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65120" y="4951080"/>
            <a:ext cx="107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i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le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combinaçã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3505320"/>
            <a:ext cx="220968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0" y="3733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41148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39625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38098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41911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21720" y="3504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26120" y="3504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35053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40384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13080" y="48762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ombin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1464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715000" y="3124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3124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3124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34520" y="3124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2924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81680" y="2895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40320" y="266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3886200"/>
            <a:ext cx="152280" cy="914400"/>
          </a:xfrm>
          <a:custGeom>
            <a:avLst/>
            <a:gdLst/>
            <a:ahLst/>
            <a:rect l="l" t="t" r="r" b="b"/>
            <a:pathLst>
              <a:path w="359" h="626">
                <a:moveTo>
                  <a:pt x="0" y="0"/>
                </a:moveTo>
                <a:cubicBezTo>
                  <a:pt x="10" y="63"/>
                  <a:pt x="16" y="72"/>
                  <a:pt x="72" y="100"/>
                </a:cubicBezTo>
                <a:cubicBezTo>
                  <a:pt x="79" y="148"/>
                  <a:pt x="75" y="177"/>
                  <a:pt x="109" y="209"/>
                </a:cubicBezTo>
                <a:cubicBezTo>
                  <a:pt x="126" y="260"/>
                  <a:pt x="128" y="279"/>
                  <a:pt x="172" y="309"/>
                </a:cubicBezTo>
                <a:cubicBezTo>
                  <a:pt x="175" y="324"/>
                  <a:pt x="174" y="341"/>
                  <a:pt x="181" y="355"/>
                </a:cubicBezTo>
                <a:cubicBezTo>
                  <a:pt x="190" y="375"/>
                  <a:pt x="218" y="409"/>
                  <a:pt x="218" y="409"/>
                </a:cubicBezTo>
                <a:cubicBezTo>
                  <a:pt x="221" y="418"/>
                  <a:pt x="220" y="430"/>
                  <a:pt x="227" y="437"/>
                </a:cubicBezTo>
                <a:cubicBezTo>
                  <a:pt x="242" y="452"/>
                  <a:pt x="281" y="473"/>
                  <a:pt x="281" y="473"/>
                </a:cubicBezTo>
                <a:cubicBezTo>
                  <a:pt x="305" y="521"/>
                  <a:pt x="328" y="570"/>
                  <a:pt x="354" y="618"/>
                </a:cubicBezTo>
                <a:cubicBezTo>
                  <a:pt x="359" y="626"/>
                  <a:pt x="351" y="598"/>
                  <a:pt x="345" y="591"/>
                </a:cubicBezTo>
                <a:cubicBezTo>
                  <a:pt x="338" y="583"/>
                  <a:pt x="318" y="573"/>
                  <a:pt x="318" y="57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4267080"/>
            <a:ext cx="152280" cy="533520"/>
          </a:xfrm>
          <a:custGeom>
            <a:avLst/>
            <a:gdLst/>
            <a:ahLst/>
            <a:rect l="l" t="t" r="r" b="b"/>
            <a:pathLst>
              <a:path w="359" h="626">
                <a:moveTo>
                  <a:pt x="0" y="0"/>
                </a:moveTo>
                <a:cubicBezTo>
                  <a:pt x="10" y="63"/>
                  <a:pt x="16" y="72"/>
                  <a:pt x="72" y="100"/>
                </a:cubicBezTo>
                <a:cubicBezTo>
                  <a:pt x="79" y="148"/>
                  <a:pt x="75" y="177"/>
                  <a:pt x="109" y="209"/>
                </a:cubicBezTo>
                <a:cubicBezTo>
                  <a:pt x="126" y="260"/>
                  <a:pt x="128" y="279"/>
                  <a:pt x="172" y="309"/>
                </a:cubicBezTo>
                <a:cubicBezTo>
                  <a:pt x="175" y="324"/>
                  <a:pt x="174" y="341"/>
                  <a:pt x="181" y="355"/>
                </a:cubicBezTo>
                <a:cubicBezTo>
                  <a:pt x="190" y="375"/>
                  <a:pt x="218" y="409"/>
                  <a:pt x="218" y="409"/>
                </a:cubicBezTo>
                <a:cubicBezTo>
                  <a:pt x="221" y="418"/>
                  <a:pt x="220" y="430"/>
                  <a:pt x="227" y="437"/>
                </a:cubicBezTo>
                <a:cubicBezTo>
                  <a:pt x="242" y="452"/>
                  <a:pt x="281" y="473"/>
                  <a:pt x="281" y="473"/>
                </a:cubicBezTo>
                <a:cubicBezTo>
                  <a:pt x="305" y="521"/>
                  <a:pt x="328" y="570"/>
                  <a:pt x="354" y="618"/>
                </a:cubicBezTo>
                <a:cubicBezTo>
                  <a:pt x="359" y="626"/>
                  <a:pt x="351" y="598"/>
                  <a:pt x="345" y="591"/>
                </a:cubicBezTo>
                <a:cubicBezTo>
                  <a:pt x="338" y="583"/>
                  <a:pt x="318" y="573"/>
                  <a:pt x="318" y="57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238880" y="4114800"/>
            <a:ext cx="152640" cy="685800"/>
          </a:xfrm>
          <a:custGeom>
            <a:avLst/>
            <a:gdLst/>
            <a:ahLst/>
            <a:rect l="l" t="t" r="r" b="b"/>
            <a:pathLst>
              <a:path w="359" h="626">
                <a:moveTo>
                  <a:pt x="0" y="0"/>
                </a:moveTo>
                <a:cubicBezTo>
                  <a:pt x="10" y="63"/>
                  <a:pt x="16" y="72"/>
                  <a:pt x="72" y="100"/>
                </a:cubicBezTo>
                <a:cubicBezTo>
                  <a:pt x="79" y="148"/>
                  <a:pt x="75" y="177"/>
                  <a:pt x="109" y="209"/>
                </a:cubicBezTo>
                <a:cubicBezTo>
                  <a:pt x="126" y="260"/>
                  <a:pt x="128" y="279"/>
                  <a:pt x="172" y="309"/>
                </a:cubicBezTo>
                <a:cubicBezTo>
                  <a:pt x="175" y="324"/>
                  <a:pt x="174" y="341"/>
                  <a:pt x="181" y="355"/>
                </a:cubicBezTo>
                <a:cubicBezTo>
                  <a:pt x="190" y="375"/>
                  <a:pt x="218" y="409"/>
                  <a:pt x="218" y="409"/>
                </a:cubicBezTo>
                <a:cubicBezTo>
                  <a:pt x="221" y="418"/>
                  <a:pt x="220" y="430"/>
                  <a:pt x="227" y="437"/>
                </a:cubicBezTo>
                <a:cubicBezTo>
                  <a:pt x="242" y="452"/>
                  <a:pt x="281" y="473"/>
                  <a:pt x="281" y="473"/>
                </a:cubicBezTo>
                <a:cubicBezTo>
                  <a:pt x="305" y="521"/>
                  <a:pt x="328" y="570"/>
                  <a:pt x="354" y="618"/>
                </a:cubicBezTo>
                <a:cubicBezTo>
                  <a:pt x="359" y="626"/>
                  <a:pt x="351" y="598"/>
                  <a:pt x="345" y="591"/>
                </a:cubicBezTo>
                <a:cubicBezTo>
                  <a:pt x="338" y="583"/>
                  <a:pt x="318" y="573"/>
                  <a:pt x="318" y="57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12160" y="47379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u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3505320"/>
            <a:ext cx="221004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36576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4267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43434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38862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38862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40384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4267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7080" y="3504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1840" y="3504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38280" y="35053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590920" y="4800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800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0560" y="4800240"/>
            <a:ext cx="17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imento 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é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1800" y="4844520"/>
            <a:ext cx="17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imento 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cu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9907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990720" y="3124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3124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124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9880" y="3124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505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8954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2665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49360" y="3123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057400" y="32004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íveis de Energi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1981080"/>
            <a:ext cx="472464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da de Con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ree Electr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4267080"/>
            <a:ext cx="4724640" cy="129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da de Val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23920" y="327564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nd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43600" y="251460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143000" y="251424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27432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1992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-388440" y="367668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a do elé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19760" y="3049200"/>
            <a:ext cx="192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ergia libe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ndo o elé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da de b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286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2438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25909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209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2362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2514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43200" y="45799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47960" y="26575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9680" y="5563800"/>
            <a:ext cx="247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ndo um elé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da de banda 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de ou ganha ener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odo Las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32920" y="1602360"/>
            <a:ext cx="845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m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núc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u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523880" y="1675800"/>
            <a:ext cx="5936760" cy="3913200"/>
            <a:chOff x="1523880" y="1675800"/>
            <a:chExt cx="5936760" cy="3913200"/>
          </a:xfrm>
        </p:grpSpPr>
        <p:sp>
          <p:nvSpPr>
            <p:cNvPr id="241" name=""/>
            <p:cNvSpPr/>
            <p:nvPr/>
          </p:nvSpPr>
          <p:spPr>
            <a:xfrm>
              <a:off x="2390400" y="2975760"/>
              <a:ext cx="3730320" cy="1518120"/>
            </a:xfrm>
            <a:prstGeom prst="cube">
              <a:avLst>
                <a:gd name="adj" fmla="val 7680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93280" y="2635560"/>
              <a:ext cx="3719160" cy="1505160"/>
            </a:xfrm>
            <a:prstGeom prst="cube">
              <a:avLst>
                <a:gd name="adj" fmla="val 768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93280" y="2273040"/>
              <a:ext cx="3719160" cy="1505520"/>
            </a:xfrm>
            <a:prstGeom prst="cube">
              <a:avLst>
                <a:gd name="adj" fmla="val 768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58800" y="3409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86080" y="381132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 ou 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45120" y="4149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96600" y="3879000"/>
              <a:ext cx="534960" cy="200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07600" y="2741400"/>
              <a:ext cx="200520" cy="666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4199400" y="1938600"/>
              <a:ext cx="0" cy="80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99400" y="1938600"/>
              <a:ext cx="220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6920" y="1938600"/>
              <a:ext cx="0" cy="107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6920" y="3209760"/>
              <a:ext cx="0" cy="147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4199040" y="4681800"/>
              <a:ext cx="220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199400" y="4480920"/>
              <a:ext cx="0" cy="2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3000" y="3008880"/>
              <a:ext cx="26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39600" y="3075840"/>
              <a:ext cx="1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73000" y="3142800"/>
              <a:ext cx="26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39600" y="3209760"/>
              <a:ext cx="1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33480" y="1675800"/>
              <a:ext cx="11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lariz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660760" y="3945960"/>
              <a:ext cx="1003320" cy="1003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52240" y="4537080"/>
              <a:ext cx="83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Á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miss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664440" y="410904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71840" y="5008320"/>
              <a:ext cx="84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a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va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4467240" y="2874600"/>
              <a:ext cx="1203120" cy="240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204520" y="2539800"/>
              <a:ext cx="2005560" cy="267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0761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076104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23880" y="3343680"/>
              <a:ext cx="802440" cy="66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473880" y="2005200"/>
              <a:ext cx="401040" cy="26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capsulamento da Fon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0" y="2971800"/>
            <a:ext cx="12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fle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abó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52480" y="3352680"/>
            <a:ext cx="2362320" cy="152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505320"/>
            <a:ext cx="1905120" cy="1447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33720" y="2286000"/>
            <a:ext cx="1600200" cy="2286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4419720"/>
            <a:ext cx="533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819520" y="4343400"/>
            <a:ext cx="228600" cy="152280"/>
            <a:chOff x="2819520" y="4343400"/>
            <a:chExt cx="228600" cy="152280"/>
          </a:xfrm>
        </p:grpSpPr>
        <p:sp>
          <p:nvSpPr>
            <p:cNvPr id="275" name=""/>
            <p:cNvSpPr/>
            <p:nvPr/>
          </p:nvSpPr>
          <p:spPr>
            <a:xfrm>
              <a:off x="2819520" y="4343400"/>
              <a:ext cx="228600" cy="7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19520" y="4419360"/>
              <a:ext cx="228600" cy="76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666880" y="4495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00400" y="4495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2480" y="2209680"/>
            <a:ext cx="247500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33920" y="3429000"/>
            <a:ext cx="15228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11320" y="3429000"/>
            <a:ext cx="122400" cy="22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 rot="13770600">
            <a:off x="1065960" y="2882160"/>
            <a:ext cx="3567600" cy="373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440" y="125"/>
                </a:moveTo>
                <a:arcTo wR="10800" hR="10800" stAng="-4875977" swAng="4742268"/>
                <a:lnTo>
                  <a:pt x="10800" y="10800"/>
                </a:lnTo>
                <a:close/>
              </a:path>
              <a:path fill="none" w="21600" h="21600">
                <a:moveTo>
                  <a:pt x="12440" y="125"/>
                </a:moveTo>
                <a:arcTo wR="10800" hR="10800" stAng="-4875977" swAng="474226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27520" y="23623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1717200" y="2698920"/>
            <a:ext cx="1101960" cy="164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 rot="11427000">
            <a:off x="1813680" y="2369880"/>
            <a:ext cx="2041200" cy="126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90" y="29"/>
                </a:moveTo>
                <a:arcTo wR="10800" hR="10800" stAng="-5148316" swAng="4876725"/>
                <a:lnTo>
                  <a:pt x="10800" y="10800"/>
                </a:lnTo>
                <a:close/>
              </a:path>
              <a:path fill="none" w="21600" h="21600">
                <a:moveTo>
                  <a:pt x="11590" y="29"/>
                </a:moveTo>
                <a:arcTo wR="10800" hR="10800" stAng="-5148316" swAng="4876725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5880" y="2209680"/>
            <a:ext cx="313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4379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438280" y="27428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2590920" y="3733560"/>
            <a:ext cx="27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928600" y="3679560"/>
            <a:ext cx="46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048120" y="2679480"/>
            <a:ext cx="1090440" cy="166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971800" y="373356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790720" y="3511440"/>
            <a:ext cx="1885680" cy="156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03680" y="3325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4952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4495680"/>
            <a:ext cx="380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21680" y="54864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 = SIN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75960" y="4662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828800" y="4419720"/>
            <a:ext cx="9907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352320" y="2362320"/>
            <a:ext cx="7621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3581280"/>
            <a:ext cx="76212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78520" y="205740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ina Ep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270920" y="2362320"/>
            <a:ext cx="129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nte F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 Fi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a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GR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629400" y="3048120"/>
            <a:ext cx="8380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91160" y="4952880"/>
            <a:ext cx="304920" cy="304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38880" y="3352680"/>
            <a:ext cx="152280" cy="1600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115040" y="3352680"/>
            <a:ext cx="152640" cy="1600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4952880"/>
            <a:ext cx="1886040" cy="1666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19760" y="4800600"/>
            <a:ext cx="1066680" cy="3049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1976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8644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48360" y="4648320"/>
            <a:ext cx="609480" cy="30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200640" y="4800600"/>
            <a:ext cx="304560" cy="152280"/>
            <a:chOff x="6200640" y="4800600"/>
            <a:chExt cx="304560" cy="152280"/>
          </a:xfrm>
        </p:grpSpPr>
        <p:sp>
          <p:nvSpPr>
            <p:cNvPr id="314" name=""/>
            <p:cNvSpPr/>
            <p:nvPr/>
          </p:nvSpPr>
          <p:spPr>
            <a:xfrm>
              <a:off x="6200640" y="4800600"/>
              <a:ext cx="304560" cy="7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200640" y="4876560"/>
              <a:ext cx="304560" cy="76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6365880" y="4648320"/>
            <a:ext cx="376200" cy="161640"/>
          </a:xfrm>
          <a:custGeom>
            <a:avLst/>
            <a:gdLst/>
            <a:ahLst/>
            <a:rect l="l" t="t" r="r" b="b"/>
            <a:pathLst>
              <a:path w="250" h="218">
                <a:moveTo>
                  <a:pt x="0" y="218"/>
                </a:moveTo>
                <a:cubicBezTo>
                  <a:pt x="14" y="123"/>
                  <a:pt x="16" y="56"/>
                  <a:pt x="100" y="0"/>
                </a:cubicBezTo>
                <a:cubicBezTo>
                  <a:pt x="136" y="3"/>
                  <a:pt x="173" y="1"/>
                  <a:pt x="209" y="9"/>
                </a:cubicBezTo>
                <a:cubicBezTo>
                  <a:pt x="250" y="18"/>
                  <a:pt x="245" y="172"/>
                  <a:pt x="245" y="1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67480" y="5105520"/>
            <a:ext cx="1522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65600" y="3200400"/>
            <a:ext cx="1573560" cy="42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048360" y="4267080"/>
            <a:ext cx="0" cy="609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6629400" y="4267080"/>
            <a:ext cx="0" cy="609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6124320" y="4190760"/>
            <a:ext cx="15228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353280" y="419076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29240" y="4495320"/>
            <a:ext cx="15264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19760" y="4800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657840" y="4738680"/>
            <a:ext cx="152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07160" y="472284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98240" y="54864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35328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657760" y="274284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810400" y="274284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962680" y="274284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114960" y="274284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267600" y="274284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419880" y="274284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6572160" y="274284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724800" y="274284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877080" y="274284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029360" y="274284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14:21:24Z</dcterms:created>
  <dc:creator>R. E. Spaulding</dc:creator>
  <dc:description/>
  <dc:language>en-US</dc:language>
  <cp:lastModifiedBy>RUBEM</cp:lastModifiedBy>
  <dcterms:modified xsi:type="dcterms:W3CDTF">2003-05-26T22:03:12Z</dcterms:modified>
  <cp:revision>39</cp:revision>
  <dc:subject/>
  <dc:title>Fiber Optic Transmitters and Receivers</dc:title>
</cp:coreProperties>
</file>