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4.png" ContentType="image/png"/>
  <Override PartName="/ppt/media/image2.jpeg" ContentType="image/jpeg"/>
  <Override PartName="/ppt/media/image6.png" ContentType="image/png"/>
  <Override PartName="/ppt/media/image29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E00-9A8A-49FE-A3CD-034E6B63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B8D-F0A7-4952-B38E-77ACF120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F02-76FD-4621-9BCB-59AEBAB5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587-4587-4FF7-9F9C-BE56D144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D84C-59D4-4C11-AA90-96C4F10F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0A05-3265-459E-9282-8D8D085A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316D-9DE5-47B2-8EE8-BFB835AE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7F4F-CC46-44FA-9E17-ABE40431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98C5-96B4-4A99-B7CE-F0F76A56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7ED3-B117-47DA-BE2D-1821ABA5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3E01-65B4-43F5-95E2-F6963E7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AA1-05CE-4125-8DBD-7FAE602F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806C-AAFE-4F1C-853D-2593F74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3B30-739D-41AB-81EF-E2BC8CEB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A636-044C-430D-946C-34EFBBFB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0254-D341-4E4F-9118-863744B7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812E-8E76-422A-AE4E-DACFEE5A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9EB-9B5B-4F03-8D29-4D575CF1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756-46CE-47DC-B728-9F6EDFF9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55D-B2B0-44DF-978A-478F60FC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E0E-C991-4810-8F17-8FC87444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E33-0D9B-4BB8-9180-A4F91B2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BEC-F296-4EA8-8DCF-C190B1B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0C0-4A14-42C8-A703-2697FBE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90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E2B9-2624-44A8-BD4C-FD56C8F08BB9}" type="slidenum">
              <a:rPr b="0" lang="pt-BR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6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3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15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AC03-056A-4A8B-B471-8E9B195BAB7D}" type="slidenum">
              <a:rPr b="0" lang="pt-BR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2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8000" spc="-1" strike="noStrike">
                <a:solidFill>
                  <a:srgbClr val="996633"/>
                </a:solidFill>
                <a:latin typeface="Arial"/>
              </a:rPr>
              <a:t>Introdução às Redes Ópticas</a:t>
            </a:r>
            <a:endParaRPr b="1" lang="en-US" sz="8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572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João C Weyl A Costa – jweyl@ufpa.br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996633"/>
                </a:solidFill>
                <a:latin typeface="Arial"/>
              </a:rPr>
              <a:t>Redes Ópticas: Evolução e Definição</a:t>
            </a:r>
            <a:endParaRPr b="1" lang="en-US" sz="3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663300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No século 18, uso de lâmpadas de sinalização, bandeirolas ou outros dispositivos semáforos. 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743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0fd93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Claude Chappe da França(1792) </a:t>
            </a:r>
            <a:r>
              <a:rPr b="0" lang="pt-BR" sz="2800" spc="-1" strike="noStrike">
                <a:solidFill>
                  <a:srgbClr val="f0fd93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 braços pivotados e pontiagudos ( </a:t>
            </a:r>
            <a:r>
              <a:rPr b="0" lang="pt-BR" sz="2800" spc="-1" strike="noStrike">
                <a:solidFill>
                  <a:srgbClr val="f0fd93"/>
                </a:solidFill>
                <a:latin typeface="Symbol"/>
                <a:ea typeface="Symbol"/>
              </a:rPr>
              <a:t></a:t>
            </a: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 100 Km ) - 1 bit/s;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3962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663300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Morse (1835) - era das comunicações “elétricas” - 10 bits/s 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029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0fd93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Primeiro cabo telegráfico transatlântico - 1866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76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Invenção do telefone (1876) - variação contínua da corrente elétrica;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762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Continuaçã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" y="288756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0fd93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1960 Primeiros lasers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657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Symbol"/>
                <a:ea typeface="Symbol"/>
              </a:rPr>
              <a:t>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1970 Primeira fibra com baixas perdas, 20dB/km, feita de sílica (SiO2)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95288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0fd93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1987-90 Introdução à prática da tecnologia WDM (WDM banda larga 1300nm-1550nm)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0fd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Continuação</a:t>
            </a:r>
            <a:endParaRPr b="1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0880" y="17524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Transmissão rápida e eficiente </a:t>
            </a:r>
            <a:r>
              <a:rPr b="0" lang="pt-BR" sz="28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altas capacidades de transmissão;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276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0fd93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Gargalo eletrônico </a:t>
            </a:r>
            <a:r>
              <a:rPr b="0" lang="pt-BR" sz="2800" spc="-1" strike="noStrike">
                <a:solidFill>
                  <a:srgbClr val="f0fd93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0fd93"/>
                </a:solidFill>
                <a:latin typeface="Arial"/>
              </a:rPr>
              <a:t>Wavelength Division Multiplexing</a:t>
            </a:r>
            <a:r>
              <a:rPr b="0" lang="en-US" sz="2800" spc="-1" strike="noStrike">
                <a:solidFill>
                  <a:srgbClr val="f0fd93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- WDM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2200" y="4606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Sistemas comerciais: mais de 40 comprimentos de onda em uma única fibra  e modulação em 2,5 ou 10 Gb/s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996633"/>
                </a:solidFill>
                <a:latin typeface="Arial"/>
              </a:rPr>
              <a:t>Primeira Geração de Redes Ópticas</a:t>
            </a:r>
            <a:endParaRPr b="1" lang="en-US" sz="3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82880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Redes em que a fibra óptica é o único meio de tx, substituindo os cabos de cobre, mas processamento de bits na forma eletrônica.</a:t>
            </a:r>
            <a:r>
              <a:rPr b="0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2004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0fd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0fd93"/>
                </a:solidFill>
                <a:latin typeface="Arial"/>
              </a:rPr>
              <a:t>Embora vantajosa, fibra não é usada em residências devido ao custo da infra-estrutura, trazendo dúvidas sobre o retorno do investimento para provedores de serviços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0680" y="5003640"/>
            <a:ext cx="841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663300"/>
                </a:solidFill>
                <a:latin typeface="Arial"/>
              </a:rPr>
              <a:t>Exemplos: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FDDI(Interface de Dados Distribuídos por Fibra), SONET (América do Norte) e SDH (Europa/Ásia/Brasil)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838080" y="990720"/>
            <a:ext cx="7848720" cy="5029200"/>
            <a:chOff x="838080" y="990720"/>
            <a:chExt cx="7848720" cy="5029200"/>
          </a:xfrm>
        </p:grpSpPr>
        <p:grpSp>
          <p:nvGrpSpPr>
            <p:cNvPr id="144" name=""/>
            <p:cNvGrpSpPr/>
            <p:nvPr/>
          </p:nvGrpSpPr>
          <p:grpSpPr>
            <a:xfrm>
              <a:off x="838080" y="990720"/>
              <a:ext cx="7848720" cy="5029200"/>
              <a:chOff x="838080" y="990720"/>
              <a:chExt cx="7848720" cy="5029200"/>
            </a:xfrm>
          </p:grpSpPr>
          <p:sp>
            <p:nvSpPr>
              <p:cNvPr id="145" name=""/>
              <p:cNvSpPr/>
              <p:nvPr/>
            </p:nvSpPr>
            <p:spPr>
              <a:xfrm>
                <a:off x="838080" y="1295640"/>
                <a:ext cx="7848720" cy="46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4400" y="990720"/>
                <a:ext cx="7467480" cy="5029200"/>
              </a:xfrm>
              <a:prstGeom prst="rect">
                <a:avLst/>
              </a:prstGeom>
              <a:solidFill>
                <a:srgbClr val="663300"/>
              </a:solidFill>
              <a:ln cap="sq"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600200" y="1524240"/>
                <a:ext cx="6400440" cy="3885840"/>
                <a:chOff x="1600200" y="1524240"/>
                <a:chExt cx="6400440" cy="3885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6046920" y="3256560"/>
                  <a:ext cx="1953720" cy="21535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35000" y="3467880"/>
                  <a:ext cx="1078200" cy="31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900" spc="-1" strike="noStrike">
                      <a:solidFill>
                        <a:srgbClr val="868686"/>
                      </a:solidFill>
                      <a:latin typeface="Arial"/>
                    </a:rPr>
                    <a:t>Add/drop Mux</a:t>
                  </a:r>
                  <a:endParaRPr b="0" lang="en-US" sz="9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237720" y="2671920"/>
                  <a:ext cx="640440" cy="26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868686"/>
                      </a:solidFill>
                      <a:latin typeface="Arial"/>
                    </a:rPr>
                    <a:t>STM-1</a:t>
                  </a:r>
                  <a:endParaRPr b="0" lang="en-US" sz="10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043800" y="2059560"/>
                  <a:ext cx="1111320" cy="838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227480" y="5045400"/>
                  <a:ext cx="0" cy="3150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811960" y="2538720"/>
                  <a:ext cx="1614600" cy="10764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02960" y="3854160"/>
                  <a:ext cx="1109880" cy="8377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1771920" y="4366080"/>
                  <a:ext cx="468000" cy="414000"/>
                  <a:chOff x="1771920" y="4366080"/>
                  <a:chExt cx="468000" cy="4140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897200">
                    <a:off x="1804320" y="4453920"/>
                    <a:ext cx="402840" cy="23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897200">
                    <a:off x="1927800" y="4552920"/>
                    <a:ext cx="112680" cy="669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50360" y="4597560"/>
                  <a:ext cx="402840" cy="238680"/>
                  <a:chOff x="2250360" y="4597560"/>
                  <a:chExt cx="402840" cy="2386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2250360" y="4597560"/>
                    <a:ext cx="402840" cy="238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84280" y="4705920"/>
                    <a:ext cx="112680" cy="673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626920" y="4350240"/>
                  <a:ext cx="459360" cy="445680"/>
                  <a:chOff x="2626920" y="4350240"/>
                  <a:chExt cx="459360" cy="4456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19098000">
                    <a:off x="2655000" y="4453560"/>
                    <a:ext cx="402840" cy="23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9098000">
                    <a:off x="2806920" y="4563720"/>
                    <a:ext cx="112680" cy="669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1600200" y="4930920"/>
                  <a:ext cx="80280" cy="9648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1680480" y="4666680"/>
                  <a:ext cx="222120" cy="2642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306520" y="5083920"/>
                  <a:ext cx="80280" cy="9648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2354040" y="4828680"/>
                  <a:ext cx="0" cy="249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2523600" y="4839120"/>
                  <a:ext cx="0" cy="3150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4720" y="4917960"/>
                  <a:ext cx="7884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2928600" y="4668120"/>
                  <a:ext cx="212400" cy="23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05640" y="4087440"/>
                  <a:ext cx="669960" cy="31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868686"/>
                      </a:solidFill>
                      <a:latin typeface="Arial"/>
                    </a:rPr>
                    <a:t>STM-1</a:t>
                  </a:r>
                  <a:endParaRPr b="0" lang="en-US" sz="10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2886120" y="3306600"/>
                  <a:ext cx="464760" cy="379440"/>
                  <a:chOff x="2886120" y="3306600"/>
                  <a:chExt cx="464760" cy="3794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407000">
                    <a:off x="2916720" y="3376800"/>
                    <a:ext cx="402840" cy="238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407000">
                    <a:off x="3042360" y="3478680"/>
                    <a:ext cx="112680" cy="673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2593800" y="3825720"/>
                  <a:ext cx="468000" cy="386280"/>
                  <a:chOff x="2593800" y="3825720"/>
                  <a:chExt cx="468000" cy="386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rot="12285600">
                    <a:off x="2625120" y="3899160"/>
                    <a:ext cx="405000" cy="238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2285600">
                    <a:off x="2790720" y="3969000"/>
                    <a:ext cx="113040" cy="673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" name=""/>
                <p:cNvSpPr/>
                <p:nvPr/>
              </p:nvSpPr>
              <p:spPr>
                <a:xfrm flipV="1">
                  <a:off x="2902320" y="3593520"/>
                  <a:ext cx="154800" cy="30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2560" y="3981600"/>
                  <a:ext cx="1109520" cy="838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4070160" y="4501800"/>
                  <a:ext cx="467640" cy="394920"/>
                  <a:chOff x="4070160" y="4501800"/>
                  <a:chExt cx="467640" cy="394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593600">
                    <a:off x="4102200" y="4578840"/>
                    <a:ext cx="402840" cy="24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593600">
                    <a:off x="4227120" y="4681080"/>
                    <a:ext cx="112680" cy="676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825800" y="4475520"/>
                  <a:ext cx="460440" cy="447120"/>
                  <a:chOff x="4825800" y="4475520"/>
                  <a:chExt cx="460440" cy="4471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9098000">
                    <a:off x="4854600" y="4578840"/>
                    <a:ext cx="402840" cy="24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9098000">
                    <a:off x="5006160" y="4689720"/>
                    <a:ext cx="112680" cy="676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4194720" y="5249880"/>
                  <a:ext cx="8028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4036320" y="4761720"/>
                  <a:ext cx="147960" cy="254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13960" y="5045760"/>
                  <a:ext cx="7884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>
                  <a:off x="5127840" y="4795920"/>
                  <a:ext cx="210240" cy="232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04880" y="4214880"/>
                  <a:ext cx="669960" cy="30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868686"/>
                      </a:solidFill>
                      <a:latin typeface="Arial"/>
                    </a:rPr>
                    <a:t>STM-1</a:t>
                  </a:r>
                  <a:endParaRPr b="0" lang="en-US" sz="10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3989520" y="3270240"/>
                  <a:ext cx="469800" cy="407520"/>
                  <a:chOff x="3989520" y="3270240"/>
                  <a:chExt cx="469800" cy="4075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9822200">
                    <a:off x="4021920" y="3354480"/>
                    <a:ext cx="404640" cy="238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9822200">
                    <a:off x="4169160" y="3465720"/>
                    <a:ext cx="113040" cy="673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4233600" y="3769560"/>
                  <a:ext cx="469080" cy="408600"/>
                  <a:chOff x="4233600" y="3769560"/>
                  <a:chExt cx="469080" cy="4086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9011400">
                    <a:off x="4266720" y="3853800"/>
                    <a:ext cx="402840" cy="24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9011400">
                    <a:off x="4409640" y="3914640"/>
                    <a:ext cx="112680" cy="676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 flipH="1" flipV="1">
                  <a:off x="4276800" y="3578040"/>
                  <a:ext cx="180720" cy="258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4219200" y="4848480"/>
                  <a:ext cx="85320" cy="1933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272400" y="2172600"/>
                  <a:ext cx="640440" cy="263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868686"/>
                      </a:solidFill>
                      <a:latin typeface="Arial"/>
                    </a:rPr>
                    <a:t>STM-1</a:t>
                  </a:r>
                  <a:endParaRPr b="0" lang="en-US" sz="10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3417480" y="1931400"/>
                  <a:ext cx="403560" cy="240840"/>
                  <a:chOff x="3417480" y="1931400"/>
                  <a:chExt cx="403560" cy="2408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V="1">
                    <a:off x="3417480" y="1931040"/>
                    <a:ext cx="403560" cy="240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V="1">
                    <a:off x="3551760" y="1995120"/>
                    <a:ext cx="112680" cy="676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V="1">
                  <a:off x="3473280" y="1588680"/>
                  <a:ext cx="80280" cy="9468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3646080" y="1524240"/>
                  <a:ext cx="7884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1160" y="1691280"/>
                  <a:ext cx="0" cy="24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690720" y="1613160"/>
                  <a:ext cx="0" cy="3150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870360" y="2440800"/>
                  <a:ext cx="465120" cy="434160"/>
                  <a:chOff x="3870360" y="2440800"/>
                  <a:chExt cx="465120" cy="4341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3044600">
                    <a:off x="3901320" y="2538360"/>
                    <a:ext cx="402840" cy="238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3044600">
                    <a:off x="4068720" y="2612520"/>
                    <a:ext cx="112680" cy="673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2840760" y="2472840"/>
                  <a:ext cx="459360" cy="446400"/>
                  <a:chOff x="2840760" y="2472840"/>
                  <a:chExt cx="459360" cy="4464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8297400">
                    <a:off x="2868840" y="2576520"/>
                    <a:ext cx="402840" cy="238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8297400">
                    <a:off x="3007080" y="2637720"/>
                    <a:ext cx="112680" cy="673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5425920" y="2254680"/>
                  <a:ext cx="80280" cy="9648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702400" y="2314440"/>
                  <a:ext cx="78840" cy="9468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460480" y="2351160"/>
                  <a:ext cx="0" cy="4478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5740200" y="2420280"/>
                  <a:ext cx="0" cy="37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702400" y="2939400"/>
                  <a:ext cx="539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6230160" y="1991160"/>
                  <a:ext cx="207720" cy="479160"/>
                  <a:chOff x="6230160" y="1991160"/>
                  <a:chExt cx="207720" cy="4791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V="1" rot="5361600">
                    <a:off x="6095160" y="2129040"/>
                    <a:ext cx="477000" cy="20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 rot="5361600">
                    <a:off x="6285960" y="2188440"/>
                    <a:ext cx="133200" cy="56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>
                  <a:off x="6232680" y="2254680"/>
                  <a:ext cx="0" cy="684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741720" y="2015640"/>
                  <a:ext cx="80280" cy="9468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6434640" y="2063160"/>
                  <a:ext cx="3128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4291920" y="2772720"/>
                  <a:ext cx="225720" cy="488160"/>
                  <a:chOff x="4291920" y="2772720"/>
                  <a:chExt cx="225720" cy="48816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6028400">
                    <a:off x="4165200" y="2915280"/>
                    <a:ext cx="478800" cy="20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028400">
                    <a:off x="4357080" y="3000600"/>
                    <a:ext cx="133920" cy="56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4496040" y="2897640"/>
                  <a:ext cx="964440" cy="5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4503960" y="3098160"/>
                  <a:ext cx="312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1680120" y="3251160"/>
                  <a:ext cx="964440" cy="5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>
                  <a:off x="1679760" y="3210840"/>
                  <a:ext cx="8028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6233400" y="3370320"/>
                  <a:ext cx="207720" cy="479160"/>
                  <a:chOff x="6233400" y="3370320"/>
                  <a:chExt cx="207720" cy="4791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flipV="1" rot="5361600">
                    <a:off x="6098400" y="3508200"/>
                    <a:ext cx="477000" cy="20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 rot="5361600">
                    <a:off x="6289200" y="3567600"/>
                    <a:ext cx="133200" cy="56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>
                  <a:off x="6285240" y="3969000"/>
                  <a:ext cx="8028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435000" y="3839400"/>
                  <a:ext cx="1465200" cy="30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900" spc="-1" strike="noStrike">
                      <a:solidFill>
                        <a:srgbClr val="868686"/>
                      </a:solidFill>
                      <a:latin typeface="Arial"/>
                    </a:rPr>
                    <a:t>Usuário</a:t>
                  </a:r>
                  <a:endParaRPr b="0" lang="en-US" sz="9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17920" y="4332960"/>
                  <a:ext cx="217080" cy="0"/>
                </a:xfrm>
                <a:prstGeom prst="line">
                  <a:avLst/>
                </a:prstGeom>
                <a:ln w="57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417000" y="4167360"/>
                  <a:ext cx="1465200" cy="30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900" spc="-1" strike="noStrike">
                      <a:solidFill>
                        <a:srgbClr val="868686"/>
                      </a:solidFill>
                      <a:latin typeface="Arial"/>
                    </a:rPr>
                    <a:t>STM-4 – 622 Mbps</a:t>
                  </a:r>
                  <a:endParaRPr b="0" lang="en-US" sz="9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194880" y="4635360"/>
                  <a:ext cx="2170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418800" y="4473720"/>
                  <a:ext cx="1465200" cy="30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900" spc="-1" strike="noStrike">
                      <a:solidFill>
                        <a:srgbClr val="868686"/>
                      </a:solidFill>
                      <a:latin typeface="Arial"/>
                    </a:rPr>
                    <a:t>STM-1 – 155 Mbps</a:t>
                  </a:r>
                  <a:endParaRPr b="0" lang="en-US" sz="9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198120" y="4905360"/>
                  <a:ext cx="2170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418800" y="4735800"/>
                  <a:ext cx="1465200" cy="30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900" spc="-1" strike="noStrike">
                      <a:solidFill>
                        <a:srgbClr val="868686"/>
                      </a:solidFill>
                      <a:latin typeface="Arial"/>
                    </a:rPr>
                    <a:t>   </a:t>
                  </a:r>
                  <a:r>
                    <a:rPr b="1" lang="pt-BR" sz="900" spc="-1" strike="noStrike">
                      <a:solidFill>
                        <a:srgbClr val="868686"/>
                      </a:solidFill>
                      <a:latin typeface="Arial"/>
                    </a:rPr>
                    <a:t>E3 – 34 Mbps</a:t>
                  </a:r>
                  <a:endParaRPr b="0" lang="en-US" sz="9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94880" y="5182200"/>
                  <a:ext cx="217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415200" y="5012640"/>
                  <a:ext cx="1465200" cy="30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900" spc="-1" strike="noStrike">
                      <a:solidFill>
                        <a:srgbClr val="868686"/>
                      </a:solidFill>
                      <a:latin typeface="Arial"/>
                    </a:rPr>
                    <a:t>   </a:t>
                  </a:r>
                  <a:r>
                    <a:rPr b="1" lang="pt-BR" sz="900" spc="-1" strike="noStrike">
                      <a:solidFill>
                        <a:srgbClr val="868686"/>
                      </a:solidFill>
                      <a:latin typeface="Arial"/>
                    </a:rPr>
                    <a:t>E1 –  2 Mbps</a:t>
                  </a:r>
                  <a:endParaRPr b="0" lang="en-US" sz="9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5393160" y="2815200"/>
                  <a:ext cx="405000" cy="238680"/>
                  <a:chOff x="5393160" y="2815200"/>
                  <a:chExt cx="405000" cy="238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V="1">
                    <a:off x="5393160" y="2814840"/>
                    <a:ext cx="405000" cy="238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5527800" y="2877840"/>
                    <a:ext cx="113040" cy="673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623680" y="2892960"/>
                  <a:ext cx="225720" cy="488160"/>
                  <a:chOff x="2623680" y="2892960"/>
                  <a:chExt cx="225720" cy="48816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flipV="1" rot="16028400">
                    <a:off x="2496600" y="3035520"/>
                    <a:ext cx="478800" cy="202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flipV="1" rot="16028400">
                    <a:off x="2649600" y="3096360"/>
                    <a:ext cx="133920" cy="56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66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0" name=""/>
                <p:cNvSpPr/>
                <p:nvPr/>
              </p:nvSpPr>
              <p:spPr>
                <a:xfrm>
                  <a:off x="2324160" y="3056040"/>
                  <a:ext cx="3128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2249640" y="3008880"/>
                  <a:ext cx="8028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002120" y="5016600"/>
                  <a:ext cx="8028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479320" y="5149440"/>
                  <a:ext cx="7848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810320" y="3050640"/>
                  <a:ext cx="80280" cy="94320"/>
                </a:xfrm>
                <a:prstGeom prst="rect">
                  <a:avLst/>
                </a:prstGeom>
                <a:solidFill>
                  <a:srgbClr val="33cccc"/>
                </a:solidFill>
                <a:ln w="1908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20280" y="2946960"/>
                  <a:ext cx="669960" cy="30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000" spc="-1" strike="noStrike">
                      <a:solidFill>
                        <a:srgbClr val="868686"/>
                      </a:solidFill>
                      <a:latin typeface="Arial"/>
                    </a:rPr>
                    <a:t>STM-4</a:t>
                  </a:r>
                  <a:endParaRPr b="0" lang="en-US" sz="1000" spc="-1" strike="noStrike">
                    <a:solidFill>
                      <a:srgbClr val="66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6" name=""/>
            <p:cNvSpPr/>
            <p:nvPr/>
          </p:nvSpPr>
          <p:spPr>
            <a:xfrm>
              <a:off x="2286000" y="554868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Arial"/>
                </a:rPr>
                <a:t>Exemplo de rede SDH</a:t>
              </a: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996633"/>
                </a:solidFill>
                <a:latin typeface="Arial"/>
              </a:rPr>
              <a:t>Segunda Geração de Redes Ópticas</a:t>
            </a:r>
            <a:endParaRPr b="1" lang="en-US" sz="3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Não possuem capacidade de roteamento da luz de acordo com o seu comprimento de onda. 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733920"/>
            <a:ext cx="79246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0fd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0fd93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0fd93"/>
                </a:solidFill>
                <a:latin typeface="Arial"/>
              </a:rPr>
              <a:t>Estabelecimento da conectividade óptica entre os nós - topologias físicas favorecem a disseminação dos sinais ópticos em todos os comprimentos de onda para todos os nós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0fd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Continuação</a:t>
            </a:r>
            <a:endParaRPr b="1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3300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3300"/>
                </a:solidFill>
                <a:latin typeface="Arial"/>
              </a:rPr>
              <a:t>Topologia física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: fibras ópticas e acopladores interligando os nós da rede.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32004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0fd93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0fd93"/>
                </a:solidFill>
                <a:latin typeface="Arial"/>
              </a:rPr>
              <a:t>Topologia virtual</a:t>
            </a:r>
            <a:r>
              <a:rPr b="1" lang="pt-BR" sz="2800" spc="-1" strike="noStrike">
                <a:solidFill>
                  <a:srgbClr val="f0fd93"/>
                </a:solidFill>
                <a:latin typeface="Arial"/>
              </a:rPr>
              <a:t>: grafo que descreve a trajetória da informação por todos os nós intermediários entre o nó origem e o nó destino, para cada par origem-destino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38080" y="609480"/>
            <a:ext cx="7696440" cy="5715000"/>
          </a:xfrm>
          <a:prstGeom prst="rect">
            <a:avLst/>
          </a:prstGeom>
          <a:solidFill>
            <a:srgbClr val="663300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4495680"/>
            <a:ext cx="7238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868686"/>
                </a:solidFill>
                <a:latin typeface="Arial"/>
              </a:rPr>
              <a:t>(a) Topologia física da rede, com os caminhos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868686"/>
                </a:solidFill>
                <a:latin typeface="Arial"/>
              </a:rPr>
              <a:t>ópticos estabelecidos mostrado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5410080"/>
            <a:ext cx="7315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b) Topologia virtual, aquela vista pela camada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liente da camada fotônica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22400" y="1789200"/>
            <a:ext cx="17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22400" y="3470400"/>
            <a:ext cx="17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17240" y="3470400"/>
            <a:ext cx="17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77960" y="2084400"/>
            <a:ext cx="365400" cy="365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2084400"/>
            <a:ext cx="365040" cy="365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7960" y="3046320"/>
            <a:ext cx="365400" cy="363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21200" y="3046320"/>
            <a:ext cx="365040" cy="363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940120" y="2189160"/>
            <a:ext cx="1081080" cy="33120"/>
            <a:chOff x="2940120" y="2189160"/>
            <a:chExt cx="1081080" cy="33120"/>
          </a:xfrm>
        </p:grpSpPr>
        <p:sp>
          <p:nvSpPr>
            <p:cNvPr id="274" name=""/>
            <p:cNvSpPr/>
            <p:nvPr/>
          </p:nvSpPr>
          <p:spPr>
            <a:xfrm>
              <a:off x="2940120" y="2220840"/>
              <a:ext cx="1081080" cy="144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40120" y="2189160"/>
              <a:ext cx="1081080" cy="144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940120" y="3270240"/>
            <a:ext cx="1081080" cy="33120"/>
            <a:chOff x="2940120" y="3270240"/>
            <a:chExt cx="1081080" cy="33120"/>
          </a:xfrm>
        </p:grpSpPr>
        <p:sp>
          <p:nvSpPr>
            <p:cNvPr id="277" name=""/>
            <p:cNvSpPr/>
            <p:nvPr/>
          </p:nvSpPr>
          <p:spPr>
            <a:xfrm>
              <a:off x="2940120" y="3301920"/>
              <a:ext cx="1081080" cy="144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40120" y="3270240"/>
              <a:ext cx="1081080" cy="144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730600" y="2444760"/>
            <a:ext cx="34920" cy="601560"/>
            <a:chOff x="2730600" y="2444760"/>
            <a:chExt cx="34920" cy="601560"/>
          </a:xfrm>
        </p:grpSpPr>
        <p:sp>
          <p:nvSpPr>
            <p:cNvPr id="280" name=""/>
            <p:cNvSpPr/>
            <p:nvPr/>
          </p:nvSpPr>
          <p:spPr>
            <a:xfrm>
              <a:off x="2763720" y="2444760"/>
              <a:ext cx="1800" cy="60156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0600" y="2444760"/>
              <a:ext cx="1440" cy="60156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7240" y="2444760"/>
            <a:ext cx="34920" cy="601560"/>
            <a:chOff x="4197240" y="2444760"/>
            <a:chExt cx="34920" cy="601560"/>
          </a:xfrm>
        </p:grpSpPr>
        <p:sp>
          <p:nvSpPr>
            <p:cNvPr id="283" name=""/>
            <p:cNvSpPr/>
            <p:nvPr/>
          </p:nvSpPr>
          <p:spPr>
            <a:xfrm>
              <a:off x="4230720" y="2444760"/>
              <a:ext cx="1440" cy="60156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97240" y="2444760"/>
              <a:ext cx="1800" cy="60156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502160" y="3406680"/>
            <a:ext cx="361800" cy="36036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38" y="0"/>
                </a:moveTo>
                <a:lnTo>
                  <a:pt x="23" y="2"/>
                </a:lnTo>
                <a:lnTo>
                  <a:pt x="10" y="12"/>
                </a:lnTo>
                <a:lnTo>
                  <a:pt x="3" y="22"/>
                </a:lnTo>
                <a:lnTo>
                  <a:pt x="0" y="38"/>
                </a:lnTo>
                <a:lnTo>
                  <a:pt x="0" y="189"/>
                </a:lnTo>
                <a:lnTo>
                  <a:pt x="3" y="204"/>
                </a:lnTo>
                <a:lnTo>
                  <a:pt x="10" y="217"/>
                </a:lnTo>
                <a:lnTo>
                  <a:pt x="23" y="224"/>
                </a:lnTo>
                <a:lnTo>
                  <a:pt x="38" y="227"/>
                </a:lnTo>
                <a:lnTo>
                  <a:pt x="190" y="227"/>
                </a:lnTo>
                <a:lnTo>
                  <a:pt x="205" y="224"/>
                </a:lnTo>
                <a:lnTo>
                  <a:pt x="217" y="217"/>
                </a:lnTo>
                <a:lnTo>
                  <a:pt x="225" y="204"/>
                </a:lnTo>
                <a:lnTo>
                  <a:pt x="228" y="189"/>
                </a:lnTo>
                <a:lnTo>
                  <a:pt x="228" y="38"/>
                </a:lnTo>
                <a:lnTo>
                  <a:pt x="225" y="22"/>
                </a:lnTo>
                <a:lnTo>
                  <a:pt x="217" y="12"/>
                </a:lnTo>
                <a:lnTo>
                  <a:pt x="205" y="2"/>
                </a:lnTo>
                <a:lnTo>
                  <a:pt x="190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97000" y="3406680"/>
            <a:ext cx="362160" cy="36036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38" y="0"/>
                </a:moveTo>
                <a:lnTo>
                  <a:pt x="23" y="2"/>
                </a:lnTo>
                <a:lnTo>
                  <a:pt x="11" y="12"/>
                </a:lnTo>
                <a:lnTo>
                  <a:pt x="3" y="22"/>
                </a:lnTo>
                <a:lnTo>
                  <a:pt x="0" y="38"/>
                </a:lnTo>
                <a:lnTo>
                  <a:pt x="0" y="189"/>
                </a:lnTo>
                <a:lnTo>
                  <a:pt x="3" y="204"/>
                </a:lnTo>
                <a:lnTo>
                  <a:pt x="11" y="217"/>
                </a:lnTo>
                <a:lnTo>
                  <a:pt x="23" y="224"/>
                </a:lnTo>
                <a:lnTo>
                  <a:pt x="38" y="227"/>
                </a:lnTo>
                <a:lnTo>
                  <a:pt x="190" y="227"/>
                </a:lnTo>
                <a:lnTo>
                  <a:pt x="205" y="224"/>
                </a:lnTo>
                <a:lnTo>
                  <a:pt x="218" y="217"/>
                </a:lnTo>
                <a:lnTo>
                  <a:pt x="225" y="204"/>
                </a:lnTo>
                <a:lnTo>
                  <a:pt x="228" y="189"/>
                </a:lnTo>
                <a:lnTo>
                  <a:pt x="228" y="38"/>
                </a:lnTo>
                <a:lnTo>
                  <a:pt x="225" y="22"/>
                </a:lnTo>
                <a:lnTo>
                  <a:pt x="218" y="12"/>
                </a:lnTo>
                <a:lnTo>
                  <a:pt x="205" y="2"/>
                </a:lnTo>
                <a:lnTo>
                  <a:pt x="190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02160" y="1724040"/>
            <a:ext cx="361800" cy="36036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38" y="0"/>
                </a:moveTo>
                <a:lnTo>
                  <a:pt x="23" y="3"/>
                </a:lnTo>
                <a:lnTo>
                  <a:pt x="10" y="13"/>
                </a:lnTo>
                <a:lnTo>
                  <a:pt x="3" y="23"/>
                </a:lnTo>
                <a:lnTo>
                  <a:pt x="0" y="38"/>
                </a:lnTo>
                <a:lnTo>
                  <a:pt x="0" y="189"/>
                </a:lnTo>
                <a:lnTo>
                  <a:pt x="3" y="205"/>
                </a:lnTo>
                <a:lnTo>
                  <a:pt x="10" y="217"/>
                </a:lnTo>
                <a:lnTo>
                  <a:pt x="23" y="225"/>
                </a:lnTo>
                <a:lnTo>
                  <a:pt x="38" y="227"/>
                </a:lnTo>
                <a:lnTo>
                  <a:pt x="190" y="227"/>
                </a:lnTo>
                <a:lnTo>
                  <a:pt x="205" y="225"/>
                </a:lnTo>
                <a:lnTo>
                  <a:pt x="217" y="217"/>
                </a:lnTo>
                <a:lnTo>
                  <a:pt x="225" y="205"/>
                </a:lnTo>
                <a:lnTo>
                  <a:pt x="228" y="189"/>
                </a:lnTo>
                <a:lnTo>
                  <a:pt x="228" y="38"/>
                </a:lnTo>
                <a:lnTo>
                  <a:pt x="225" y="23"/>
                </a:lnTo>
                <a:lnTo>
                  <a:pt x="217" y="13"/>
                </a:lnTo>
                <a:lnTo>
                  <a:pt x="205" y="3"/>
                </a:lnTo>
                <a:lnTo>
                  <a:pt x="190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459160" y="3285720"/>
            <a:ext cx="11880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97160" y="1998720"/>
            <a:ext cx="28080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382640" y="2084400"/>
            <a:ext cx="11916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4382640" y="3285720"/>
            <a:ext cx="11916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1676520"/>
            <a:ext cx="361800" cy="360360"/>
          </a:xfrm>
          <a:custGeom>
            <a:avLst/>
            <a:gdLst/>
            <a:ahLst/>
            <a:rect l="l" t="t" r="r" b="b"/>
            <a:pathLst>
              <a:path w="228" h="227">
                <a:moveTo>
                  <a:pt x="38" y="0"/>
                </a:moveTo>
                <a:lnTo>
                  <a:pt x="23" y="3"/>
                </a:lnTo>
                <a:lnTo>
                  <a:pt x="11" y="13"/>
                </a:lnTo>
                <a:lnTo>
                  <a:pt x="3" y="23"/>
                </a:lnTo>
                <a:lnTo>
                  <a:pt x="0" y="38"/>
                </a:lnTo>
                <a:lnTo>
                  <a:pt x="0" y="189"/>
                </a:lnTo>
                <a:lnTo>
                  <a:pt x="3" y="205"/>
                </a:lnTo>
                <a:lnTo>
                  <a:pt x="11" y="217"/>
                </a:lnTo>
                <a:lnTo>
                  <a:pt x="23" y="225"/>
                </a:lnTo>
                <a:lnTo>
                  <a:pt x="38" y="227"/>
                </a:lnTo>
                <a:lnTo>
                  <a:pt x="190" y="227"/>
                </a:lnTo>
                <a:lnTo>
                  <a:pt x="205" y="225"/>
                </a:lnTo>
                <a:lnTo>
                  <a:pt x="218" y="217"/>
                </a:lnTo>
                <a:lnTo>
                  <a:pt x="225" y="205"/>
                </a:lnTo>
                <a:lnTo>
                  <a:pt x="228" y="189"/>
                </a:lnTo>
                <a:lnTo>
                  <a:pt x="228" y="38"/>
                </a:lnTo>
                <a:lnTo>
                  <a:pt x="225" y="23"/>
                </a:lnTo>
                <a:lnTo>
                  <a:pt x="218" y="13"/>
                </a:lnTo>
                <a:lnTo>
                  <a:pt x="205" y="3"/>
                </a:lnTo>
                <a:lnTo>
                  <a:pt x="190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1905120"/>
            <a:ext cx="365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02160" y="1724040"/>
            <a:ext cx="365040" cy="36504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2160" y="3406680"/>
            <a:ext cx="365040" cy="3636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97000" y="3406680"/>
            <a:ext cx="365040" cy="3636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14720" y="3762360"/>
            <a:ext cx="2531880" cy="252360"/>
            <a:chOff x="2214720" y="3762360"/>
            <a:chExt cx="2531880" cy="252360"/>
          </a:xfrm>
        </p:grpSpPr>
        <p:sp>
          <p:nvSpPr>
            <p:cNvPr id="298" name=""/>
            <p:cNvSpPr/>
            <p:nvPr/>
          </p:nvSpPr>
          <p:spPr>
            <a:xfrm>
              <a:off x="2214720" y="3762360"/>
              <a:ext cx="99720" cy="3636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8"/>
                  </a:lnTo>
                  <a:lnTo>
                    <a:pt x="58" y="23"/>
                  </a:lnTo>
                  <a:lnTo>
                    <a:pt x="60" y="23"/>
                  </a:lnTo>
                  <a:lnTo>
                    <a:pt x="63" y="20"/>
                  </a:lnTo>
                  <a:lnTo>
                    <a:pt x="63" y="18"/>
                  </a:lnTo>
                  <a:lnTo>
                    <a:pt x="60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38560" y="3798720"/>
              <a:ext cx="104760" cy="39960"/>
            </a:xfrm>
            <a:custGeom>
              <a:avLst/>
              <a:gdLst/>
              <a:ahLst/>
              <a:rect l="l" t="t" r="r" b="b"/>
              <a:pathLst>
                <a:path w="66" h="2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6" y="23"/>
                  </a:lnTo>
                  <a:lnTo>
                    <a:pt x="66" y="20"/>
                  </a:lnTo>
                  <a:lnTo>
                    <a:pt x="63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67080" y="38386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8" y="15"/>
                  </a:lnTo>
                  <a:lnTo>
                    <a:pt x="60" y="23"/>
                  </a:lnTo>
                  <a:lnTo>
                    <a:pt x="63" y="23"/>
                  </a:lnTo>
                  <a:lnTo>
                    <a:pt x="65" y="20"/>
                  </a:lnTo>
                  <a:lnTo>
                    <a:pt x="65" y="18"/>
                  </a:lnTo>
                  <a:lnTo>
                    <a:pt x="63" y="15"/>
                  </a:lnTo>
                  <a:lnTo>
                    <a:pt x="30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3875040"/>
              <a:ext cx="108000" cy="36360"/>
            </a:xfrm>
            <a:custGeom>
              <a:avLst/>
              <a:gdLst/>
              <a:ahLst/>
              <a:rect l="l" t="t" r="r" b="b"/>
              <a:pathLst>
                <a:path w="68" h="23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8"/>
                  </a:lnTo>
                  <a:lnTo>
                    <a:pt x="40" y="18"/>
                  </a:lnTo>
                  <a:lnTo>
                    <a:pt x="63" y="23"/>
                  </a:lnTo>
                  <a:lnTo>
                    <a:pt x="66" y="23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6" y="15"/>
                  </a:lnTo>
                  <a:lnTo>
                    <a:pt x="43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19440" y="3906720"/>
              <a:ext cx="108000" cy="31680"/>
            </a:xfrm>
            <a:custGeom>
              <a:avLst/>
              <a:gdLst/>
              <a:ahLst/>
              <a:rect l="l" t="t" r="r" b="b"/>
              <a:pathLst>
                <a:path w="68" h="20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5" y="20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8" y="18"/>
                  </a:lnTo>
                  <a:lnTo>
                    <a:pt x="68" y="15"/>
                  </a:lnTo>
                  <a:lnTo>
                    <a:pt x="65" y="13"/>
                  </a:lnTo>
                  <a:lnTo>
                    <a:pt x="58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51200" y="3935520"/>
              <a:ext cx="104760" cy="3168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61" y="20"/>
                  </a:lnTo>
                  <a:lnTo>
                    <a:pt x="63" y="20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3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79720" y="396252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63" y="16"/>
                  </a:lnTo>
                  <a:lnTo>
                    <a:pt x="66" y="16"/>
                  </a:lnTo>
                  <a:lnTo>
                    <a:pt x="68" y="13"/>
                  </a:lnTo>
                  <a:lnTo>
                    <a:pt x="68" y="11"/>
                  </a:lnTo>
                  <a:lnTo>
                    <a:pt x="66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11480" y="3983040"/>
              <a:ext cx="104760" cy="20520"/>
            </a:xfrm>
            <a:custGeom>
              <a:avLst/>
              <a:gdLst/>
              <a:ahLst/>
              <a:rect l="l" t="t" r="r" b="b"/>
              <a:pathLst>
                <a:path w="66" h="13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8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0"/>
                  </a:lnTo>
                  <a:lnTo>
                    <a:pt x="66" y="8"/>
                  </a:lnTo>
                  <a:lnTo>
                    <a:pt x="63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40000" y="399564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13" y="7"/>
                  </a:lnTo>
                  <a:lnTo>
                    <a:pt x="63" y="10"/>
                  </a:lnTo>
                  <a:lnTo>
                    <a:pt x="66" y="10"/>
                  </a:lnTo>
                  <a:lnTo>
                    <a:pt x="68" y="7"/>
                  </a:lnTo>
                  <a:lnTo>
                    <a:pt x="68" y="5"/>
                  </a:lnTo>
                  <a:lnTo>
                    <a:pt x="66" y="2"/>
                  </a:lnTo>
                  <a:lnTo>
                    <a:pt x="1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71760" y="399888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1" y="10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5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33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05320" y="3990960"/>
              <a:ext cx="108000" cy="2052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5" y="5"/>
                  </a:move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65" y="8"/>
                  </a:lnTo>
                  <a:lnTo>
                    <a:pt x="68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45" y="3"/>
                  </a:lnTo>
                  <a:lnTo>
                    <a:pt x="48" y="8"/>
                  </a:lnTo>
                  <a:lnTo>
                    <a:pt x="48" y="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37080" y="3979800"/>
              <a:ext cx="108000" cy="2376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2" y="7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6" y="7"/>
                  </a:lnTo>
                  <a:lnTo>
                    <a:pt x="68" y="5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68840" y="396252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3" y="8"/>
                  </a:moveTo>
                  <a:lnTo>
                    <a:pt x="0" y="11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66" y="8"/>
                  </a:lnTo>
                  <a:lnTo>
                    <a:pt x="68" y="5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02040" y="3938400"/>
              <a:ext cx="103320" cy="28800"/>
            </a:xfrm>
            <a:custGeom>
              <a:avLst/>
              <a:gdLst/>
              <a:ahLst/>
              <a:rect l="l" t="t" r="r" b="b"/>
              <a:pathLst>
                <a:path w="65" h="18">
                  <a:moveTo>
                    <a:pt x="2" y="10"/>
                  </a:moveTo>
                  <a:lnTo>
                    <a:pt x="0" y="13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63" y="8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29120" y="3911400"/>
              <a:ext cx="109440" cy="3204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3" y="12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28" y="17"/>
                  </a:lnTo>
                  <a:lnTo>
                    <a:pt x="66" y="7"/>
                  </a:lnTo>
                  <a:lnTo>
                    <a:pt x="69" y="5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26" y="1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57640" y="3882960"/>
              <a:ext cx="108000" cy="36360"/>
            </a:xfrm>
            <a:custGeom>
              <a:avLst/>
              <a:gdLst/>
              <a:ahLst/>
              <a:rect l="l" t="t" r="r" b="b"/>
              <a:pathLst>
                <a:path w="68" h="23">
                  <a:moveTo>
                    <a:pt x="3" y="15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51" y="13"/>
                  </a:lnTo>
                  <a:lnTo>
                    <a:pt x="66" y="8"/>
                  </a:lnTo>
                  <a:lnTo>
                    <a:pt x="68" y="5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48" y="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89400" y="3854520"/>
              <a:ext cx="104760" cy="331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3" y="13"/>
                  </a:moveTo>
                  <a:lnTo>
                    <a:pt x="0" y="15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64" y="8"/>
                  </a:lnTo>
                  <a:lnTo>
                    <a:pt x="66" y="5"/>
                  </a:lnTo>
                  <a:lnTo>
                    <a:pt x="66" y="3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17920" y="3819600"/>
              <a:ext cx="104760" cy="3492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3" y="15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63" y="7"/>
                  </a:lnTo>
                  <a:lnTo>
                    <a:pt x="66" y="5"/>
                  </a:lnTo>
                  <a:lnTo>
                    <a:pt x="66" y="2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46800" y="3786120"/>
              <a:ext cx="104760" cy="36360"/>
            </a:xfrm>
            <a:custGeom>
              <a:avLst/>
              <a:gdLst/>
              <a:ahLst/>
              <a:rect l="l" t="t" r="r" b="b"/>
              <a:pathLst>
                <a:path w="66" h="23">
                  <a:moveTo>
                    <a:pt x="3" y="16"/>
                  </a:moveTo>
                  <a:lnTo>
                    <a:pt x="0" y="18"/>
                  </a:lnTo>
                  <a:lnTo>
                    <a:pt x="0" y="21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63" y="8"/>
                  </a:lnTo>
                  <a:lnTo>
                    <a:pt x="66" y="5"/>
                  </a:lnTo>
                  <a:lnTo>
                    <a:pt x="66" y="3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75320" y="3762360"/>
              <a:ext cx="71280" cy="2844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2" y="10"/>
                  </a:moveTo>
                  <a:lnTo>
                    <a:pt x="0" y="13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45" y="8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752480" y="1447920"/>
            <a:ext cx="2874960" cy="2082600"/>
            <a:chOff x="1752480" y="1447920"/>
            <a:chExt cx="2874960" cy="2082600"/>
          </a:xfrm>
        </p:grpSpPr>
        <p:sp>
          <p:nvSpPr>
            <p:cNvPr id="319" name=""/>
            <p:cNvSpPr/>
            <p:nvPr/>
          </p:nvSpPr>
          <p:spPr>
            <a:xfrm>
              <a:off x="2062080" y="3430440"/>
              <a:ext cx="44640" cy="100080"/>
            </a:xfrm>
            <a:custGeom>
              <a:avLst/>
              <a:gdLst/>
              <a:ahLst/>
              <a:rect l="l" t="t" r="r" b="b"/>
              <a:pathLst>
                <a:path w="28" h="63">
                  <a:moveTo>
                    <a:pt x="20" y="63"/>
                  </a:moveTo>
                  <a:lnTo>
                    <a:pt x="22" y="63"/>
                  </a:lnTo>
                  <a:lnTo>
                    <a:pt x="22" y="63"/>
                  </a:lnTo>
                  <a:lnTo>
                    <a:pt x="25" y="60"/>
                  </a:lnTo>
                  <a:lnTo>
                    <a:pt x="28" y="60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0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21040" y="3301920"/>
              <a:ext cx="41040" cy="10476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18" y="63"/>
                  </a:moveTo>
                  <a:lnTo>
                    <a:pt x="21" y="66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8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18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78200" y="3178080"/>
              <a:ext cx="42840" cy="10476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20" y="63"/>
                  </a:moveTo>
                  <a:lnTo>
                    <a:pt x="22" y="66"/>
                  </a:lnTo>
                  <a:lnTo>
                    <a:pt x="25" y="66"/>
                  </a:lnTo>
                  <a:lnTo>
                    <a:pt x="27" y="63"/>
                  </a:lnTo>
                  <a:lnTo>
                    <a:pt x="27" y="61"/>
                  </a:lnTo>
                  <a:lnTo>
                    <a:pt x="15" y="28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7" y="30"/>
                  </a:lnTo>
                  <a:lnTo>
                    <a:pt x="20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36800" y="3054240"/>
              <a:ext cx="44280" cy="100080"/>
            </a:xfrm>
            <a:custGeom>
              <a:avLst/>
              <a:gdLst/>
              <a:ahLst/>
              <a:rect l="l" t="t" r="r" b="b"/>
              <a:pathLst>
                <a:path w="28" h="63">
                  <a:moveTo>
                    <a:pt x="21" y="60"/>
                  </a:moveTo>
                  <a:lnTo>
                    <a:pt x="23" y="63"/>
                  </a:lnTo>
                  <a:lnTo>
                    <a:pt x="26" y="63"/>
                  </a:lnTo>
                  <a:lnTo>
                    <a:pt x="28" y="60"/>
                  </a:lnTo>
                  <a:lnTo>
                    <a:pt x="28" y="58"/>
                  </a:lnTo>
                  <a:lnTo>
                    <a:pt x="13" y="10"/>
                  </a:lnTo>
                  <a:lnTo>
                    <a:pt x="8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6" y="12"/>
                  </a:lnTo>
                  <a:lnTo>
                    <a:pt x="21" y="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01880" y="2925720"/>
              <a:ext cx="3960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17" y="63"/>
                  </a:moveTo>
                  <a:lnTo>
                    <a:pt x="20" y="66"/>
                  </a:lnTo>
                  <a:lnTo>
                    <a:pt x="22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65520" y="2797200"/>
              <a:ext cx="36360" cy="10476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5" y="63"/>
                  </a:moveTo>
                  <a:lnTo>
                    <a:pt x="18" y="66"/>
                  </a:lnTo>
                  <a:lnTo>
                    <a:pt x="20" y="66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15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33480" y="2670120"/>
              <a:ext cx="36720" cy="10332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15" y="65"/>
                  </a:moveTo>
                  <a:lnTo>
                    <a:pt x="18" y="65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01800" y="2541600"/>
              <a:ext cx="34920" cy="10296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15" y="65"/>
                  </a:moveTo>
                  <a:lnTo>
                    <a:pt x="17" y="65"/>
                  </a:lnTo>
                  <a:lnTo>
                    <a:pt x="17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0" y="60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2" y="63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76600" y="2413080"/>
              <a:ext cx="33120" cy="104760"/>
            </a:xfrm>
            <a:custGeom>
              <a:avLst/>
              <a:gdLst/>
              <a:ahLst/>
              <a:rect l="l" t="t" r="r" b="b"/>
              <a:pathLst>
                <a:path w="21" h="66">
                  <a:moveTo>
                    <a:pt x="13" y="63"/>
                  </a:moveTo>
                  <a:lnTo>
                    <a:pt x="16" y="66"/>
                  </a:lnTo>
                  <a:lnTo>
                    <a:pt x="18" y="66"/>
                  </a:lnTo>
                  <a:lnTo>
                    <a:pt x="21" y="63"/>
                  </a:lnTo>
                  <a:lnTo>
                    <a:pt x="21" y="61"/>
                  </a:lnTo>
                  <a:lnTo>
                    <a:pt x="18" y="56"/>
                  </a:lnTo>
                  <a:lnTo>
                    <a:pt x="8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11" y="58"/>
                  </a:lnTo>
                  <a:lnTo>
                    <a:pt x="13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60400" y="2281320"/>
              <a:ext cx="25560" cy="10764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8" y="65"/>
                  </a:moveTo>
                  <a:lnTo>
                    <a:pt x="10" y="68"/>
                  </a:lnTo>
                  <a:lnTo>
                    <a:pt x="13" y="68"/>
                  </a:lnTo>
                  <a:lnTo>
                    <a:pt x="16" y="65"/>
                  </a:lnTo>
                  <a:lnTo>
                    <a:pt x="16" y="63"/>
                  </a:lnTo>
                  <a:lnTo>
                    <a:pt x="16" y="58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8" y="60"/>
                  </a:lnTo>
                  <a:lnTo>
                    <a:pt x="8" y="6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52480" y="2149560"/>
              <a:ext cx="16200" cy="10764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3" y="65"/>
                  </a:moveTo>
                  <a:lnTo>
                    <a:pt x="5" y="68"/>
                  </a:lnTo>
                  <a:lnTo>
                    <a:pt x="8" y="68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63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52480" y="2016000"/>
              <a:ext cx="16200" cy="10800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0" y="63"/>
                  </a:moveTo>
                  <a:lnTo>
                    <a:pt x="0" y="66"/>
                  </a:lnTo>
                  <a:lnTo>
                    <a:pt x="3" y="68"/>
                  </a:lnTo>
                  <a:lnTo>
                    <a:pt x="5" y="68"/>
                  </a:lnTo>
                  <a:lnTo>
                    <a:pt x="8" y="6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65440" y="1888920"/>
              <a:ext cx="28440" cy="1033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0" y="60"/>
                  </a:moveTo>
                  <a:lnTo>
                    <a:pt x="0" y="63"/>
                  </a:lnTo>
                  <a:lnTo>
                    <a:pt x="2" y="65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13" y="20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5" y="17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93880" y="1763640"/>
              <a:ext cx="47520" cy="100080"/>
            </a:xfrm>
            <a:custGeom>
              <a:avLst/>
              <a:gdLst/>
              <a:ahLst/>
              <a:rect l="l" t="t" r="r" b="b"/>
              <a:pathLst>
                <a:path w="30" h="63">
                  <a:moveTo>
                    <a:pt x="0" y="58"/>
                  </a:moveTo>
                  <a:lnTo>
                    <a:pt x="0" y="61"/>
                  </a:lnTo>
                  <a:lnTo>
                    <a:pt x="2" y="63"/>
                  </a:lnTo>
                  <a:lnTo>
                    <a:pt x="5" y="63"/>
                  </a:lnTo>
                  <a:lnTo>
                    <a:pt x="7" y="61"/>
                  </a:lnTo>
                  <a:lnTo>
                    <a:pt x="12" y="38"/>
                  </a:lnTo>
                  <a:lnTo>
                    <a:pt x="30" y="5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3"/>
                  </a:lnTo>
                  <a:lnTo>
                    <a:pt x="5" y="3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4640" y="1655640"/>
              <a:ext cx="7308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0" y="51"/>
                  </a:moveTo>
                  <a:lnTo>
                    <a:pt x="0" y="53"/>
                  </a:lnTo>
                  <a:lnTo>
                    <a:pt x="3" y="56"/>
                  </a:lnTo>
                  <a:lnTo>
                    <a:pt x="5" y="56"/>
                  </a:lnTo>
                  <a:lnTo>
                    <a:pt x="8" y="53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41" y="10"/>
                  </a:lnTo>
                  <a:lnTo>
                    <a:pt x="43" y="8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28880" y="1576440"/>
              <a:ext cx="92160" cy="6804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3" y="35"/>
                  </a:moveTo>
                  <a:lnTo>
                    <a:pt x="0" y="38"/>
                  </a:lnTo>
                  <a:lnTo>
                    <a:pt x="0" y="40"/>
                  </a:lnTo>
                  <a:lnTo>
                    <a:pt x="3" y="43"/>
                  </a:lnTo>
                  <a:lnTo>
                    <a:pt x="5" y="43"/>
                  </a:lnTo>
                  <a:lnTo>
                    <a:pt x="8" y="40"/>
                  </a:lnTo>
                  <a:lnTo>
                    <a:pt x="33" y="23"/>
                  </a:lnTo>
                  <a:lnTo>
                    <a:pt x="56" y="7"/>
                  </a:lnTo>
                  <a:lnTo>
                    <a:pt x="58" y="5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31" y="15"/>
                  </a:lnTo>
                  <a:lnTo>
                    <a:pt x="5" y="33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41560" y="1520640"/>
              <a:ext cx="100080" cy="4788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3" y="22"/>
                  </a:moveTo>
                  <a:lnTo>
                    <a:pt x="0" y="25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15" y="25"/>
                  </a:lnTo>
                  <a:lnTo>
                    <a:pt x="61" y="7"/>
                  </a:lnTo>
                  <a:lnTo>
                    <a:pt x="63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13" y="1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2160" y="1484280"/>
              <a:ext cx="104760" cy="36360"/>
            </a:xfrm>
            <a:custGeom>
              <a:avLst/>
              <a:gdLst/>
              <a:ahLst/>
              <a:rect l="l" t="t" r="r" b="b"/>
              <a:pathLst>
                <a:path w="66" h="23">
                  <a:moveTo>
                    <a:pt x="2" y="15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3"/>
                  </a:lnTo>
                  <a:lnTo>
                    <a:pt x="63" y="7"/>
                  </a:lnTo>
                  <a:lnTo>
                    <a:pt x="66" y="5"/>
                  </a:lnTo>
                  <a:lnTo>
                    <a:pt x="66" y="2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90680" y="1463760"/>
              <a:ext cx="108000" cy="2376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2" y="8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5" y="8"/>
                  </a:lnTo>
                  <a:lnTo>
                    <a:pt x="68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22440" y="1452600"/>
              <a:ext cx="108000" cy="190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2" y="5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66" y="7"/>
                  </a:lnTo>
                  <a:lnTo>
                    <a:pt x="68" y="5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54200" y="144792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3" y="3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6" y="8"/>
                  </a:lnTo>
                  <a:lnTo>
                    <a:pt x="68" y="5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87760" y="144792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8" y="8"/>
                  </a:lnTo>
                  <a:lnTo>
                    <a:pt x="68" y="5"/>
                  </a:lnTo>
                  <a:lnTo>
                    <a:pt x="65" y="3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19520" y="145260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30" y="7"/>
                  </a:lnTo>
                  <a:lnTo>
                    <a:pt x="63" y="10"/>
                  </a:lnTo>
                  <a:lnTo>
                    <a:pt x="66" y="10"/>
                  </a:lnTo>
                  <a:lnTo>
                    <a:pt x="68" y="7"/>
                  </a:lnTo>
                  <a:lnTo>
                    <a:pt x="68" y="5"/>
                  </a:lnTo>
                  <a:lnTo>
                    <a:pt x="66" y="2"/>
                  </a:lnTo>
                  <a:lnTo>
                    <a:pt x="3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1280" y="1460520"/>
              <a:ext cx="108000" cy="190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6" y="12"/>
                  </a:lnTo>
                  <a:lnTo>
                    <a:pt x="63" y="12"/>
                  </a:lnTo>
                  <a:lnTo>
                    <a:pt x="66" y="12"/>
                  </a:lnTo>
                  <a:lnTo>
                    <a:pt x="68" y="10"/>
                  </a:lnTo>
                  <a:lnTo>
                    <a:pt x="68" y="7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84480" y="1471680"/>
              <a:ext cx="103320" cy="20520"/>
            </a:xfrm>
            <a:custGeom>
              <a:avLst/>
              <a:gdLst/>
              <a:ahLst/>
              <a:rect l="l" t="t" r="r" b="b"/>
              <a:pathLst>
                <a:path w="65" h="13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0"/>
                  </a:lnTo>
                  <a:lnTo>
                    <a:pt x="65" y="8"/>
                  </a:lnTo>
                  <a:lnTo>
                    <a:pt x="63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11560" y="1484280"/>
              <a:ext cx="109440" cy="23760"/>
            </a:xfrm>
            <a:custGeom>
              <a:avLst/>
              <a:gdLst/>
              <a:ahLst/>
              <a:rect l="l" t="t" r="r" b="b"/>
              <a:pathLst>
                <a:path w="69" h="15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69" y="12"/>
                  </a:lnTo>
                  <a:lnTo>
                    <a:pt x="69" y="10"/>
                  </a:lnTo>
                  <a:lnTo>
                    <a:pt x="66" y="7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44760" y="1500120"/>
              <a:ext cx="108000" cy="2376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38" y="13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3"/>
                  </a:lnTo>
                  <a:lnTo>
                    <a:pt x="68" y="10"/>
                  </a:lnTo>
                  <a:lnTo>
                    <a:pt x="65" y="7"/>
                  </a:lnTo>
                  <a:lnTo>
                    <a:pt x="4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76520" y="1520640"/>
              <a:ext cx="108000" cy="2412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68" y="12"/>
                  </a:lnTo>
                  <a:lnTo>
                    <a:pt x="68" y="10"/>
                  </a:lnTo>
                  <a:lnTo>
                    <a:pt x="66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08280" y="1536480"/>
              <a:ext cx="10476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61" y="17"/>
                  </a:lnTo>
                  <a:lnTo>
                    <a:pt x="63" y="17"/>
                  </a:lnTo>
                  <a:lnTo>
                    <a:pt x="66" y="15"/>
                  </a:lnTo>
                  <a:lnTo>
                    <a:pt x="66" y="12"/>
                  </a:lnTo>
                  <a:lnTo>
                    <a:pt x="63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37160" y="1560600"/>
              <a:ext cx="107640" cy="270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8" y="12"/>
                  </a:lnTo>
                  <a:lnTo>
                    <a:pt x="63" y="17"/>
                  </a:lnTo>
                  <a:lnTo>
                    <a:pt x="66" y="17"/>
                  </a:lnTo>
                  <a:lnTo>
                    <a:pt x="68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4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68920" y="1579680"/>
              <a:ext cx="104760" cy="2844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6" y="16"/>
                  </a:lnTo>
                  <a:lnTo>
                    <a:pt x="66" y="13"/>
                  </a:lnTo>
                  <a:lnTo>
                    <a:pt x="64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97440" y="1604880"/>
              <a:ext cx="108000" cy="270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63" y="17"/>
                  </a:lnTo>
                  <a:lnTo>
                    <a:pt x="66" y="17"/>
                  </a:lnTo>
                  <a:lnTo>
                    <a:pt x="68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29200" y="1628640"/>
              <a:ext cx="10476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48" y="15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5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5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57720" y="1652400"/>
              <a:ext cx="108000" cy="270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63" y="17"/>
                  </a:lnTo>
                  <a:lnTo>
                    <a:pt x="66" y="17"/>
                  </a:lnTo>
                  <a:lnTo>
                    <a:pt x="68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90920" y="1676520"/>
              <a:ext cx="103320" cy="28440"/>
            </a:xfrm>
            <a:custGeom>
              <a:avLst/>
              <a:gdLst/>
              <a:ahLst/>
              <a:rect l="l" t="t" r="r" b="b"/>
              <a:pathLst>
                <a:path w="65" h="18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60" y="18"/>
                  </a:lnTo>
                  <a:lnTo>
                    <a:pt x="63" y="18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3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18000" y="1700280"/>
              <a:ext cx="109440" cy="2844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9" y="15"/>
                  </a:lnTo>
                  <a:lnTo>
                    <a:pt x="69" y="13"/>
                  </a:lnTo>
                  <a:lnTo>
                    <a:pt x="6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333520" y="1447920"/>
            <a:ext cx="2874960" cy="2082600"/>
            <a:chOff x="2333520" y="1447920"/>
            <a:chExt cx="2874960" cy="2082600"/>
          </a:xfrm>
        </p:grpSpPr>
        <p:sp>
          <p:nvSpPr>
            <p:cNvPr id="356" name=""/>
            <p:cNvSpPr/>
            <p:nvPr/>
          </p:nvSpPr>
          <p:spPr>
            <a:xfrm>
              <a:off x="4859280" y="3430440"/>
              <a:ext cx="39960" cy="100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0" y="60"/>
                  </a:moveTo>
                  <a:lnTo>
                    <a:pt x="0" y="60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8" y="63"/>
                  </a:lnTo>
                  <a:lnTo>
                    <a:pt x="25" y="5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99240" y="3301920"/>
              <a:ext cx="3960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0" y="61"/>
                  </a:moveTo>
                  <a:lnTo>
                    <a:pt x="0" y="63"/>
                  </a:lnTo>
                  <a:lnTo>
                    <a:pt x="3" y="66"/>
                  </a:lnTo>
                  <a:lnTo>
                    <a:pt x="5" y="66"/>
                  </a:lnTo>
                  <a:lnTo>
                    <a:pt x="8" y="63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38840" y="3178080"/>
              <a:ext cx="41040" cy="10476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0" y="61"/>
                  </a:moveTo>
                  <a:lnTo>
                    <a:pt x="0" y="63"/>
                  </a:lnTo>
                  <a:lnTo>
                    <a:pt x="3" y="66"/>
                  </a:lnTo>
                  <a:lnTo>
                    <a:pt x="6" y="66"/>
                  </a:lnTo>
                  <a:lnTo>
                    <a:pt x="8" y="63"/>
                  </a:lnTo>
                  <a:lnTo>
                    <a:pt x="18" y="30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2"/>
                  </a:lnTo>
                  <a:lnTo>
                    <a:pt x="11" y="28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79880" y="3049560"/>
              <a:ext cx="3996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0" y="61"/>
                  </a:moveTo>
                  <a:lnTo>
                    <a:pt x="0" y="63"/>
                  </a:lnTo>
                  <a:lnTo>
                    <a:pt x="2" y="66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19840" y="2925720"/>
              <a:ext cx="3960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0" y="61"/>
                  </a:moveTo>
                  <a:lnTo>
                    <a:pt x="0" y="63"/>
                  </a:lnTo>
                  <a:lnTo>
                    <a:pt x="3" y="66"/>
                  </a:lnTo>
                  <a:lnTo>
                    <a:pt x="5" y="66"/>
                  </a:lnTo>
                  <a:lnTo>
                    <a:pt x="8" y="63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56200" y="2797200"/>
              <a:ext cx="3960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0" y="61"/>
                  </a:moveTo>
                  <a:lnTo>
                    <a:pt x="0" y="63"/>
                  </a:lnTo>
                  <a:lnTo>
                    <a:pt x="2" y="66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91120" y="2670120"/>
              <a:ext cx="36720" cy="10332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60"/>
                  </a:moveTo>
                  <a:lnTo>
                    <a:pt x="0" y="63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8" y="63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24600" y="2541600"/>
              <a:ext cx="31680" cy="102960"/>
            </a:xfrm>
            <a:custGeom>
              <a:avLst/>
              <a:gdLst/>
              <a:ahLst/>
              <a:rect l="l" t="t" r="r" b="b"/>
              <a:pathLst>
                <a:path w="20" h="65">
                  <a:moveTo>
                    <a:pt x="0" y="60"/>
                  </a:moveTo>
                  <a:lnTo>
                    <a:pt x="0" y="63"/>
                  </a:lnTo>
                  <a:lnTo>
                    <a:pt x="2" y="65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1600" y="2409840"/>
              <a:ext cx="28440" cy="10800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0" y="63"/>
                  </a:moveTo>
                  <a:lnTo>
                    <a:pt x="0" y="65"/>
                  </a:lnTo>
                  <a:lnTo>
                    <a:pt x="3" y="68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8" y="60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0" y="58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75360" y="2281320"/>
              <a:ext cx="20520" cy="10764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63"/>
                  </a:moveTo>
                  <a:lnTo>
                    <a:pt x="0" y="65"/>
                  </a:lnTo>
                  <a:lnTo>
                    <a:pt x="3" y="68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8" y="60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0" y="58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92640" y="2149560"/>
              <a:ext cx="15840" cy="10764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0" y="63"/>
                  </a:moveTo>
                  <a:lnTo>
                    <a:pt x="0" y="65"/>
                  </a:lnTo>
                  <a:lnTo>
                    <a:pt x="2" y="68"/>
                  </a:lnTo>
                  <a:lnTo>
                    <a:pt x="5" y="68"/>
                  </a:lnTo>
                  <a:lnTo>
                    <a:pt x="7" y="65"/>
                  </a:lnTo>
                  <a:lnTo>
                    <a:pt x="7" y="63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92640" y="2016000"/>
              <a:ext cx="15840" cy="10800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2" y="66"/>
                  </a:moveTo>
                  <a:lnTo>
                    <a:pt x="5" y="68"/>
                  </a:lnTo>
                  <a:lnTo>
                    <a:pt x="7" y="68"/>
                  </a:lnTo>
                  <a:lnTo>
                    <a:pt x="10" y="66"/>
                  </a:lnTo>
                  <a:lnTo>
                    <a:pt x="10" y="6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67440" y="1884240"/>
              <a:ext cx="28440" cy="10800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0" y="66"/>
                  </a:moveTo>
                  <a:lnTo>
                    <a:pt x="13" y="68"/>
                  </a:lnTo>
                  <a:lnTo>
                    <a:pt x="16" y="68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3" y="20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23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19560" y="1763640"/>
              <a:ext cx="47880" cy="100080"/>
            </a:xfrm>
            <a:custGeom>
              <a:avLst/>
              <a:gdLst/>
              <a:ahLst/>
              <a:rect l="l" t="t" r="r" b="b"/>
              <a:pathLst>
                <a:path w="30" h="63">
                  <a:moveTo>
                    <a:pt x="23" y="61"/>
                  </a:moveTo>
                  <a:lnTo>
                    <a:pt x="25" y="63"/>
                  </a:lnTo>
                  <a:lnTo>
                    <a:pt x="28" y="63"/>
                  </a:lnTo>
                  <a:lnTo>
                    <a:pt x="30" y="61"/>
                  </a:lnTo>
                  <a:lnTo>
                    <a:pt x="30" y="58"/>
                  </a:lnTo>
                  <a:lnTo>
                    <a:pt x="23" y="36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15" y="38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43600" y="1655640"/>
              <a:ext cx="7308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38" y="53"/>
                  </a:moveTo>
                  <a:lnTo>
                    <a:pt x="41" y="56"/>
                  </a:lnTo>
                  <a:lnTo>
                    <a:pt x="43" y="56"/>
                  </a:lnTo>
                  <a:lnTo>
                    <a:pt x="46" y="53"/>
                  </a:lnTo>
                  <a:lnTo>
                    <a:pt x="46" y="51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10"/>
                  </a:lnTo>
                  <a:lnTo>
                    <a:pt x="8" y="8"/>
                  </a:lnTo>
                  <a:lnTo>
                    <a:pt x="3" y="8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38840" y="157140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54" y="46"/>
                  </a:moveTo>
                  <a:lnTo>
                    <a:pt x="56" y="46"/>
                  </a:lnTo>
                  <a:lnTo>
                    <a:pt x="59" y="43"/>
                  </a:lnTo>
                  <a:lnTo>
                    <a:pt x="59" y="41"/>
                  </a:lnTo>
                  <a:lnTo>
                    <a:pt x="56" y="38"/>
                  </a:lnTo>
                  <a:lnTo>
                    <a:pt x="54" y="36"/>
                  </a:lnTo>
                  <a:lnTo>
                    <a:pt x="31" y="18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28" y="26"/>
                  </a:lnTo>
                  <a:lnTo>
                    <a:pt x="51" y="43"/>
                  </a:lnTo>
                  <a:lnTo>
                    <a:pt x="54" y="4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19680" y="1520640"/>
              <a:ext cx="100080" cy="4788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58" y="30"/>
                  </a:moveTo>
                  <a:lnTo>
                    <a:pt x="60" y="30"/>
                  </a:lnTo>
                  <a:lnTo>
                    <a:pt x="63" y="27"/>
                  </a:lnTo>
                  <a:lnTo>
                    <a:pt x="63" y="25"/>
                  </a:lnTo>
                  <a:lnTo>
                    <a:pt x="60" y="22"/>
                  </a:lnTo>
                  <a:lnTo>
                    <a:pt x="50" y="17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48" y="25"/>
                  </a:lnTo>
                  <a:lnTo>
                    <a:pt x="5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91160" y="1484280"/>
              <a:ext cx="108000" cy="36360"/>
            </a:xfrm>
            <a:custGeom>
              <a:avLst/>
              <a:gdLst/>
              <a:ahLst/>
              <a:rect l="l" t="t" r="r" b="b"/>
              <a:pathLst>
                <a:path w="68" h="23">
                  <a:moveTo>
                    <a:pt x="63" y="23"/>
                  </a:moveTo>
                  <a:lnTo>
                    <a:pt x="66" y="23"/>
                  </a:lnTo>
                  <a:lnTo>
                    <a:pt x="68" y="20"/>
                  </a:lnTo>
                  <a:lnTo>
                    <a:pt x="68" y="17"/>
                  </a:lnTo>
                  <a:lnTo>
                    <a:pt x="66" y="15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62640" y="1463760"/>
              <a:ext cx="108000" cy="2376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3" y="15"/>
                  </a:moveTo>
                  <a:lnTo>
                    <a:pt x="66" y="15"/>
                  </a:lnTo>
                  <a:lnTo>
                    <a:pt x="68" y="13"/>
                  </a:lnTo>
                  <a:lnTo>
                    <a:pt x="68" y="10"/>
                  </a:lnTo>
                  <a:lnTo>
                    <a:pt x="66" y="8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30880" y="1452600"/>
              <a:ext cx="107640" cy="190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3" y="12"/>
                  </a:moveTo>
                  <a:lnTo>
                    <a:pt x="65" y="12"/>
                  </a:lnTo>
                  <a:lnTo>
                    <a:pt x="68" y="10"/>
                  </a:lnTo>
                  <a:lnTo>
                    <a:pt x="68" y="7"/>
                  </a:lnTo>
                  <a:lnTo>
                    <a:pt x="65" y="5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99120" y="1447920"/>
              <a:ext cx="10764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63" y="10"/>
                  </a:moveTo>
                  <a:lnTo>
                    <a:pt x="65" y="10"/>
                  </a:lnTo>
                  <a:lnTo>
                    <a:pt x="68" y="8"/>
                  </a:lnTo>
                  <a:lnTo>
                    <a:pt x="68" y="5"/>
                  </a:lnTo>
                  <a:lnTo>
                    <a:pt x="6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65560" y="144792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63" y="8"/>
                  </a:moveTo>
                  <a:lnTo>
                    <a:pt x="66" y="8"/>
                  </a:lnTo>
                  <a:lnTo>
                    <a:pt x="68" y="5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8" y="8"/>
                  </a:lnTo>
                  <a:lnTo>
                    <a:pt x="56" y="5"/>
                  </a:lnTo>
                  <a:lnTo>
                    <a:pt x="56" y="8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33800" y="145260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66" y="7"/>
                  </a:moveTo>
                  <a:lnTo>
                    <a:pt x="68" y="5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3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38" y="7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02040" y="1460520"/>
              <a:ext cx="108000" cy="190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5" y="7"/>
                  </a:moveTo>
                  <a:lnTo>
                    <a:pt x="68" y="5"/>
                  </a:lnTo>
                  <a:lnTo>
                    <a:pt x="68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10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12" y="12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8840" y="1471680"/>
              <a:ext cx="108000" cy="2052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66" y="8"/>
                  </a:moveTo>
                  <a:lnTo>
                    <a:pt x="68" y="5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40320" y="1484280"/>
              <a:ext cx="104760" cy="237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4" y="7"/>
                  </a:moveTo>
                  <a:lnTo>
                    <a:pt x="66" y="5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08560" y="1500120"/>
              <a:ext cx="107640" cy="2376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6" y="7"/>
                  </a:moveTo>
                  <a:lnTo>
                    <a:pt x="68" y="5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25" y="5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28" y="13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76800" y="1520640"/>
              <a:ext cx="107640" cy="2412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5" y="7"/>
                  </a:moveTo>
                  <a:lnTo>
                    <a:pt x="68" y="5"/>
                  </a:lnTo>
                  <a:lnTo>
                    <a:pt x="68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47920" y="1536480"/>
              <a:ext cx="104760" cy="270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63" y="7"/>
                  </a:moveTo>
                  <a:lnTo>
                    <a:pt x="66" y="5"/>
                  </a:lnTo>
                  <a:lnTo>
                    <a:pt x="66" y="2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16160" y="1560600"/>
              <a:ext cx="108000" cy="270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5" y="7"/>
                  </a:moveTo>
                  <a:lnTo>
                    <a:pt x="68" y="5"/>
                  </a:lnTo>
                  <a:lnTo>
                    <a:pt x="68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28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5" y="17"/>
                  </a:lnTo>
                  <a:lnTo>
                    <a:pt x="30" y="12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87640" y="1579680"/>
              <a:ext cx="104760" cy="2844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63" y="8"/>
                  </a:moveTo>
                  <a:lnTo>
                    <a:pt x="66" y="5"/>
                  </a:lnTo>
                  <a:lnTo>
                    <a:pt x="66" y="3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55880" y="1604880"/>
              <a:ext cx="108000" cy="270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5" y="7"/>
                  </a:moveTo>
                  <a:lnTo>
                    <a:pt x="68" y="5"/>
                  </a:lnTo>
                  <a:lnTo>
                    <a:pt x="68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5" y="17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27360" y="1628640"/>
              <a:ext cx="10332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3" y="7"/>
                  </a:moveTo>
                  <a:lnTo>
                    <a:pt x="65" y="5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15" y="7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5" y="17"/>
                  </a:lnTo>
                  <a:lnTo>
                    <a:pt x="18" y="15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95600" y="1652400"/>
              <a:ext cx="108000" cy="270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5" y="7"/>
                  </a:moveTo>
                  <a:lnTo>
                    <a:pt x="68" y="5"/>
                  </a:lnTo>
                  <a:lnTo>
                    <a:pt x="68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5" y="17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67080" y="1676520"/>
              <a:ext cx="102960" cy="28440"/>
            </a:xfrm>
            <a:custGeom>
              <a:avLst/>
              <a:gdLst/>
              <a:ahLst/>
              <a:rect l="l" t="t" r="r" b="b"/>
              <a:pathLst>
                <a:path w="65" h="18">
                  <a:moveTo>
                    <a:pt x="63" y="7"/>
                  </a:moveTo>
                  <a:lnTo>
                    <a:pt x="65" y="5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33520" y="1700280"/>
              <a:ext cx="109800" cy="2844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66" y="8"/>
                  </a:moveTo>
                  <a:lnTo>
                    <a:pt x="69" y="5"/>
                  </a:lnTo>
                  <a:lnTo>
                    <a:pt x="69" y="3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833640" y="4789440"/>
            <a:ext cx="484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79520" y="1434960"/>
            <a:ext cx="17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83120" y="1434960"/>
            <a:ext cx="17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81200" y="1434960"/>
            <a:ext cx="17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9640" y="1434960"/>
            <a:ext cx="17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40240" y="2521080"/>
            <a:ext cx="1139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L E G E N D A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0600" y="2824200"/>
            <a:ext cx="96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veador ATM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42400" y="3133800"/>
            <a:ext cx="55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Nó WDM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40600" y="3441600"/>
            <a:ext cx="92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nlace de Fibra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40960" y="3741840"/>
            <a:ext cx="95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aminho Óptico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22280" y="19162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59280" y="13716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38" y="0"/>
                </a:moveTo>
                <a:lnTo>
                  <a:pt x="23" y="2"/>
                </a:lnTo>
                <a:lnTo>
                  <a:pt x="10" y="12"/>
                </a:lnTo>
                <a:lnTo>
                  <a:pt x="2" y="22"/>
                </a:lnTo>
                <a:lnTo>
                  <a:pt x="0" y="37"/>
                </a:lnTo>
                <a:lnTo>
                  <a:pt x="0" y="189"/>
                </a:lnTo>
                <a:lnTo>
                  <a:pt x="2" y="204"/>
                </a:lnTo>
                <a:lnTo>
                  <a:pt x="10" y="216"/>
                </a:lnTo>
                <a:lnTo>
                  <a:pt x="23" y="224"/>
                </a:lnTo>
                <a:lnTo>
                  <a:pt x="38" y="227"/>
                </a:lnTo>
                <a:lnTo>
                  <a:pt x="189" y="227"/>
                </a:lnTo>
                <a:lnTo>
                  <a:pt x="204" y="224"/>
                </a:lnTo>
                <a:lnTo>
                  <a:pt x="217" y="216"/>
                </a:lnTo>
                <a:lnTo>
                  <a:pt x="225" y="204"/>
                </a:lnTo>
                <a:lnTo>
                  <a:pt x="227" y="189"/>
                </a:lnTo>
                <a:lnTo>
                  <a:pt x="227" y="37"/>
                </a:lnTo>
                <a:lnTo>
                  <a:pt x="225" y="22"/>
                </a:lnTo>
                <a:lnTo>
                  <a:pt x="217" y="12"/>
                </a:lnTo>
                <a:lnTo>
                  <a:pt x="204" y="2"/>
                </a:lnTo>
                <a:lnTo>
                  <a:pt x="18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59280" y="1371600"/>
            <a:ext cx="365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62880" y="13716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38" y="0"/>
                </a:moveTo>
                <a:lnTo>
                  <a:pt x="23" y="2"/>
                </a:lnTo>
                <a:lnTo>
                  <a:pt x="10" y="12"/>
                </a:lnTo>
                <a:lnTo>
                  <a:pt x="2" y="22"/>
                </a:lnTo>
                <a:lnTo>
                  <a:pt x="0" y="37"/>
                </a:lnTo>
                <a:lnTo>
                  <a:pt x="0" y="189"/>
                </a:lnTo>
                <a:lnTo>
                  <a:pt x="2" y="204"/>
                </a:lnTo>
                <a:lnTo>
                  <a:pt x="10" y="216"/>
                </a:lnTo>
                <a:lnTo>
                  <a:pt x="23" y="224"/>
                </a:lnTo>
                <a:lnTo>
                  <a:pt x="38" y="227"/>
                </a:lnTo>
                <a:lnTo>
                  <a:pt x="189" y="227"/>
                </a:lnTo>
                <a:lnTo>
                  <a:pt x="204" y="224"/>
                </a:lnTo>
                <a:lnTo>
                  <a:pt x="217" y="216"/>
                </a:lnTo>
                <a:lnTo>
                  <a:pt x="225" y="204"/>
                </a:lnTo>
                <a:lnTo>
                  <a:pt x="227" y="189"/>
                </a:lnTo>
                <a:lnTo>
                  <a:pt x="227" y="37"/>
                </a:lnTo>
                <a:lnTo>
                  <a:pt x="225" y="22"/>
                </a:lnTo>
                <a:lnTo>
                  <a:pt x="217" y="12"/>
                </a:lnTo>
                <a:lnTo>
                  <a:pt x="204" y="2"/>
                </a:lnTo>
                <a:lnTo>
                  <a:pt x="189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62880" y="1371600"/>
            <a:ext cx="365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61320" y="13716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38" y="0"/>
                </a:moveTo>
                <a:lnTo>
                  <a:pt x="23" y="2"/>
                </a:lnTo>
                <a:lnTo>
                  <a:pt x="10" y="12"/>
                </a:lnTo>
                <a:lnTo>
                  <a:pt x="3" y="22"/>
                </a:lnTo>
                <a:lnTo>
                  <a:pt x="0" y="37"/>
                </a:lnTo>
                <a:lnTo>
                  <a:pt x="0" y="189"/>
                </a:lnTo>
                <a:lnTo>
                  <a:pt x="3" y="204"/>
                </a:lnTo>
                <a:lnTo>
                  <a:pt x="10" y="216"/>
                </a:lnTo>
                <a:lnTo>
                  <a:pt x="23" y="224"/>
                </a:lnTo>
                <a:lnTo>
                  <a:pt x="38" y="227"/>
                </a:lnTo>
                <a:lnTo>
                  <a:pt x="190" y="227"/>
                </a:lnTo>
                <a:lnTo>
                  <a:pt x="205" y="224"/>
                </a:lnTo>
                <a:lnTo>
                  <a:pt x="217" y="216"/>
                </a:lnTo>
                <a:lnTo>
                  <a:pt x="225" y="204"/>
                </a:lnTo>
                <a:lnTo>
                  <a:pt x="227" y="189"/>
                </a:lnTo>
                <a:lnTo>
                  <a:pt x="227" y="37"/>
                </a:lnTo>
                <a:lnTo>
                  <a:pt x="225" y="22"/>
                </a:lnTo>
                <a:lnTo>
                  <a:pt x="217" y="12"/>
                </a:lnTo>
                <a:lnTo>
                  <a:pt x="205" y="2"/>
                </a:lnTo>
                <a:lnTo>
                  <a:pt x="190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61320" y="1371600"/>
            <a:ext cx="365040" cy="3636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61200" y="1371600"/>
            <a:ext cx="360360" cy="360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37" y="0"/>
                </a:moveTo>
                <a:lnTo>
                  <a:pt x="22" y="2"/>
                </a:lnTo>
                <a:lnTo>
                  <a:pt x="10" y="12"/>
                </a:lnTo>
                <a:lnTo>
                  <a:pt x="2" y="22"/>
                </a:lnTo>
                <a:lnTo>
                  <a:pt x="0" y="37"/>
                </a:lnTo>
                <a:lnTo>
                  <a:pt x="0" y="189"/>
                </a:lnTo>
                <a:lnTo>
                  <a:pt x="2" y="204"/>
                </a:lnTo>
                <a:lnTo>
                  <a:pt x="10" y="216"/>
                </a:lnTo>
                <a:lnTo>
                  <a:pt x="22" y="224"/>
                </a:lnTo>
                <a:lnTo>
                  <a:pt x="37" y="227"/>
                </a:lnTo>
                <a:lnTo>
                  <a:pt x="189" y="227"/>
                </a:lnTo>
                <a:lnTo>
                  <a:pt x="204" y="224"/>
                </a:lnTo>
                <a:lnTo>
                  <a:pt x="217" y="216"/>
                </a:lnTo>
                <a:lnTo>
                  <a:pt x="224" y="204"/>
                </a:lnTo>
                <a:lnTo>
                  <a:pt x="227" y="189"/>
                </a:lnTo>
                <a:lnTo>
                  <a:pt x="227" y="37"/>
                </a:lnTo>
                <a:lnTo>
                  <a:pt x="224" y="22"/>
                </a:lnTo>
                <a:lnTo>
                  <a:pt x="217" y="12"/>
                </a:lnTo>
                <a:lnTo>
                  <a:pt x="204" y="2"/>
                </a:lnTo>
                <a:lnTo>
                  <a:pt x="189" y="0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61200" y="1371600"/>
            <a:ext cx="363600" cy="363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124680" y="1538280"/>
            <a:ext cx="239760" cy="34920"/>
            <a:chOff x="6124680" y="1538280"/>
            <a:chExt cx="239760" cy="34920"/>
          </a:xfrm>
        </p:grpSpPr>
        <p:sp>
          <p:nvSpPr>
            <p:cNvPr id="412" name=""/>
            <p:cNvSpPr/>
            <p:nvPr/>
          </p:nvSpPr>
          <p:spPr>
            <a:xfrm>
              <a:off x="6124680" y="1571760"/>
              <a:ext cx="239760" cy="144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24680" y="1538280"/>
              <a:ext cx="239760" cy="180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724800" y="1530360"/>
            <a:ext cx="241200" cy="34920"/>
            <a:chOff x="6724800" y="1530360"/>
            <a:chExt cx="241200" cy="34920"/>
          </a:xfrm>
        </p:grpSpPr>
        <p:sp>
          <p:nvSpPr>
            <p:cNvPr id="415" name=""/>
            <p:cNvSpPr/>
            <p:nvPr/>
          </p:nvSpPr>
          <p:spPr>
            <a:xfrm>
              <a:off x="6724800" y="1563840"/>
              <a:ext cx="241200" cy="144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24800" y="1530360"/>
              <a:ext cx="241200" cy="144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326360" y="1535040"/>
            <a:ext cx="239400" cy="33480"/>
            <a:chOff x="7326360" y="1535040"/>
            <a:chExt cx="239400" cy="33480"/>
          </a:xfrm>
        </p:grpSpPr>
        <p:sp>
          <p:nvSpPr>
            <p:cNvPr id="418" name=""/>
            <p:cNvSpPr/>
            <p:nvPr/>
          </p:nvSpPr>
          <p:spPr>
            <a:xfrm>
              <a:off x="7326360" y="1566720"/>
              <a:ext cx="239400" cy="180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26360" y="1535040"/>
              <a:ext cx="239400" cy="180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880240" y="3157560"/>
            <a:ext cx="123840" cy="123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80240" y="2852640"/>
            <a:ext cx="118800" cy="120600"/>
          </a:xfrm>
          <a:custGeom>
            <a:avLst/>
            <a:gdLst/>
            <a:ahLst/>
            <a:rect l="l" t="t" r="r" b="b"/>
            <a:pathLst>
              <a:path w="75" h="76">
                <a:moveTo>
                  <a:pt x="12" y="0"/>
                </a:moveTo>
                <a:lnTo>
                  <a:pt x="2" y="2"/>
                </a:lnTo>
                <a:lnTo>
                  <a:pt x="0" y="13"/>
                </a:lnTo>
                <a:lnTo>
                  <a:pt x="0" y="63"/>
                </a:lnTo>
                <a:lnTo>
                  <a:pt x="2" y="73"/>
                </a:lnTo>
                <a:lnTo>
                  <a:pt x="12" y="76"/>
                </a:lnTo>
                <a:lnTo>
                  <a:pt x="63" y="76"/>
                </a:lnTo>
                <a:lnTo>
                  <a:pt x="70" y="73"/>
                </a:lnTo>
                <a:lnTo>
                  <a:pt x="75" y="68"/>
                </a:lnTo>
                <a:lnTo>
                  <a:pt x="75" y="63"/>
                </a:lnTo>
                <a:lnTo>
                  <a:pt x="75" y="13"/>
                </a:lnTo>
                <a:lnTo>
                  <a:pt x="75" y="8"/>
                </a:lnTo>
                <a:lnTo>
                  <a:pt x="70" y="2"/>
                </a:lnTo>
                <a:lnTo>
                  <a:pt x="63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759280" y="3517920"/>
            <a:ext cx="360360" cy="33480"/>
            <a:chOff x="5759280" y="3517920"/>
            <a:chExt cx="360360" cy="33480"/>
          </a:xfrm>
        </p:grpSpPr>
        <p:sp>
          <p:nvSpPr>
            <p:cNvPr id="423" name=""/>
            <p:cNvSpPr/>
            <p:nvPr/>
          </p:nvSpPr>
          <p:spPr>
            <a:xfrm>
              <a:off x="5759280" y="3549600"/>
              <a:ext cx="360360" cy="180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59280" y="3517920"/>
              <a:ext cx="360360" cy="144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754600" y="3821040"/>
            <a:ext cx="369720" cy="12600"/>
            <a:chOff x="5754600" y="3821040"/>
            <a:chExt cx="369720" cy="12600"/>
          </a:xfrm>
        </p:grpSpPr>
        <p:sp>
          <p:nvSpPr>
            <p:cNvPr id="426" name=""/>
            <p:cNvSpPr/>
            <p:nvPr/>
          </p:nvSpPr>
          <p:spPr>
            <a:xfrm>
              <a:off x="5754600" y="3821040"/>
              <a:ext cx="104760" cy="1260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6"/>
                  </a:lnTo>
                  <a:lnTo>
                    <a:pt x="66" y="3"/>
                  </a:lnTo>
                  <a:lnTo>
                    <a:pt x="6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83120" y="3821040"/>
              <a:ext cx="108000" cy="1260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6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4880" y="3821040"/>
              <a:ext cx="109440" cy="1260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9" y="6"/>
                  </a:lnTo>
                  <a:lnTo>
                    <a:pt x="69" y="3"/>
                  </a:lnTo>
                  <a:lnTo>
                    <a:pt x="6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2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119640" y="2452680"/>
            <a:ext cx="156708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38680" y="2332080"/>
            <a:ext cx="2408400" cy="180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00960" y="1851120"/>
            <a:ext cx="48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33280" y="1747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47960" y="1752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24200" y="3462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09320" y="342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3400" y="41148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76640" y="143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76760" y="1447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95960" y="142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86360" y="143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996633"/>
                </a:solidFill>
                <a:latin typeface="Arial"/>
              </a:rPr>
              <a:t>Principais características das Redes ópticas de 2</a:t>
            </a:r>
            <a:r>
              <a:rPr b="1" lang="pt-BR" sz="3400" spc="-1" strike="noStrike" u="sng" baseline="30000">
                <a:solidFill>
                  <a:srgbClr val="996633"/>
                </a:solidFill>
                <a:uFillTx/>
                <a:latin typeface="Arial"/>
              </a:rPr>
              <a:t>a</a:t>
            </a:r>
            <a:r>
              <a:rPr b="1" lang="pt-BR" sz="3400" spc="-1" strike="noStrike">
                <a:solidFill>
                  <a:srgbClr val="996633"/>
                </a:solidFill>
                <a:latin typeface="Arial"/>
              </a:rPr>
              <a:t> geração</a:t>
            </a:r>
            <a:endParaRPr b="1" lang="en-US" sz="3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a) “Broadcast” da luz por todos os nós da rede, mediante o uso de topologias físicas que facilitem tal tarefa.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9040" y="3429000"/>
            <a:ext cx="77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b)  Seleção do canal desejado na recepção, por intermédio da filtragem óptica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0640" y="4724280"/>
            <a:ext cx="783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c) Através de transmissores e/ou receptores sintonizáveis, rearranjo da topologia de caminhos físicos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996633"/>
                </a:solidFill>
                <a:latin typeface="Arial"/>
              </a:rPr>
              <a:t>Algumas técnicas de multiplexação</a:t>
            </a:r>
            <a:endParaRPr b="1" lang="en-US" sz="3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752480"/>
            <a:ext cx="8077320" cy="44960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209680" y="3276720"/>
            <a:ext cx="5029200" cy="2635200"/>
            <a:chOff x="2209680" y="3276720"/>
            <a:chExt cx="5029200" cy="2635200"/>
          </a:xfrm>
        </p:grpSpPr>
        <p:sp>
          <p:nvSpPr>
            <p:cNvPr id="448" name=""/>
            <p:cNvSpPr/>
            <p:nvPr/>
          </p:nvSpPr>
          <p:spPr>
            <a:xfrm>
              <a:off x="6534000" y="4302360"/>
              <a:ext cx="70488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B bps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34000" y="3276720"/>
              <a:ext cx="7048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B bps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14640" y="5472360"/>
              <a:ext cx="301680" cy="43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14640" y="4008600"/>
              <a:ext cx="301680" cy="43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5400000">
              <a:off x="4294440" y="4338000"/>
              <a:ext cx="1463760" cy="804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16320" y="4302360"/>
              <a:ext cx="130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16320" y="5326200"/>
              <a:ext cx="130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29160" y="4740480"/>
              <a:ext cx="8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3316320" y="3862440"/>
              <a:ext cx="1106280" cy="292320"/>
              <a:chOff x="3316320" y="3862440"/>
              <a:chExt cx="1106280" cy="292320"/>
            </a:xfrm>
          </p:grpSpPr>
          <p:sp>
            <p:nvSpPr>
              <p:cNvPr id="457" name=""/>
              <p:cNvSpPr/>
              <p:nvPr/>
            </p:nvSpPr>
            <p:spPr>
              <a:xfrm>
                <a:off x="3316320" y="4154760"/>
                <a:ext cx="2764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3592800" y="3862440"/>
                <a:ext cx="0" cy="2919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92800" y="3862800"/>
                <a:ext cx="2764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3869280" y="3862440"/>
                <a:ext cx="0" cy="2919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69280" y="4154760"/>
                <a:ext cx="2764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4146120" y="3862440"/>
                <a:ext cx="0" cy="2919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146120" y="3862800"/>
                <a:ext cx="2764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316320" y="5472360"/>
              <a:ext cx="1106280" cy="293760"/>
              <a:chOff x="3316320" y="5472360"/>
              <a:chExt cx="1106280" cy="293760"/>
            </a:xfrm>
          </p:grpSpPr>
          <p:sp>
            <p:nvSpPr>
              <p:cNvPr id="465" name=""/>
              <p:cNvSpPr/>
              <p:nvPr/>
            </p:nvSpPr>
            <p:spPr>
              <a:xfrm>
                <a:off x="3316320" y="5766120"/>
                <a:ext cx="27648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3592800" y="5472360"/>
                <a:ext cx="0" cy="29376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92800" y="5472360"/>
                <a:ext cx="27648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3869280" y="5472360"/>
                <a:ext cx="0" cy="29376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69280" y="5766120"/>
                <a:ext cx="27648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4146120" y="5472360"/>
                <a:ext cx="0" cy="29376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46120" y="5472360"/>
                <a:ext cx="27648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429160" y="3276720"/>
              <a:ext cx="1104840" cy="292320"/>
              <a:chOff x="5429160" y="3276720"/>
              <a:chExt cx="1104840" cy="292320"/>
            </a:xfrm>
          </p:grpSpPr>
          <p:sp>
            <p:nvSpPr>
              <p:cNvPr id="473" name=""/>
              <p:cNvSpPr/>
              <p:nvPr/>
            </p:nvSpPr>
            <p:spPr>
              <a:xfrm>
                <a:off x="5429160" y="3569040"/>
                <a:ext cx="2761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705280" y="3276720"/>
                <a:ext cx="0" cy="292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05280" y="3276720"/>
                <a:ext cx="2761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981400" y="3276720"/>
                <a:ext cx="0" cy="292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81400" y="3569040"/>
                <a:ext cx="2761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6257880" y="3276720"/>
                <a:ext cx="0" cy="292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257880" y="3276720"/>
                <a:ext cx="2761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429160" y="4302000"/>
              <a:ext cx="1104840" cy="292320"/>
              <a:chOff x="5429160" y="4302000"/>
              <a:chExt cx="1104840" cy="292320"/>
            </a:xfrm>
          </p:grpSpPr>
          <p:sp>
            <p:nvSpPr>
              <p:cNvPr id="481" name=""/>
              <p:cNvSpPr/>
              <p:nvPr/>
            </p:nvSpPr>
            <p:spPr>
              <a:xfrm>
                <a:off x="5429160" y="4594320"/>
                <a:ext cx="2761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705280" y="4302000"/>
                <a:ext cx="0" cy="29196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05280" y="4302360"/>
                <a:ext cx="2761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981400" y="4302000"/>
                <a:ext cx="0" cy="29196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981400" y="4594320"/>
                <a:ext cx="2761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6257880" y="4302000"/>
                <a:ext cx="0" cy="29196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57880" y="4302360"/>
                <a:ext cx="2761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919680" y="4594320"/>
              <a:ext cx="31680" cy="320400"/>
              <a:chOff x="3919680" y="4594320"/>
              <a:chExt cx="31680" cy="320400"/>
            </a:xfrm>
          </p:grpSpPr>
          <p:sp>
            <p:nvSpPr>
              <p:cNvPr id="489" name=""/>
              <p:cNvSpPr/>
              <p:nvPr/>
            </p:nvSpPr>
            <p:spPr>
              <a:xfrm>
                <a:off x="3919680" y="4594320"/>
                <a:ext cx="31680" cy="2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19680" y="4740480"/>
                <a:ext cx="31680" cy="2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19680" y="4886640"/>
                <a:ext cx="31680" cy="2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931000" y="3716640"/>
              <a:ext cx="31680" cy="320400"/>
              <a:chOff x="5931000" y="3716640"/>
              <a:chExt cx="31680" cy="320400"/>
            </a:xfrm>
          </p:grpSpPr>
          <p:sp>
            <p:nvSpPr>
              <p:cNvPr id="493" name=""/>
              <p:cNvSpPr/>
              <p:nvPr/>
            </p:nvSpPr>
            <p:spPr>
              <a:xfrm>
                <a:off x="5931000" y="3716640"/>
                <a:ext cx="31680" cy="2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931000" y="3862800"/>
                <a:ext cx="31680" cy="2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31000" y="4008960"/>
                <a:ext cx="31680" cy="2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4121280" y="3422880"/>
              <a:ext cx="7030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B bps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4594320"/>
              <a:ext cx="1006560" cy="7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68686"/>
                  </a:solidFill>
                  <a:latin typeface="Arial"/>
                </a:rPr>
                <a:t>WDM</a:t>
              </a:r>
              <a:endParaRPr b="0" lang="en-US" sz="1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29320" y="4886640"/>
              <a:ext cx="1006560" cy="58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Symbol"/>
                  <a:ea typeface="Symbol"/>
                </a:rPr>
                <a:t></a:t>
              </a:r>
              <a:r>
                <a:rPr b="0" lang="pt-BR" sz="900" spc="-1" strike="noStrike" baseline="-25000">
                  <a:solidFill>
                    <a:srgbClr val="868686"/>
                  </a:solidFill>
                  <a:latin typeface="Arial"/>
                </a:rPr>
                <a:t>1</a:t>
              </a: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, </a:t>
              </a:r>
              <a:r>
                <a:rPr b="0" lang="pt-BR" sz="900" spc="-1" strike="noStrike">
                  <a:solidFill>
                    <a:srgbClr val="868686"/>
                  </a:solidFill>
                  <a:latin typeface="Symbol"/>
                  <a:ea typeface="Symbol"/>
                </a:rPr>
                <a:t></a:t>
              </a:r>
              <a:r>
                <a:rPr b="0" lang="pt-BR" sz="900" spc="-1" strike="noStrike" baseline="-25000">
                  <a:solidFill>
                    <a:srgbClr val="868686"/>
                  </a:solidFill>
                  <a:latin typeface="Arial"/>
                </a:rPr>
                <a:t>2</a:t>
              </a: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,.... </a:t>
              </a:r>
              <a:r>
                <a:rPr b="0" lang="pt-BR" sz="900" spc="-1" strike="noStrike">
                  <a:solidFill>
                    <a:srgbClr val="868686"/>
                  </a:solidFill>
                  <a:latin typeface="Symbol"/>
                  <a:ea typeface="Symbol"/>
                </a:rPr>
                <a:t></a:t>
              </a:r>
              <a:r>
                <a:rPr b="0" lang="pt-BR" sz="900" spc="-1" strike="noStrike" baseline="-25000">
                  <a:solidFill>
                    <a:srgbClr val="868686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143000" y="2286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WDM: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aumenta a banda passante utilizando múltiplos comprimentos de onda em uma única fibra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09480" y="457200"/>
          <a:ext cx="15861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1586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57200" y="2362320"/>
            <a:ext cx="8381880" cy="37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CENTRO TECNOLÓGIC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DEPARTAMENTO DE ENGENHARIA ELÉTRICA E DE COMPUTAÇÃ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PROGRAMA DE PESQUISA EM ENGENHARIA ELÉTRICA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Times New Roman"/>
              </a:rPr>
              <a:t>www.ufpa.br/ppgee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90920" y="106668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Universidade Federal do Pará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09480" y="1752480"/>
            <a:ext cx="8077320" cy="44960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057400" y="3505320"/>
            <a:ext cx="4846320" cy="2409840"/>
            <a:chOff x="2057400" y="3505320"/>
            <a:chExt cx="4846320" cy="2409840"/>
          </a:xfrm>
        </p:grpSpPr>
        <p:sp>
          <p:nvSpPr>
            <p:cNvPr id="502" name=""/>
            <p:cNvSpPr/>
            <p:nvPr/>
          </p:nvSpPr>
          <p:spPr>
            <a:xfrm>
              <a:off x="5888880" y="3908520"/>
              <a:ext cx="7891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NB bps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958480" y="5489640"/>
              <a:ext cx="33876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58480" y="4071960"/>
              <a:ext cx="33876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5400000">
              <a:off x="4503960" y="4330080"/>
              <a:ext cx="1417680" cy="901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97240" y="4356000"/>
              <a:ext cx="1465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97240" y="5348160"/>
              <a:ext cx="1465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3880" y="4781520"/>
              <a:ext cx="901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3297240" y="3930120"/>
              <a:ext cx="1239840" cy="282960"/>
              <a:chOff x="3297240" y="3930120"/>
              <a:chExt cx="1239840" cy="282960"/>
            </a:xfrm>
          </p:grpSpPr>
          <p:sp>
            <p:nvSpPr>
              <p:cNvPr id="510" name=""/>
              <p:cNvSpPr/>
              <p:nvPr/>
            </p:nvSpPr>
            <p:spPr>
              <a:xfrm>
                <a:off x="3297240" y="42130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3607200" y="3930120"/>
                <a:ext cx="0" cy="282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07200" y="39304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917160" y="3930120"/>
                <a:ext cx="0" cy="282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917160" y="42130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4227120" y="3930120"/>
                <a:ext cx="0" cy="282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27120" y="39304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3297240" y="5489280"/>
              <a:ext cx="1239840" cy="284400"/>
              <a:chOff x="3297240" y="5489280"/>
              <a:chExt cx="1239840" cy="284400"/>
            </a:xfrm>
          </p:grpSpPr>
          <p:sp>
            <p:nvSpPr>
              <p:cNvPr id="518" name=""/>
              <p:cNvSpPr/>
              <p:nvPr/>
            </p:nvSpPr>
            <p:spPr>
              <a:xfrm>
                <a:off x="3297240" y="5773680"/>
                <a:ext cx="30996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607200" y="5489280"/>
                <a:ext cx="0" cy="28404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607200" y="5489640"/>
                <a:ext cx="30996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3917160" y="5489280"/>
                <a:ext cx="0" cy="28404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917160" y="5773680"/>
                <a:ext cx="30996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4227120" y="5489280"/>
                <a:ext cx="0" cy="28404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227120" y="5489640"/>
                <a:ext cx="30996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663880" y="4355640"/>
              <a:ext cx="1239840" cy="282960"/>
              <a:chOff x="5663880" y="4355640"/>
              <a:chExt cx="1239840" cy="282960"/>
            </a:xfrm>
          </p:grpSpPr>
          <p:sp>
            <p:nvSpPr>
              <p:cNvPr id="526" name=""/>
              <p:cNvSpPr/>
              <p:nvPr/>
            </p:nvSpPr>
            <p:spPr>
              <a:xfrm>
                <a:off x="5663880" y="463860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973840" y="4355640"/>
                <a:ext cx="0" cy="282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73840" y="435600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283800" y="4355640"/>
                <a:ext cx="0" cy="282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83800" y="463860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593760" y="4355640"/>
                <a:ext cx="0" cy="282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93760" y="435600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973320" y="4638600"/>
              <a:ext cx="35280" cy="311040"/>
              <a:chOff x="3973320" y="4638600"/>
              <a:chExt cx="35280" cy="311040"/>
            </a:xfrm>
          </p:grpSpPr>
          <p:sp>
            <p:nvSpPr>
              <p:cNvPr id="534" name=""/>
              <p:cNvSpPr/>
              <p:nvPr/>
            </p:nvSpPr>
            <p:spPr>
              <a:xfrm>
                <a:off x="3973320" y="4638600"/>
                <a:ext cx="3528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973320" y="4780440"/>
                <a:ext cx="3528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973320" y="4922280"/>
                <a:ext cx="3528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198320" y="3505320"/>
              <a:ext cx="78912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868686"/>
                  </a:solidFill>
                  <a:latin typeface="Arial"/>
                </a:rPr>
                <a:t>B bps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57400" y="4638600"/>
              <a:ext cx="112644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68686"/>
                  </a:solidFill>
                  <a:latin typeface="Arial"/>
                </a:rPr>
                <a:t>TDM</a:t>
              </a:r>
              <a:endParaRPr b="0" lang="en-US" sz="1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14300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TDM: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multiplexa fluxo de dados de baixa velocidade em um fluxo de alta velocidade de modo a formar um meio de alta velocidade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Continuação</a:t>
            </a:r>
            <a:endParaRPr b="1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1720" y="1701720"/>
            <a:ext cx="7917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3300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Transporte </a:t>
            </a:r>
            <a:r>
              <a:rPr b="0" lang="pt-BR" sz="28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“um processo de transferência de informações entre pontos de diferentes localizações”. 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2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996633"/>
                </a:solidFill>
                <a:latin typeface="Arial"/>
              </a:rPr>
              <a:t>Camadas de Redes Ópticas</a:t>
            </a:r>
            <a:endParaRPr b="0" lang="en-US" sz="3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5600" y="320040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99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Rede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“todas as entidades que juntas fornecem os serviços de comunicações”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82760" y="4419720"/>
            <a:ext cx="805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SzPct val="80000"/>
              <a:buFont typeface="Web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Rede de Transporte </a:t>
            </a:r>
            <a:r>
              <a:rPr b="1" lang="pt-BR" sz="2800" spc="-1" strike="noStrike">
                <a:solidFill>
                  <a:srgbClr val="663300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“os recursos funcionais da rede que transportam informações de usuários entre as localizações”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752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198108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As redes ópticas podem contribuir sobremaneira para o advento das comunicações no sentido de eliminarem o gargalo eletrônico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411480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Redes c/ roteamento por comprimento de onda representam a solução mais viável para a integração de dados, voz e vídeo em uma única rede, implementando a RDSI-FL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4280" y="255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996633"/>
                </a:solidFill>
                <a:latin typeface="Arial"/>
              </a:rPr>
              <a:t>Camadas de uma rede totalmente óptica</a:t>
            </a:r>
            <a:endParaRPr b="1" lang="en-US" sz="3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9480" y="1752480"/>
            <a:ext cx="8077320" cy="44960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828800" y="2209680"/>
            <a:ext cx="6324480" cy="3733920"/>
            <a:chOff x="1828800" y="2209680"/>
            <a:chExt cx="6324480" cy="3733920"/>
          </a:xfrm>
        </p:grpSpPr>
        <p:sp>
          <p:nvSpPr>
            <p:cNvPr id="552" name=""/>
            <p:cNvSpPr/>
            <p:nvPr/>
          </p:nvSpPr>
          <p:spPr>
            <a:xfrm>
              <a:off x="3425760" y="2209680"/>
              <a:ext cx="2589120" cy="982800"/>
            </a:xfrm>
            <a:prstGeom prst="parallelogram">
              <a:avLst>
                <a:gd name="adj" fmla="val 65861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51320" y="2428920"/>
              <a:ext cx="370080" cy="217440"/>
            </a:xfrm>
            <a:prstGeom prst="parallelogram">
              <a:avLst>
                <a:gd name="adj" fmla="val 52304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95840" y="2865600"/>
              <a:ext cx="369720" cy="217440"/>
            </a:xfrm>
            <a:prstGeom prst="parallelogram">
              <a:avLst>
                <a:gd name="adj" fmla="val 47531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91120" y="2319480"/>
              <a:ext cx="369720" cy="217440"/>
            </a:xfrm>
            <a:prstGeom prst="parallelogram">
              <a:avLst>
                <a:gd name="adj" fmla="val 67305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02240" y="2887560"/>
              <a:ext cx="369720" cy="217440"/>
            </a:xfrm>
            <a:prstGeom prst="parallelogram">
              <a:avLst>
                <a:gd name="adj" fmla="val 42508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83280" y="2646360"/>
              <a:ext cx="369720" cy="219240"/>
            </a:xfrm>
            <a:prstGeom prst="parallelogram">
              <a:avLst>
                <a:gd name="adj" fmla="val 56798"/>
              </a:avLst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425760" y="3301920"/>
              <a:ext cx="2589120" cy="982800"/>
            </a:xfrm>
            <a:prstGeom prst="parallelogram">
              <a:avLst>
                <a:gd name="adj" fmla="val 65861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95840" y="3848040"/>
              <a:ext cx="369720" cy="219240"/>
            </a:xfrm>
            <a:prstGeom prst="parallelogram">
              <a:avLst>
                <a:gd name="adj" fmla="val 47140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91120" y="3411360"/>
              <a:ext cx="369720" cy="217800"/>
            </a:xfrm>
            <a:prstGeom prst="parallelogram">
              <a:avLst>
                <a:gd name="adj" fmla="val 67194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43480" y="3957480"/>
              <a:ext cx="369720" cy="217800"/>
            </a:xfrm>
            <a:prstGeom prst="parallelogram">
              <a:avLst>
                <a:gd name="adj" fmla="val 42438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83280" y="3629160"/>
              <a:ext cx="369720" cy="218880"/>
            </a:xfrm>
            <a:prstGeom prst="parallelogram">
              <a:avLst>
                <a:gd name="adj" fmla="val 56891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33600" y="4503600"/>
              <a:ext cx="2589480" cy="982800"/>
            </a:xfrm>
            <a:prstGeom prst="parallelogram">
              <a:avLst>
                <a:gd name="adj" fmla="val 6587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buClr>
                  <a:srgbClr val="66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1000" y="4727520"/>
              <a:ext cx="370080" cy="217440"/>
            </a:xfrm>
            <a:prstGeom prst="parallelogram">
              <a:avLst>
                <a:gd name="adj" fmla="val 52304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03680" y="5159520"/>
              <a:ext cx="369720" cy="217440"/>
            </a:xfrm>
            <a:prstGeom prst="parallelogram">
              <a:avLst>
                <a:gd name="adj" fmla="val 47531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97520" y="4613400"/>
              <a:ext cx="369720" cy="217440"/>
            </a:xfrm>
            <a:prstGeom prst="parallelogram">
              <a:avLst>
                <a:gd name="adj" fmla="val 67305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91000" y="5175360"/>
              <a:ext cx="370080" cy="217440"/>
            </a:xfrm>
            <a:prstGeom prst="parallelogram">
              <a:avLst>
                <a:gd name="adj" fmla="val 42550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95880" y="4879800"/>
              <a:ext cx="369720" cy="217800"/>
            </a:xfrm>
            <a:prstGeom prst="parallelogram">
              <a:avLst>
                <a:gd name="adj" fmla="val 57173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53000" y="2646360"/>
              <a:ext cx="0" cy="22939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51320" y="2646360"/>
              <a:ext cx="0" cy="20750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95840" y="3083040"/>
              <a:ext cx="0" cy="2076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8120" y="3424320"/>
              <a:ext cx="369720" cy="218880"/>
            </a:xfrm>
            <a:prstGeom prst="parallelogram">
              <a:avLst>
                <a:gd name="adj" fmla="val 51910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535640" y="3417480"/>
              <a:ext cx="626760" cy="10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89560" y="3429000"/>
              <a:ext cx="71280" cy="200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4721040" y="3521160"/>
              <a:ext cx="461880" cy="43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08640" y="3576600"/>
              <a:ext cx="21276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02120" y="3645000"/>
              <a:ext cx="317520" cy="19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19480" y="3736800"/>
              <a:ext cx="1120680" cy="20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535640" y="4709880"/>
              <a:ext cx="527040" cy="1206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981600" y="4939920"/>
              <a:ext cx="1293840" cy="2192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43480" y="5049720"/>
              <a:ext cx="108000" cy="2476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07080" y="4782960"/>
              <a:ext cx="0" cy="2192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05320" y="5033880"/>
              <a:ext cx="93600" cy="1080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57760" y="4710240"/>
              <a:ext cx="92160" cy="1080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64240" y="4959360"/>
              <a:ext cx="91800" cy="10944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08400" y="2536920"/>
              <a:ext cx="110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868686"/>
                  </a:solidFill>
                  <a:latin typeface="Arial"/>
                </a:rPr>
                <a:t>Camada elétrica</a:t>
              </a:r>
              <a:endParaRPr b="0" lang="en-US" sz="1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08400" y="3629160"/>
              <a:ext cx="110952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868686"/>
                  </a:solidFill>
                  <a:latin typeface="Arial"/>
                </a:rPr>
                <a:t>Camada óptica</a:t>
              </a:r>
              <a:endParaRPr b="0" lang="en-US" sz="10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868686"/>
                  </a:solidFill>
                  <a:latin typeface="Arial"/>
                </a:rPr>
                <a:t>(topologia virtual)</a:t>
              </a:r>
              <a:endParaRPr b="0" lang="en-US" sz="1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08400" y="4721400"/>
              <a:ext cx="1109520" cy="54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868686"/>
                  </a:solidFill>
                  <a:latin typeface="Arial"/>
                </a:rPr>
                <a:t>Camada física</a:t>
              </a:r>
              <a:endParaRPr b="0" lang="en-US" sz="10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868686"/>
                  </a:solidFill>
                  <a:latin typeface="Arial"/>
                </a:rPr>
                <a:t>(topologia física)</a:t>
              </a:r>
              <a:endParaRPr b="0" lang="en-US" sz="1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16240" y="3352680"/>
              <a:ext cx="122040" cy="2362320"/>
            </a:xfrm>
            <a:custGeom>
              <a:avLst/>
              <a:gdLst>
                <a:gd name="textAreaLeft" fmla="*/ 78120 w 122040"/>
                <a:gd name="textAreaRight" fmla="*/ 122040 w 12204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28800" y="3200400"/>
              <a:ext cx="38088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e 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e 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ó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868686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75480" y="2976480"/>
              <a:ext cx="109692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868686"/>
                  </a:solidFill>
                  <a:latin typeface="Arial"/>
                </a:rPr>
                <a:t>Nó de acesso</a:t>
              </a:r>
              <a:endParaRPr b="0" lang="en-US" sz="1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34200" y="3016080"/>
              <a:ext cx="369720" cy="219240"/>
            </a:xfrm>
            <a:prstGeom prst="parallelogram">
              <a:avLst>
                <a:gd name="adj" fmla="val 51825"/>
              </a:avLst>
            </a:prstGeom>
            <a:solidFill>
              <a:srgbClr val="969696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62880" y="3411360"/>
              <a:ext cx="149040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868686"/>
                  </a:solidFill>
                  <a:latin typeface="Arial"/>
                </a:rPr>
                <a:t>Nó de transição</a:t>
              </a:r>
              <a:endParaRPr b="0" lang="en-US" sz="1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31040" y="3524400"/>
              <a:ext cx="92160" cy="10764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6373800" y="3881520"/>
              <a:ext cx="1474920" cy="326880"/>
              <a:chOff x="6373800" y="3881520"/>
              <a:chExt cx="1474920" cy="326880"/>
            </a:xfrm>
          </p:grpSpPr>
          <p:sp>
            <p:nvSpPr>
              <p:cNvPr id="596" name=""/>
              <p:cNvSpPr/>
              <p:nvPr/>
            </p:nvSpPr>
            <p:spPr>
              <a:xfrm>
                <a:off x="6373800" y="4038840"/>
                <a:ext cx="3686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751080" y="3881520"/>
                <a:ext cx="109764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868686"/>
                    </a:solidFill>
                    <a:latin typeface="Arial"/>
                  </a:rPr>
                  <a:t>Link de fibra</a:t>
                </a:r>
                <a:endParaRPr b="0" lang="en-US" sz="10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6373800" y="4317840"/>
              <a:ext cx="1703520" cy="327240"/>
              <a:chOff x="6373800" y="4317840"/>
              <a:chExt cx="1703520" cy="327240"/>
            </a:xfrm>
          </p:grpSpPr>
          <p:sp>
            <p:nvSpPr>
              <p:cNvPr id="599" name=""/>
              <p:cNvSpPr/>
              <p:nvPr/>
            </p:nvSpPr>
            <p:spPr>
              <a:xfrm>
                <a:off x="6373800" y="4475160"/>
                <a:ext cx="363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45320" y="4317840"/>
                <a:ext cx="1332000" cy="32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868686"/>
                    </a:solidFill>
                    <a:latin typeface="Arial"/>
                  </a:rPr>
                  <a:t>Caminho óptico</a:t>
                </a:r>
                <a:endParaRPr b="0" lang="en-US" sz="10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996633"/>
                </a:solidFill>
                <a:latin typeface="Arial"/>
              </a:rPr>
              <a:t>Facilidades da Camada óptica</a:t>
            </a:r>
            <a:endParaRPr b="0" lang="en-US" sz="3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205740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663300"/>
                </a:solidFill>
                <a:latin typeface="Arial"/>
              </a:rPr>
              <a:t>1)Transparência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: caminho óptico pode transmitir dados com taxas de bits variadas e protocolos diferentes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9480" y="35812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2) Reuso de comprimento de onda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495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) </a:t>
            </a:r>
            <a:r>
              <a:rPr b="0" i="1" lang="pt-BR" sz="2800" spc="-1" strike="noStrike">
                <a:solidFill>
                  <a:srgbClr val="663300"/>
                </a:solidFill>
                <a:latin typeface="Arial"/>
              </a:rPr>
              <a:t>Confiabilidade: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a rede pode ser reconfigurada devido a eventuais falhas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Continuaçã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205740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663300"/>
                </a:solidFill>
                <a:latin typeface="Arial"/>
              </a:rPr>
              <a:t>4) Topologia virtual,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consiste de um grafo formado por nós da rede e caminhos ópticos entre estes nós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9480" y="396252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99"/>
                </a:solidFill>
                <a:latin typeface="Arial"/>
              </a:rPr>
              <a:t>5) Comutação por circuito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, os caminhos ópticos da camada óptica podem ser feitos ou desfeitos de acordo com a demanda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Arial"/>
                <a:ea typeface="Tahoma"/>
              </a:rPr>
              <a:t>Visão Geral dos Sistemas de Comunicação Óptica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Componentes dos sistemas de comunicação óptica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ecanismos limitantes na transmissão da fibra óptica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Vantagens e desvantagens do uso da fibra óptica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762120" y="2819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304920"/>
            <a:ext cx="761976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996633"/>
                </a:solidFill>
                <a:latin typeface="Times New Roman"/>
                <a:ea typeface="Tahoma"/>
              </a:rPr>
              <a:t>Componentes dos sistemas de comunicação óptica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685800" y="2438280"/>
          <a:ext cx="80010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8001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822240" y="1695600"/>
            <a:ext cx="7483680" cy="3561840"/>
            <a:chOff x="822240" y="1695600"/>
            <a:chExt cx="7483680" cy="3561840"/>
          </a:xfrm>
        </p:grpSpPr>
        <p:sp>
          <p:nvSpPr>
            <p:cNvPr id="616" name=""/>
            <p:cNvSpPr/>
            <p:nvPr/>
          </p:nvSpPr>
          <p:spPr>
            <a:xfrm>
              <a:off x="1965960" y="2459160"/>
              <a:ext cx="1100520" cy="75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076120" y="2647440"/>
              <a:ext cx="99036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Modulador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25000" y="4125960"/>
              <a:ext cx="880200" cy="1131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6280" y="4344840"/>
              <a:ext cx="660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Fonte 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óptica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4555440" y="1572480"/>
              <a:ext cx="504000" cy="2426400"/>
            </a:xfrm>
            <a:prstGeom prst="can">
              <a:avLst>
                <a:gd name="adj" fmla="val 12101"/>
              </a:avLst>
            </a:prstGeom>
            <a:solidFill>
              <a:srgbClr val="ffffff"/>
            </a:solidFill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33480" y="2436840"/>
              <a:ext cx="550080" cy="696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512040" y="2266200"/>
              <a:ext cx="880200" cy="1131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45160" y="2511360"/>
              <a:ext cx="7700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Detector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óptico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66840" y="2836080"/>
              <a:ext cx="55008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28920" y="2768040"/>
              <a:ext cx="466200" cy="208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32960" y="1831320"/>
              <a:ext cx="11005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Meio de transmissão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77160" y="3213360"/>
              <a:ext cx="11005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Regenerador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516400" y="3213000"/>
              <a:ext cx="0" cy="9428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0760" y="2753280"/>
              <a:ext cx="466200" cy="2052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526040" y="2835720"/>
              <a:ext cx="466200" cy="2052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05400" y="2261160"/>
              <a:ext cx="1100520" cy="11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Sinal 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elétrico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2240" y="2322720"/>
              <a:ext cx="1100520" cy="11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Sinal 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elétrico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53440" y="1967760"/>
              <a:ext cx="99036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Transmissor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32560" y="1695600"/>
              <a:ext cx="99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663300"/>
                  </a:solidFill>
                  <a:latin typeface="Arial"/>
                </a:rPr>
                <a:t>Receptor</a:t>
              </a:r>
              <a:endParaRPr b="0" lang="en-US" sz="9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Arial"/>
              </a:rPr>
              <a:t>Exemplo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" y="-436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587520"/>
            <a:ext cx="77724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MODALIDADES :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estrado : 1986  ( 87 teses )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Doutorado: 1998 (3a tese defendida 2002)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Especializaçã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971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6633"/>
                </a:solidFill>
                <a:uFillTx/>
                <a:latin typeface="Arial"/>
              </a:rPr>
              <a:t>AVALIAÇÃO CAPES</a:t>
            </a: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 (1998-2001) :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5 (MB)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983040"/>
            <a:ext cx="77724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6633"/>
                </a:solidFill>
                <a:uFillTx/>
                <a:latin typeface="Arial"/>
              </a:rPr>
              <a:t>ÁREAS  CONCENTRAÇÃ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3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SISTEMAS DE ENERGIA ELÉTRICA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TELECOMUNICAÇÕ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663300"/>
                </a:solidFill>
                <a:latin typeface="Arial"/>
              </a:rPr>
              <a:t>COMPUTAÇÃO APLICADA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240" y="-436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838080" y="933480"/>
            <a:ext cx="7696440" cy="59245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095880" y="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996633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990720" y="754200"/>
            <a:ext cx="7619760" cy="55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30556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762120" y="2819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90720" y="30492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996633"/>
                </a:solidFill>
                <a:latin typeface="Times New Roman"/>
                <a:ea typeface="Tahoma"/>
              </a:rPr>
              <a:t>Vantagens do uso da fibra óptic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9810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Baixa Atenuação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4300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Largura de Banda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43000" y="3200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Imunidade à interferência Eletromagnética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43000" y="3809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Baixo</a:t>
            </a: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Times New Roman"/>
              </a:rPr>
              <a:t> </a:t>
            </a: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Peso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3000" y="4495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Pequena Dimensão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19320" y="5257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Sigilo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19320" y="60199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Isolação</a:t>
            </a: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Times New Roman"/>
              </a:rPr>
              <a:t> </a:t>
            </a: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Elétrica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762120" y="2819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1440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996633"/>
                </a:solidFill>
                <a:latin typeface="Times New Roman"/>
                <a:ea typeface="Tahoma"/>
              </a:rPr>
              <a:t>Desvantagens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996633"/>
                </a:solidFill>
                <a:latin typeface="Times New Roman"/>
                <a:ea typeface="Tahoma"/>
              </a:rPr>
              <a:t>do uso da fibra óptic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133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Arial"/>
              </a:rPr>
              <a:t>A utilização da fibra óptica também acarreta algumas desvantagens, entre elas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312408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Arial"/>
              </a:rPr>
              <a:t>Acopladores tipo T com perdas elevadas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3809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Arial"/>
              </a:rPr>
              <a:t>Impossibilidade de alimentação remota.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4419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Arial"/>
              </a:rPr>
              <a:t>Falta de padronização dos componentes.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" y="5029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Arial"/>
              </a:rPr>
              <a:t>Dificuldades de conexão das fibras. </a:t>
            </a:r>
            <a:r>
              <a:rPr b="0" i="1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762120" y="2819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35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22860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996633"/>
                </a:solidFill>
                <a:latin typeface="Times New Roman"/>
                <a:ea typeface="Tahoma"/>
              </a:rPr>
              <a:t>Mecanismo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996633"/>
                </a:solidFill>
                <a:latin typeface="Times New Roman"/>
                <a:ea typeface="Tahoma"/>
              </a:rPr>
              <a:t>limitantes na transmissão da fibra óptica.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3520" y="220968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Atenuação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19520" y="1905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Espalhamento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259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Absorção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3808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Dispersão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5480" y="4267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Times New Roman"/>
              </a:rPr>
              <a:t>Dispersão </a:t>
            </a: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materia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9548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Dispersão moda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5029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663300"/>
                </a:solidFill>
                <a:uFillTx/>
                <a:latin typeface="Times New Roman"/>
              </a:rPr>
              <a:t>Dispersão do guia de onda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5943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Perda por reflexão de Fresnel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857240" y="1290600"/>
            <a:ext cx="542952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77240" cy="57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Arial"/>
              </a:rPr>
              <a:t>PDH: Hierarquia Digital Plesiócrona 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Características: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Sinais plesiócronos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Multiplexação bit-a-bit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Alinhamento de temporização através da justificacão positiva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Um quadro para cada nível de sincronização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O multiplexador não sincroniza o sinal de entrada com o de saída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A relacão de fase entre o quadro e o tributário não é gravada.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Arial"/>
              </a:rPr>
              <a:t>Desvantagens da PDH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Padronização parcial;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Três padrões de estrutura de quadro;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Interfaces de altas taxas não padronizadas;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Interfaces de linha proprietárias;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Funcionalidades de gerência proprietárias;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Pouca capacidade para gerência de rede;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Derivação e inserção de tributários.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238400"/>
            <a:ext cx="77724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CORPO DOCENTE :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18 PROFESSORES (DE)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CORPO DISCENTE :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ESTRADO : 83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DOUTORADO : 37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6633"/>
                </a:solidFill>
                <a:latin typeface="Arial"/>
              </a:rPr>
              <a:t>BOLSAS (CAPES e CNPq)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ESTRADO : 17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DOUTORADO : 8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Arial"/>
              </a:rPr>
              <a:t>Multiplexadores PDH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143000" y="1447920"/>
          <a:ext cx="6629400" cy="24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662940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676520" y="3886200"/>
          <a:ext cx="6629400" cy="28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886200"/>
                    <a:ext cx="66294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2743200" y="3657600"/>
          <a:ext cx="5613480" cy="17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657600"/>
                    <a:ext cx="561348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2057400" y="6477120"/>
          <a:ext cx="5613480" cy="174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6477120"/>
                    <a:ext cx="561348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Arial"/>
              </a:rPr>
              <a:t>SDH-Syncronous Digital Hierarchy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Padrão mundial em redes de transporte padronizado pelo ITU-T;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Soluciona as limitações da PDH;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A tecnologia SDH despontou junto com a rede ATM, como a espinha dorsal para a rede RDSI-FL;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Taxa básica de 155,52 Mbit/s.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Arial"/>
              </a:rPr>
              <a:t>Características do sinal SDH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Técnica de multiplexação com ponteiro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Estrutura modular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Padronização total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Funcionalidades de equipamentos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Mecanismos de proteção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Necessidade de sincronização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Facilidade de derivação e inserção de tributários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Entrelaçamento de byte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Duração dos quadros;</a:t>
            </a:r>
            <a:endParaRPr b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Grande capacidade de gerência de rede</a:t>
            </a:r>
            <a:r>
              <a:rPr b="1" lang="pt-BR" sz="2600" spc="-1" strike="noStrike">
                <a:solidFill>
                  <a:srgbClr val="663300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66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Arial"/>
              </a:rPr>
              <a:t>Diferenças entre PDH e SDH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457200" y="1676520"/>
          <a:ext cx="828504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8504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Arial"/>
              </a:rPr>
              <a:t>Estruturas de quadro SDH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28600" y="1974960"/>
          <a:ext cx="388620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74960"/>
                    <a:ext cx="388620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3809880" y="1447920"/>
          <a:ext cx="5029200" cy="40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1447920"/>
                    <a:ext cx="50292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-838080" y="5181480"/>
          <a:ext cx="5613120" cy="17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838080" y="518148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4419720" y="5638680"/>
          <a:ext cx="4724280" cy="525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5638680"/>
                    <a:ext cx="472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Arial"/>
              </a:rPr>
              <a:t>Camadas de rede SDH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752480" y="1828800"/>
          <a:ext cx="564696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56469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1371600" y="6324480"/>
          <a:ext cx="5613480" cy="26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6324480"/>
                    <a:ext cx="561348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1881360"/>
            <a:ext cx="9144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533520" y="425520"/>
            <a:ext cx="8229600" cy="60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248000" cy="358128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372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914400"/>
            <a:ext cx="7772400" cy="43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996633"/>
                </a:solidFill>
                <a:uFillTx/>
                <a:latin typeface="Arial"/>
              </a:rPr>
              <a:t>CONVÊNIO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BRASIL: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UNICAMP, UFPB,  PUC-RJ, UFBA, UFMA, UFPR, UFMG, USP, UF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EXTERIOR: 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CAPES-COFECUB (UFPA/UFPB/UFBA/ENST- FRANÇA)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INESC - PORTUGA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68686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868686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067280" cy="346716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442908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838080" y="549360"/>
            <a:ext cx="7696440" cy="57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120" y="31237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Arial"/>
              </a:rPr>
              <a:t>Topicos em redes de acesso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996633"/>
                </a:solidFill>
                <a:latin typeface="Arial"/>
              </a:rPr>
              <a:t>WDM - apresent</a:t>
            </a:r>
            <a:endParaRPr b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878040"/>
            <a:ext cx="777240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Arial"/>
              </a:rPr>
              <a:t>PRINCIPAIS 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INANCIADORES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INEP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CNPq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CAP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UNDOS SETORIAI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OGRAMAS REGIONAIS (FUNTEC)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838080"/>
            <a:ext cx="7924680" cy="36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663300"/>
                </a:solidFill>
                <a:latin typeface="Arial"/>
              </a:rPr>
              <a:t>NESC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NÚCLEO DE ENERGIA SISTEMAS E  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COMUNICAÇÃ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21120" y="1690560"/>
          <a:ext cx="152388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1120" y="1690560"/>
                    <a:ext cx="15238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786400" y="4816440"/>
            <a:ext cx="34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Bookman Old Style"/>
              </a:rPr>
              <a:t>Belém – Pará – Brasil 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Bookman Old Style"/>
              </a:rPr>
              <a:t>2002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5280" y="1219320"/>
            <a:ext cx="7162920" cy="52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REDE CELPA/ANEEL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 -  4</a:t>
            </a:r>
            <a:r>
              <a:rPr b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ELETRONORTE /ANEEL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-  6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CEA /ANEEL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- 1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ALBRÁS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- 2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ERICSSON 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(*) - 1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CNPq -  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6 </a:t>
            </a:r>
            <a:r>
              <a:rPr b="1" lang="pt-BR" sz="2000" spc="-1" strike="noStrike">
                <a:solidFill>
                  <a:srgbClr val="663300"/>
                </a:solidFill>
                <a:latin typeface="Arial"/>
              </a:rPr>
              <a:t>(FUNTEL, CTPETRO, UNIVERSAL, PNOPG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663300"/>
                </a:solidFill>
                <a:uFillTx/>
                <a:latin typeface="Arial"/>
              </a:rPr>
              <a:t>CAPES -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4 </a:t>
            </a:r>
            <a:r>
              <a:rPr b="1" lang="pt-BR" sz="2000" spc="-1" strike="noStrike">
                <a:solidFill>
                  <a:srgbClr val="663300"/>
                </a:solidFill>
                <a:latin typeface="Arial"/>
              </a:rPr>
              <a:t>(COFECUB, ICCTI,PROCAD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PARTICIPAÇÃO DE PESQUISADORES EM 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VÁRIOS PROJETOS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ccccc"/>
                </a:solidFill>
                <a:latin typeface="Arial"/>
              </a:rPr>
              <a:t>CNPq - CAPES - FUNTEC - CTPETRO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335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6633"/>
                </a:solidFill>
                <a:uFillTx/>
                <a:latin typeface="Arial"/>
              </a:rPr>
              <a:t>NESC - PROJETOS EM EXECUÇÃ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29528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pt-BR" sz="8000" spc="-1" strike="noStrike">
                <a:solidFill>
                  <a:srgbClr val="996633"/>
                </a:solidFill>
                <a:latin typeface="Arial"/>
              </a:rPr>
              <a:t>Introdução às Redes Ópticas</a:t>
            </a:r>
            <a:endParaRPr b="0" lang="en-US" sz="8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01:38:42Z</dcterms:created>
  <dc:creator>Andrea</dc:creator>
  <dc:description/>
  <dc:language>en-US</dc:language>
  <cp:lastModifiedBy>João Crisóstomo</cp:lastModifiedBy>
  <cp:lastPrinted>1995-12-08T18:33:06Z</cp:lastPrinted>
  <dcterms:modified xsi:type="dcterms:W3CDTF">2004-05-19T21:17:34Z</dcterms:modified>
  <cp:revision>75</cp:revision>
  <dc:subject/>
  <dc:title> Introdução às Redes Ópticas</dc:title>
</cp:coreProperties>
</file>