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docx" ContentType="application/vnd.openxmlformats-officedocument.wordprocessingml.documen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5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68280" y="655308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323E-F9E8-4DC4-8CA8-713E6DB00F42}" type="slidenum">
              <a:rPr b="1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wmf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454040" y="1093680"/>
            <a:ext cx="7286760" cy="22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 </a:t>
            </a:r>
            <a:r>
              <a:rPr b="1" i="1" lang="en-GB" sz="42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Comunicações Ópticas ==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2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 </a:t>
            </a:r>
            <a:r>
              <a:rPr b="1" i="1" lang="en-GB" sz="42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== Presente e Futuro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 </a:t>
            </a:r>
            <a:r>
              <a:rPr b="1" i="1" lang="en-GB" sz="3600" spc="-1" strike="noStrike">
                <a:solidFill>
                  <a:srgbClr val="a50021"/>
                </a:solidFill>
                <a:latin typeface="Book Antiqua"/>
                <a:ea typeface="Times New Roman"/>
              </a:rPr>
              <a:t>Tecnologia, Sistemas &amp; Re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280360" y="6629400"/>
            <a:ext cx="6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mês/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549800" y="3516480"/>
            <a:ext cx="3396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Felipe Rudge Barb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41840" y="3736800"/>
            <a:ext cx="30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Fundação CPq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Campinas S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BRAS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lobe" descr=""/>
          <p:cNvPicPr/>
          <p:nvPr/>
        </p:nvPicPr>
        <p:blipFill>
          <a:blip r:embed="rId2"/>
          <a:stretch/>
        </p:blipFill>
        <p:spPr>
          <a:xfrm>
            <a:off x="0" y="3394080"/>
            <a:ext cx="1447920" cy="155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96960"/>
            <a:ext cx="1450800" cy="37764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252320" y="3385080"/>
            <a:ext cx="1328760" cy="805320"/>
          </a:xfrm>
          <a:prstGeom prst="rect">
            <a:avLst/>
          </a:prstGeom>
          <a:solidFill>
            <a:srgbClr val="ffd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W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cc0099"/>
                </a:solidFill>
                <a:latin typeface="Times New Roman"/>
              </a:rPr>
              <a:t>rou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830000">
            <a:off x="2243880" y="3182040"/>
            <a:ext cx="1790640" cy="81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rot="4770000">
            <a:off x="4838400" y="3575160"/>
            <a:ext cx="1984320" cy="950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524400">
            <a:off x="3287520" y="4354560"/>
            <a:ext cx="2462040" cy="889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24400">
            <a:off x="3561840" y="2509560"/>
            <a:ext cx="1859040" cy="1047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20118000">
            <a:off x="3117600" y="3341520"/>
            <a:ext cx="2517840" cy="9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26080" y="4167360"/>
            <a:ext cx="725400" cy="7999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032560" y="4927320"/>
            <a:ext cx="1530000" cy="1239480"/>
            <a:chOff x="2032560" y="4927320"/>
            <a:chExt cx="1530000" cy="1239480"/>
          </a:xfrm>
        </p:grpSpPr>
        <p:sp>
          <p:nvSpPr>
            <p:cNvPr id="265" name=""/>
            <p:cNvSpPr/>
            <p:nvPr/>
          </p:nvSpPr>
          <p:spPr>
            <a:xfrm rot="966000">
              <a:off x="2070360" y="5160960"/>
              <a:ext cx="270360" cy="312840"/>
            </a:xfrm>
            <a:custGeom>
              <a:avLst/>
              <a:gdLst/>
              <a:ahLst/>
              <a:rect l="l" t="t" r="r" b="b"/>
              <a:pathLst>
                <a:path w="539" h="528">
                  <a:moveTo>
                    <a:pt x="135" y="0"/>
                  </a:moveTo>
                  <a:lnTo>
                    <a:pt x="0" y="263"/>
                  </a:lnTo>
                  <a:lnTo>
                    <a:pt x="135" y="528"/>
                  </a:lnTo>
                  <a:lnTo>
                    <a:pt x="404" y="528"/>
                  </a:lnTo>
                  <a:lnTo>
                    <a:pt x="539" y="263"/>
                  </a:lnTo>
                  <a:lnTo>
                    <a:pt x="404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966000">
              <a:off x="3259440" y="5495760"/>
              <a:ext cx="264600" cy="31464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28" y="266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966000">
              <a:off x="2267280" y="5053680"/>
              <a:ext cx="26640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966000">
              <a:off x="2691000" y="5176080"/>
              <a:ext cx="26640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5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966000">
              <a:off x="3106440" y="5290200"/>
              <a:ext cx="26640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2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966000">
              <a:off x="2180520" y="5354280"/>
              <a:ext cx="26640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3" y="0"/>
                  </a:moveTo>
                  <a:lnTo>
                    <a:pt x="0" y="265"/>
                  </a:lnTo>
                  <a:lnTo>
                    <a:pt x="133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966000">
              <a:off x="2416680" y="5260320"/>
              <a:ext cx="26640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3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3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966000">
              <a:off x="2351520" y="5609880"/>
              <a:ext cx="266040" cy="2908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66000">
              <a:off x="3021120" y="5586120"/>
              <a:ext cx="26640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5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966000">
              <a:off x="2503800" y="4957920"/>
              <a:ext cx="26640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9" y="531"/>
                  </a:lnTo>
                  <a:lnTo>
                    <a:pt x="531" y="266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66000">
              <a:off x="2584800" y="551160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2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966000">
              <a:off x="2869920" y="5378760"/>
              <a:ext cx="26604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2" y="0"/>
                  </a:moveTo>
                  <a:lnTo>
                    <a:pt x="0" y="265"/>
                  </a:lnTo>
                  <a:lnTo>
                    <a:pt x="132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966000">
              <a:off x="2962080" y="5079600"/>
              <a:ext cx="265320" cy="312840"/>
            </a:xfrm>
            <a:custGeom>
              <a:avLst/>
              <a:gdLst/>
              <a:ahLst/>
              <a:rect l="l" t="t" r="r" b="b"/>
              <a:pathLst>
                <a:path w="529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6" y="528"/>
                  </a:lnTo>
                  <a:lnTo>
                    <a:pt x="529" y="265"/>
                  </a:lnTo>
                  <a:lnTo>
                    <a:pt x="396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966000">
              <a:off x="2738880" y="5716440"/>
              <a:ext cx="25668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66000">
              <a:off x="2567160" y="5177160"/>
              <a:ext cx="664200" cy="498600"/>
            </a:xfrm>
            <a:custGeom>
              <a:avLst/>
              <a:gdLst/>
              <a:ahLst/>
              <a:rect l="l" t="t" r="r" b="b"/>
              <a:pathLst>
                <a:path w="1324" h="841">
                  <a:moveTo>
                    <a:pt x="17" y="0"/>
                  </a:moveTo>
                  <a:lnTo>
                    <a:pt x="0" y="21"/>
                  </a:lnTo>
                  <a:lnTo>
                    <a:pt x="1310" y="841"/>
                  </a:lnTo>
                  <a:lnTo>
                    <a:pt x="1324" y="8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966000">
              <a:off x="2379600" y="5138640"/>
              <a:ext cx="663120" cy="456480"/>
            </a:xfrm>
            <a:custGeom>
              <a:avLst/>
              <a:gdLst/>
              <a:ahLst/>
              <a:rect l="l" t="t" r="r" b="b"/>
              <a:pathLst>
                <a:path w="1331" h="770">
                  <a:moveTo>
                    <a:pt x="1331" y="24"/>
                  </a:moveTo>
                  <a:lnTo>
                    <a:pt x="1313" y="0"/>
                  </a:lnTo>
                  <a:lnTo>
                    <a:pt x="0" y="749"/>
                  </a:lnTo>
                  <a:lnTo>
                    <a:pt x="18" y="770"/>
                  </a:lnTo>
                  <a:lnTo>
                    <a:pt x="1331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966000">
              <a:off x="3035520" y="5274720"/>
              <a:ext cx="387720" cy="327240"/>
            </a:xfrm>
            <a:custGeom>
              <a:avLst/>
              <a:gdLst/>
              <a:ahLst/>
              <a:rect l="l" t="t" r="r" b="b"/>
              <a:pathLst>
                <a:path w="773" h="552">
                  <a:moveTo>
                    <a:pt x="15" y="0"/>
                  </a:moveTo>
                  <a:lnTo>
                    <a:pt x="0" y="24"/>
                  </a:lnTo>
                  <a:lnTo>
                    <a:pt x="758" y="552"/>
                  </a:lnTo>
                  <a:lnTo>
                    <a:pt x="773" y="5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966000">
              <a:off x="2325600" y="5272560"/>
              <a:ext cx="62604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966000">
              <a:off x="2619000" y="5076000"/>
              <a:ext cx="45720" cy="5400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966000">
              <a:off x="2787120" y="5285160"/>
              <a:ext cx="74520" cy="81720"/>
            </a:xfrm>
            <a:prstGeom prst="ellipse">
              <a:avLst/>
            </a:prstGeom>
            <a:solidFill>
              <a:srgbClr val="ff66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966000">
              <a:off x="2529360" y="5386320"/>
              <a:ext cx="4572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966000">
              <a:off x="3217320" y="5419800"/>
              <a:ext cx="4608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966000">
              <a:off x="3073320" y="5205600"/>
              <a:ext cx="46800" cy="554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966000">
              <a:off x="2288880" y="5477040"/>
              <a:ext cx="4572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966000">
              <a:off x="2221560" y="5047200"/>
              <a:ext cx="361080" cy="326520"/>
            </a:xfrm>
            <a:custGeom>
              <a:avLst/>
              <a:gdLst/>
              <a:ahLst/>
              <a:rect l="l" t="t" r="r" b="b"/>
              <a:pathLst>
                <a:path w="720" h="551">
                  <a:moveTo>
                    <a:pt x="720" y="24"/>
                  </a:moveTo>
                  <a:lnTo>
                    <a:pt x="705" y="0"/>
                  </a:lnTo>
                  <a:lnTo>
                    <a:pt x="0" y="531"/>
                  </a:lnTo>
                  <a:lnTo>
                    <a:pt x="14" y="551"/>
                  </a:lnTo>
                  <a:lnTo>
                    <a:pt x="720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966000">
              <a:off x="2526120" y="5347080"/>
              <a:ext cx="67068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966000">
              <a:off x="3371400" y="5628240"/>
              <a:ext cx="4608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966000">
              <a:off x="2974680" y="55267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966000">
              <a:off x="3132720" y="573300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966000">
              <a:off x="2695680" y="56401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966000">
              <a:off x="2166480" y="52815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748800">
              <a:off x="2172600" y="5068080"/>
              <a:ext cx="231480" cy="24696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966000">
              <a:off x="2391120" y="51739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102800">
              <a:off x="2068200" y="5335200"/>
              <a:ext cx="246600" cy="21204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187600">
              <a:off x="3234600" y="5409360"/>
              <a:ext cx="284400" cy="20916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1511600">
              <a:off x="3170520" y="5650920"/>
              <a:ext cx="23724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 rot="1137600">
              <a:off x="2657160" y="5051520"/>
              <a:ext cx="457920" cy="116280"/>
            </a:xfrm>
            <a:custGeom>
              <a:avLst/>
              <a:gdLst/>
              <a:ahLst/>
              <a:rect l="l" t="t" r="r" b="b"/>
              <a:pathLst>
                <a:path w="457" h="214">
                  <a:moveTo>
                    <a:pt x="0" y="0"/>
                  </a:moveTo>
                  <a:cubicBezTo>
                    <a:pt x="81" y="103"/>
                    <a:pt x="162" y="206"/>
                    <a:pt x="238" y="210"/>
                  </a:cubicBezTo>
                  <a:cubicBezTo>
                    <a:pt x="314" y="214"/>
                    <a:pt x="420" y="58"/>
                    <a:pt x="457" y="27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966000">
              <a:off x="3221280" y="54259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966000">
              <a:off x="2501640" y="5807160"/>
              <a:ext cx="26604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966000">
              <a:off x="2604960" y="594108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1511600">
              <a:off x="2643840" y="5872680"/>
              <a:ext cx="23724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66000">
              <a:off x="2663280" y="5556960"/>
              <a:ext cx="67068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66000">
              <a:off x="2837880" y="58532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966000">
              <a:off x="2105640" y="5373360"/>
              <a:ext cx="62604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5648600">
              <a:off x="2358720" y="5803920"/>
              <a:ext cx="292680" cy="20556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966000">
              <a:off x="2604960" y="59403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966000">
              <a:off x="2295720" y="5477400"/>
              <a:ext cx="4572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966000">
              <a:off x="3370320" y="56293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966000">
              <a:off x="3138120" y="573768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966000">
              <a:off x="2463840" y="57319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H="1">
            <a:off x="2798640" y="4444920"/>
            <a:ext cx="160560" cy="8683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31960" y="3784680"/>
            <a:ext cx="725760" cy="7999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653800" y="5040360"/>
            <a:ext cx="1526760" cy="1237320"/>
            <a:chOff x="5653800" y="5040360"/>
            <a:chExt cx="1526760" cy="1237320"/>
          </a:xfrm>
        </p:grpSpPr>
        <p:sp>
          <p:nvSpPr>
            <p:cNvPr id="318" name=""/>
            <p:cNvSpPr/>
            <p:nvPr/>
          </p:nvSpPr>
          <p:spPr>
            <a:xfrm flipH="1" rot="20634000">
              <a:off x="6872400" y="5273640"/>
              <a:ext cx="269640" cy="312480"/>
            </a:xfrm>
            <a:custGeom>
              <a:avLst/>
              <a:gdLst/>
              <a:ahLst/>
              <a:rect l="l" t="t" r="r" b="b"/>
              <a:pathLst>
                <a:path w="539" h="528">
                  <a:moveTo>
                    <a:pt x="135" y="0"/>
                  </a:moveTo>
                  <a:lnTo>
                    <a:pt x="0" y="263"/>
                  </a:lnTo>
                  <a:lnTo>
                    <a:pt x="135" y="528"/>
                  </a:lnTo>
                  <a:lnTo>
                    <a:pt x="404" y="528"/>
                  </a:lnTo>
                  <a:lnTo>
                    <a:pt x="539" y="263"/>
                  </a:lnTo>
                  <a:lnTo>
                    <a:pt x="404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rot="20634000">
              <a:off x="5691600" y="5608080"/>
              <a:ext cx="264240" cy="31356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28" y="266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rot="20634000">
              <a:off x="6680520" y="5166720"/>
              <a:ext cx="265680" cy="3124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rot="20634000">
              <a:off x="6257880" y="5288760"/>
              <a:ext cx="265680" cy="3124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5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rot="20634000">
              <a:off x="5842800" y="5402880"/>
              <a:ext cx="265680" cy="3124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2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rot="20634000">
              <a:off x="6767280" y="5466960"/>
              <a:ext cx="265680" cy="31320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3" y="0"/>
                  </a:moveTo>
                  <a:lnTo>
                    <a:pt x="0" y="265"/>
                  </a:lnTo>
                  <a:lnTo>
                    <a:pt x="133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rot="20634000">
              <a:off x="6531480" y="5373000"/>
              <a:ext cx="265680" cy="3124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3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3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rot="20634000">
              <a:off x="6596280" y="5722200"/>
              <a:ext cx="265680" cy="29052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rot="20634000">
              <a:off x="5928120" y="5698080"/>
              <a:ext cx="265680" cy="31392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5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rot="20634000">
              <a:off x="6444000" y="5070960"/>
              <a:ext cx="265680" cy="31392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9" y="531"/>
                  </a:lnTo>
                  <a:lnTo>
                    <a:pt x="531" y="266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rot="20634000">
              <a:off x="6364080" y="5624280"/>
              <a:ext cx="265680" cy="3124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2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rot="20634000">
              <a:off x="6078960" y="5491440"/>
              <a:ext cx="265680" cy="31320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2" y="0"/>
                  </a:moveTo>
                  <a:lnTo>
                    <a:pt x="0" y="265"/>
                  </a:lnTo>
                  <a:lnTo>
                    <a:pt x="132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rot="20634000">
              <a:off x="5988240" y="5192280"/>
              <a:ext cx="264600" cy="312480"/>
            </a:xfrm>
            <a:custGeom>
              <a:avLst/>
              <a:gdLst/>
              <a:ahLst/>
              <a:rect l="l" t="t" r="r" b="b"/>
              <a:pathLst>
                <a:path w="529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6" y="528"/>
                  </a:lnTo>
                  <a:lnTo>
                    <a:pt x="529" y="265"/>
                  </a:lnTo>
                  <a:lnTo>
                    <a:pt x="396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20634000">
              <a:off x="6219360" y="5828400"/>
              <a:ext cx="25596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rot="20634000">
              <a:off x="5983920" y="5290200"/>
              <a:ext cx="662760" cy="497520"/>
            </a:xfrm>
            <a:custGeom>
              <a:avLst/>
              <a:gdLst/>
              <a:ahLst/>
              <a:rect l="l" t="t" r="r" b="b"/>
              <a:pathLst>
                <a:path w="1324" h="841">
                  <a:moveTo>
                    <a:pt x="17" y="0"/>
                  </a:moveTo>
                  <a:lnTo>
                    <a:pt x="0" y="21"/>
                  </a:lnTo>
                  <a:lnTo>
                    <a:pt x="1310" y="841"/>
                  </a:lnTo>
                  <a:lnTo>
                    <a:pt x="1324" y="8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rot="20634000">
              <a:off x="6172560" y="5251680"/>
              <a:ext cx="661680" cy="455760"/>
            </a:xfrm>
            <a:custGeom>
              <a:avLst/>
              <a:gdLst/>
              <a:ahLst/>
              <a:rect l="l" t="t" r="r" b="b"/>
              <a:pathLst>
                <a:path w="1331" h="770">
                  <a:moveTo>
                    <a:pt x="1331" y="24"/>
                  </a:moveTo>
                  <a:lnTo>
                    <a:pt x="1313" y="0"/>
                  </a:lnTo>
                  <a:lnTo>
                    <a:pt x="0" y="749"/>
                  </a:lnTo>
                  <a:lnTo>
                    <a:pt x="18" y="770"/>
                  </a:lnTo>
                  <a:lnTo>
                    <a:pt x="1331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rot="20634000">
              <a:off x="5793120" y="5387400"/>
              <a:ext cx="386640" cy="326520"/>
            </a:xfrm>
            <a:custGeom>
              <a:avLst/>
              <a:gdLst/>
              <a:ahLst/>
              <a:rect l="l" t="t" r="r" b="b"/>
              <a:pathLst>
                <a:path w="773" h="552">
                  <a:moveTo>
                    <a:pt x="15" y="0"/>
                  </a:moveTo>
                  <a:lnTo>
                    <a:pt x="0" y="24"/>
                  </a:lnTo>
                  <a:lnTo>
                    <a:pt x="758" y="552"/>
                  </a:lnTo>
                  <a:lnTo>
                    <a:pt x="773" y="5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rot="20634000">
              <a:off x="6263280" y="5385600"/>
              <a:ext cx="624600" cy="55260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rot="20634000">
              <a:off x="6549840" y="5189040"/>
              <a:ext cx="4536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rot="20634000">
              <a:off x="6352920" y="5398200"/>
              <a:ext cx="74520" cy="82080"/>
            </a:xfrm>
            <a:prstGeom prst="ellipse">
              <a:avLst/>
            </a:prstGeom>
            <a:solidFill>
              <a:srgbClr val="ff66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rot="20634000">
              <a:off x="6639120" y="5498640"/>
              <a:ext cx="4536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20634000">
              <a:off x="5952600" y="5532120"/>
              <a:ext cx="4572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rot="20634000">
              <a:off x="6095880" y="5317920"/>
              <a:ext cx="46800" cy="554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20634000">
              <a:off x="6879240" y="5590080"/>
              <a:ext cx="4536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rot="20634000">
              <a:off x="6630840" y="5160240"/>
              <a:ext cx="360360" cy="326160"/>
            </a:xfrm>
            <a:custGeom>
              <a:avLst/>
              <a:gdLst/>
              <a:ahLst/>
              <a:rect l="l" t="t" r="r" b="b"/>
              <a:pathLst>
                <a:path w="720" h="551">
                  <a:moveTo>
                    <a:pt x="720" y="24"/>
                  </a:moveTo>
                  <a:lnTo>
                    <a:pt x="705" y="0"/>
                  </a:lnTo>
                  <a:lnTo>
                    <a:pt x="0" y="531"/>
                  </a:lnTo>
                  <a:lnTo>
                    <a:pt x="14" y="551"/>
                  </a:lnTo>
                  <a:lnTo>
                    <a:pt x="720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rot="20634000">
              <a:off x="6018120" y="5459760"/>
              <a:ext cx="669240" cy="52560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rot="20634000">
              <a:off x="5798160" y="5740200"/>
              <a:ext cx="4572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rot="20634000">
              <a:off x="6194880" y="56390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rot="20634000">
              <a:off x="6037200" y="584460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rot="20634000">
              <a:off x="6472800" y="57524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rot="20634000">
              <a:off x="7000920" y="53942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rot="20851200">
              <a:off x="6809400" y="5181120"/>
              <a:ext cx="231120" cy="24660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rot="20634000">
              <a:off x="6777360" y="528660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rot="5497200">
              <a:off x="6898680" y="5448960"/>
              <a:ext cx="246240" cy="21132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412400">
              <a:off x="5697000" y="5521680"/>
              <a:ext cx="284040" cy="20880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0088400">
              <a:off x="5808600" y="5763240"/>
              <a:ext cx="236520" cy="23832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 rot="20462400">
              <a:off x="6099840" y="5164560"/>
              <a:ext cx="456840" cy="116640"/>
            </a:xfrm>
            <a:custGeom>
              <a:avLst/>
              <a:gdLst/>
              <a:ahLst/>
              <a:rect l="l" t="t" r="r" b="b"/>
              <a:pathLst>
                <a:path w="457" h="214">
                  <a:moveTo>
                    <a:pt x="0" y="0"/>
                  </a:moveTo>
                  <a:cubicBezTo>
                    <a:pt x="81" y="103"/>
                    <a:pt x="162" y="206"/>
                    <a:pt x="238" y="210"/>
                  </a:cubicBezTo>
                  <a:cubicBezTo>
                    <a:pt x="314" y="214"/>
                    <a:pt x="420" y="58"/>
                    <a:pt x="457" y="27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rot="20634000">
              <a:off x="5948640" y="55382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0634000">
              <a:off x="6446880" y="5919120"/>
              <a:ext cx="265680" cy="29808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rot="20634000">
              <a:off x="6563520" y="60523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rot="10088400">
              <a:off x="6334200" y="5984640"/>
              <a:ext cx="236520" cy="23832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rot="20634000">
              <a:off x="5881320" y="5669280"/>
              <a:ext cx="669240" cy="52560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rot="20634000">
              <a:off x="6331680" y="596520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rot="20634000">
              <a:off x="6482880" y="5486040"/>
              <a:ext cx="624600" cy="55260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rot="5951400">
              <a:off x="6562800" y="5916240"/>
              <a:ext cx="292320" cy="20520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rot="20634000">
              <a:off x="6563520" y="60523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rot="20634000">
              <a:off x="6871680" y="55897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rot="20634000">
              <a:off x="5799960" y="574128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rot="20634000">
              <a:off x="6031800" y="584928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rot="20634000">
              <a:off x="6704640" y="58435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168960" y="4802040"/>
            <a:ext cx="236520" cy="6256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179040" y="2554560"/>
            <a:ext cx="1526760" cy="1172520"/>
            <a:chOff x="6179040" y="2554560"/>
            <a:chExt cx="1526760" cy="1172520"/>
          </a:xfrm>
        </p:grpSpPr>
        <p:sp>
          <p:nvSpPr>
            <p:cNvPr id="370" name=""/>
            <p:cNvSpPr/>
            <p:nvPr/>
          </p:nvSpPr>
          <p:spPr>
            <a:xfrm flipH="1" rot="21127800">
              <a:off x="7415280" y="2833920"/>
              <a:ext cx="269640" cy="312480"/>
            </a:xfrm>
            <a:custGeom>
              <a:avLst/>
              <a:gdLst/>
              <a:ahLst/>
              <a:rect l="l" t="t" r="r" b="b"/>
              <a:pathLst>
                <a:path w="539" h="528">
                  <a:moveTo>
                    <a:pt x="135" y="0"/>
                  </a:moveTo>
                  <a:lnTo>
                    <a:pt x="0" y="263"/>
                  </a:lnTo>
                  <a:lnTo>
                    <a:pt x="135" y="528"/>
                  </a:lnTo>
                  <a:lnTo>
                    <a:pt x="404" y="528"/>
                  </a:lnTo>
                  <a:lnTo>
                    <a:pt x="539" y="263"/>
                  </a:lnTo>
                  <a:lnTo>
                    <a:pt x="404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rot="21127800">
              <a:off x="6198840" y="2995200"/>
              <a:ext cx="264240" cy="31428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28" y="266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rot="21127800">
              <a:off x="7240680" y="2699640"/>
              <a:ext cx="26568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21127800">
              <a:off x="6805080" y="2760120"/>
              <a:ext cx="26568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5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rot="21127800">
              <a:off x="6378480" y="2813400"/>
              <a:ext cx="26568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2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rot="21127800">
              <a:off x="7283160" y="3009600"/>
              <a:ext cx="26568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3" y="0"/>
                  </a:moveTo>
                  <a:lnTo>
                    <a:pt x="0" y="265"/>
                  </a:lnTo>
                  <a:lnTo>
                    <a:pt x="133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rot="21127800">
              <a:off x="7063560" y="2882520"/>
              <a:ext cx="26568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3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3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rot="21127800">
              <a:off x="7080120" y="3238200"/>
              <a:ext cx="265680" cy="2908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rot="21127800">
              <a:off x="6420240" y="3118320"/>
              <a:ext cx="26568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5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21127800">
              <a:off x="7020360" y="2571120"/>
              <a:ext cx="26568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9" y="531"/>
                  </a:lnTo>
                  <a:lnTo>
                    <a:pt x="531" y="266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21127800">
              <a:off x="6862320" y="3107520"/>
              <a:ext cx="26568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2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rot="21127800">
              <a:off x="6598800" y="2934720"/>
              <a:ext cx="26568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2" y="0"/>
                  </a:moveTo>
                  <a:lnTo>
                    <a:pt x="0" y="265"/>
                  </a:lnTo>
                  <a:lnTo>
                    <a:pt x="132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21127800">
              <a:off x="6551280" y="2625840"/>
              <a:ext cx="264600" cy="312480"/>
            </a:xfrm>
            <a:custGeom>
              <a:avLst/>
              <a:gdLst/>
              <a:ahLst/>
              <a:rect l="l" t="t" r="r" b="b"/>
              <a:pathLst>
                <a:path w="529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6" y="528"/>
                  </a:lnTo>
                  <a:lnTo>
                    <a:pt x="529" y="265"/>
                  </a:lnTo>
                  <a:lnTo>
                    <a:pt x="396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rot="21127800">
              <a:off x="6691320" y="3288600"/>
              <a:ext cx="255960" cy="29880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rot="21127800">
              <a:off x="6517440" y="2749320"/>
              <a:ext cx="662760" cy="498600"/>
            </a:xfrm>
            <a:custGeom>
              <a:avLst/>
              <a:gdLst/>
              <a:ahLst/>
              <a:rect l="l" t="t" r="r" b="b"/>
              <a:pathLst>
                <a:path w="1324" h="841">
                  <a:moveTo>
                    <a:pt x="17" y="0"/>
                  </a:moveTo>
                  <a:lnTo>
                    <a:pt x="0" y="21"/>
                  </a:lnTo>
                  <a:lnTo>
                    <a:pt x="1310" y="841"/>
                  </a:lnTo>
                  <a:lnTo>
                    <a:pt x="1324" y="8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rot="21127800">
              <a:off x="6713280" y="2738880"/>
              <a:ext cx="661680" cy="456480"/>
            </a:xfrm>
            <a:custGeom>
              <a:avLst/>
              <a:gdLst/>
              <a:ahLst/>
              <a:rect l="l" t="t" r="r" b="b"/>
              <a:pathLst>
                <a:path w="1331" h="770">
                  <a:moveTo>
                    <a:pt x="1331" y="24"/>
                  </a:moveTo>
                  <a:lnTo>
                    <a:pt x="1313" y="0"/>
                  </a:lnTo>
                  <a:lnTo>
                    <a:pt x="0" y="749"/>
                  </a:lnTo>
                  <a:lnTo>
                    <a:pt x="18" y="770"/>
                  </a:lnTo>
                  <a:lnTo>
                    <a:pt x="1331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rot="21127800">
              <a:off x="6328440" y="2799360"/>
              <a:ext cx="386640" cy="327240"/>
            </a:xfrm>
            <a:custGeom>
              <a:avLst/>
              <a:gdLst/>
              <a:ahLst/>
              <a:rect l="l" t="t" r="r" b="b"/>
              <a:pathLst>
                <a:path w="773" h="552">
                  <a:moveTo>
                    <a:pt x="15" y="0"/>
                  </a:moveTo>
                  <a:lnTo>
                    <a:pt x="0" y="24"/>
                  </a:lnTo>
                  <a:lnTo>
                    <a:pt x="758" y="552"/>
                  </a:lnTo>
                  <a:lnTo>
                    <a:pt x="773" y="5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rot="21127800">
              <a:off x="6776640" y="2881080"/>
              <a:ext cx="62460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rot="21127800">
              <a:off x="7127280" y="2688480"/>
              <a:ext cx="45360" cy="5400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rot="21127800">
              <a:off x="6901200" y="2868840"/>
              <a:ext cx="74520" cy="81720"/>
            </a:xfrm>
            <a:prstGeom prst="ellipse">
              <a:avLst/>
            </a:prstGeom>
            <a:solidFill>
              <a:srgbClr val="ff66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rot="21127800">
              <a:off x="7171560" y="3008160"/>
              <a:ext cx="4536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rot="21127800">
              <a:off x="6487200" y="2942640"/>
              <a:ext cx="4572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rot="21127800">
              <a:off x="6659640" y="2751480"/>
              <a:ext cx="46800" cy="5508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21127800">
              <a:off x="7395840" y="3132720"/>
              <a:ext cx="4536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rot="21127800">
              <a:off x="7191360" y="2692800"/>
              <a:ext cx="360360" cy="326880"/>
            </a:xfrm>
            <a:custGeom>
              <a:avLst/>
              <a:gdLst/>
              <a:ahLst/>
              <a:rect l="l" t="t" r="r" b="b"/>
              <a:pathLst>
                <a:path w="720" h="551">
                  <a:moveTo>
                    <a:pt x="720" y="24"/>
                  </a:moveTo>
                  <a:lnTo>
                    <a:pt x="705" y="0"/>
                  </a:lnTo>
                  <a:lnTo>
                    <a:pt x="0" y="531"/>
                  </a:lnTo>
                  <a:lnTo>
                    <a:pt x="14" y="551"/>
                  </a:lnTo>
                  <a:lnTo>
                    <a:pt x="720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rot="21127800">
              <a:off x="6527160" y="2922840"/>
              <a:ext cx="66924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rot="21127800">
              <a:off x="6305400" y="3126960"/>
              <a:ext cx="4572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rot="21127800">
              <a:off x="6711120" y="308340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21127800">
              <a:off x="6526440" y="32648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rot="21127800">
              <a:off x="6970320" y="323568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rot="21127800">
              <a:off x="7544160" y="295632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rot="21345000">
              <a:off x="7371720" y="2730600"/>
              <a:ext cx="231120" cy="24696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rot="21127800">
              <a:off x="7338240" y="281772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rot="5991000">
              <a:off x="7423560" y="3009600"/>
              <a:ext cx="246600" cy="211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rot="16906200">
              <a:off x="6224760" y="2912760"/>
              <a:ext cx="284400" cy="20844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rot="10582800">
              <a:off x="6298200" y="3163680"/>
              <a:ext cx="23652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 rot="20956200">
              <a:off x="6679080" y="2629440"/>
              <a:ext cx="456840" cy="116640"/>
            </a:xfrm>
            <a:custGeom>
              <a:avLst/>
              <a:gdLst/>
              <a:ahLst/>
              <a:rect l="l" t="t" r="r" b="b"/>
              <a:pathLst>
                <a:path w="457" h="214">
                  <a:moveTo>
                    <a:pt x="0" y="0"/>
                  </a:moveTo>
                  <a:cubicBezTo>
                    <a:pt x="81" y="103"/>
                    <a:pt x="162" y="206"/>
                    <a:pt x="238" y="210"/>
                  </a:cubicBezTo>
                  <a:cubicBezTo>
                    <a:pt x="314" y="214"/>
                    <a:pt x="420" y="58"/>
                    <a:pt x="457" y="27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rot="21127800">
              <a:off x="6482520" y="29480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rot="21127800">
              <a:off x="6902640" y="3411720"/>
              <a:ext cx="26568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rot="21127800">
              <a:off x="7017480" y="354636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rot="10582800">
              <a:off x="6786720" y="3458880"/>
              <a:ext cx="23652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rot="21127800">
              <a:off x="6361560" y="3111120"/>
              <a:ext cx="66924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rot="21127800">
              <a:off x="6800040" y="342612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rot="21127800">
              <a:off x="6980040" y="3012480"/>
              <a:ext cx="62460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rot="6445200">
              <a:off x="7024680" y="3428280"/>
              <a:ext cx="292680" cy="20484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rot="21127800">
              <a:off x="7017120" y="35456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rot="21127800">
              <a:off x="7389000" y="31316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21127800">
              <a:off x="6306120" y="31280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1127800">
              <a:off x="6520320" y="32684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1127800">
              <a:off x="7186680" y="335952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981760" y="2736720"/>
            <a:ext cx="941040" cy="1749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19720" y="2308320"/>
            <a:ext cx="725400" cy="7966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450800" y="2373120"/>
            <a:ext cx="1528200" cy="1172880"/>
            <a:chOff x="1450800" y="2373120"/>
            <a:chExt cx="1528200" cy="1172880"/>
          </a:xfrm>
        </p:grpSpPr>
        <p:sp>
          <p:nvSpPr>
            <p:cNvPr id="423" name=""/>
            <p:cNvSpPr/>
            <p:nvPr/>
          </p:nvSpPr>
          <p:spPr>
            <a:xfrm rot="472200">
              <a:off x="1470600" y="2652480"/>
              <a:ext cx="270000" cy="312840"/>
            </a:xfrm>
            <a:custGeom>
              <a:avLst/>
              <a:gdLst/>
              <a:ahLst/>
              <a:rect l="l" t="t" r="r" b="b"/>
              <a:pathLst>
                <a:path w="539" h="528">
                  <a:moveTo>
                    <a:pt x="135" y="0"/>
                  </a:moveTo>
                  <a:lnTo>
                    <a:pt x="0" y="263"/>
                  </a:lnTo>
                  <a:lnTo>
                    <a:pt x="135" y="528"/>
                  </a:lnTo>
                  <a:lnTo>
                    <a:pt x="404" y="528"/>
                  </a:lnTo>
                  <a:lnTo>
                    <a:pt x="539" y="263"/>
                  </a:lnTo>
                  <a:lnTo>
                    <a:pt x="404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472200">
              <a:off x="2694240" y="2814120"/>
              <a:ext cx="264240" cy="31464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28" y="266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472200">
              <a:off x="1650240" y="251856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472200">
              <a:off x="2086560" y="257904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5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472200">
              <a:off x="2513880" y="263232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2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472200">
              <a:off x="1607040" y="2828520"/>
              <a:ext cx="26604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3" y="0"/>
                  </a:moveTo>
                  <a:lnTo>
                    <a:pt x="0" y="265"/>
                  </a:lnTo>
                  <a:lnTo>
                    <a:pt x="133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472200">
              <a:off x="1827720" y="270144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3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3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472200">
              <a:off x="1811520" y="3057120"/>
              <a:ext cx="266040" cy="2908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472200">
              <a:off x="2471400" y="2937240"/>
              <a:ext cx="26604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5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472200">
              <a:off x="1870200" y="2389680"/>
              <a:ext cx="26604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9" y="531"/>
                  </a:lnTo>
                  <a:lnTo>
                    <a:pt x="531" y="266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472200">
              <a:off x="2029320" y="292644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2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472200">
              <a:off x="2292120" y="2753640"/>
              <a:ext cx="26604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2" y="0"/>
                  </a:moveTo>
                  <a:lnTo>
                    <a:pt x="0" y="265"/>
                  </a:lnTo>
                  <a:lnTo>
                    <a:pt x="132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472200">
              <a:off x="2340720" y="2444760"/>
              <a:ext cx="264960" cy="312840"/>
            </a:xfrm>
            <a:custGeom>
              <a:avLst/>
              <a:gdLst/>
              <a:ahLst/>
              <a:rect l="l" t="t" r="r" b="b"/>
              <a:pathLst>
                <a:path w="529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6" y="528"/>
                  </a:lnTo>
                  <a:lnTo>
                    <a:pt x="529" y="265"/>
                  </a:lnTo>
                  <a:lnTo>
                    <a:pt x="396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472200">
              <a:off x="2210040" y="3107520"/>
              <a:ext cx="25632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472200">
              <a:off x="1975680" y="2568240"/>
              <a:ext cx="663480" cy="498600"/>
            </a:xfrm>
            <a:custGeom>
              <a:avLst/>
              <a:gdLst/>
              <a:ahLst/>
              <a:rect l="l" t="t" r="r" b="b"/>
              <a:pathLst>
                <a:path w="1324" h="841">
                  <a:moveTo>
                    <a:pt x="17" y="0"/>
                  </a:moveTo>
                  <a:lnTo>
                    <a:pt x="0" y="21"/>
                  </a:lnTo>
                  <a:lnTo>
                    <a:pt x="1310" y="841"/>
                  </a:lnTo>
                  <a:lnTo>
                    <a:pt x="1324" y="8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472200">
              <a:off x="1781280" y="2557800"/>
              <a:ext cx="662400" cy="456480"/>
            </a:xfrm>
            <a:custGeom>
              <a:avLst/>
              <a:gdLst/>
              <a:ahLst/>
              <a:rect l="l" t="t" r="r" b="b"/>
              <a:pathLst>
                <a:path w="1331" h="770">
                  <a:moveTo>
                    <a:pt x="1331" y="24"/>
                  </a:moveTo>
                  <a:lnTo>
                    <a:pt x="1313" y="0"/>
                  </a:lnTo>
                  <a:lnTo>
                    <a:pt x="0" y="749"/>
                  </a:lnTo>
                  <a:lnTo>
                    <a:pt x="18" y="770"/>
                  </a:lnTo>
                  <a:lnTo>
                    <a:pt x="1331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472200">
              <a:off x="2441880" y="2618280"/>
              <a:ext cx="387000" cy="327240"/>
            </a:xfrm>
            <a:custGeom>
              <a:avLst/>
              <a:gdLst/>
              <a:ahLst/>
              <a:rect l="l" t="t" r="r" b="b"/>
              <a:pathLst>
                <a:path w="773" h="552">
                  <a:moveTo>
                    <a:pt x="15" y="0"/>
                  </a:moveTo>
                  <a:lnTo>
                    <a:pt x="0" y="24"/>
                  </a:lnTo>
                  <a:lnTo>
                    <a:pt x="758" y="552"/>
                  </a:lnTo>
                  <a:lnTo>
                    <a:pt x="773" y="5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472200">
              <a:off x="1754640" y="2700000"/>
              <a:ext cx="62532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472200">
              <a:off x="1983600" y="2507400"/>
              <a:ext cx="45360" cy="5400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472200">
              <a:off x="2181240" y="2688120"/>
              <a:ext cx="74520" cy="81720"/>
            </a:xfrm>
            <a:prstGeom prst="ellipse">
              <a:avLst/>
            </a:prstGeom>
            <a:solidFill>
              <a:srgbClr val="ff66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472200">
              <a:off x="1939320" y="2827080"/>
              <a:ext cx="4536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472200">
              <a:off x="2624400" y="2761560"/>
              <a:ext cx="4572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472200">
              <a:off x="2450520" y="2570400"/>
              <a:ext cx="46800" cy="554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472200">
              <a:off x="1715040" y="2951640"/>
              <a:ext cx="4536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472200">
              <a:off x="1604880" y="2511720"/>
              <a:ext cx="360720" cy="326520"/>
            </a:xfrm>
            <a:custGeom>
              <a:avLst/>
              <a:gdLst/>
              <a:ahLst/>
              <a:rect l="l" t="t" r="r" b="b"/>
              <a:pathLst>
                <a:path w="720" h="551">
                  <a:moveTo>
                    <a:pt x="720" y="24"/>
                  </a:moveTo>
                  <a:lnTo>
                    <a:pt x="705" y="0"/>
                  </a:lnTo>
                  <a:lnTo>
                    <a:pt x="0" y="531"/>
                  </a:lnTo>
                  <a:lnTo>
                    <a:pt x="14" y="551"/>
                  </a:lnTo>
                  <a:lnTo>
                    <a:pt x="720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472200">
              <a:off x="1960920" y="2741760"/>
              <a:ext cx="66996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472200">
              <a:off x="2806560" y="2945880"/>
              <a:ext cx="4572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472200">
              <a:off x="2400480" y="29023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472200">
              <a:off x="2585520" y="30837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472200">
              <a:off x="2140920" y="305460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472200">
              <a:off x="1566360" y="27752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255000">
              <a:off x="1554120" y="2548800"/>
              <a:ext cx="231480" cy="24696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472200">
              <a:off x="1772640" y="26366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5609000">
              <a:off x="1486080" y="2828160"/>
              <a:ext cx="246600" cy="211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4693800">
              <a:off x="2649240" y="2731320"/>
              <a:ext cx="284400" cy="20880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1017200">
              <a:off x="2623320" y="2982600"/>
              <a:ext cx="23688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 rot="643800">
              <a:off x="2020680" y="2448000"/>
              <a:ext cx="457200" cy="116280"/>
            </a:xfrm>
            <a:custGeom>
              <a:avLst/>
              <a:gdLst/>
              <a:ahLst/>
              <a:rect l="l" t="t" r="r" b="b"/>
              <a:pathLst>
                <a:path w="457" h="214">
                  <a:moveTo>
                    <a:pt x="0" y="0"/>
                  </a:moveTo>
                  <a:cubicBezTo>
                    <a:pt x="81" y="103"/>
                    <a:pt x="162" y="206"/>
                    <a:pt x="238" y="210"/>
                  </a:cubicBezTo>
                  <a:cubicBezTo>
                    <a:pt x="314" y="214"/>
                    <a:pt x="420" y="58"/>
                    <a:pt x="457" y="27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472200">
              <a:off x="2629440" y="27669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472200">
              <a:off x="1988280" y="3230640"/>
              <a:ext cx="26604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472200">
              <a:off x="2093760" y="336528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1017200">
              <a:off x="2134440" y="3277440"/>
              <a:ext cx="23688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472200">
              <a:off x="2126520" y="2930040"/>
              <a:ext cx="66996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472200">
              <a:off x="2311560" y="32450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472200">
              <a:off x="1551240" y="2831400"/>
              <a:ext cx="62532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5154800">
              <a:off x="1839600" y="3246840"/>
              <a:ext cx="292680" cy="20520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472200">
              <a:off x="2094120" y="33645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472200">
              <a:off x="1721880" y="29505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472200">
              <a:off x="2805840" y="29469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472200">
              <a:off x="2591640" y="30873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472200">
              <a:off x="1924560" y="31784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H="1">
            <a:off x="2250000" y="2413080"/>
            <a:ext cx="740160" cy="315720"/>
          </a:xfrm>
          <a:prstGeom prst="line">
            <a:avLst/>
          </a:prstGeom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285320" y="326124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21480" y="555984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72520" y="524232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99400" y="271980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08360" y="45482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cc99"/>
                </a:solidFill>
                <a:latin typeface="Book Antiqu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44480" y="2214720"/>
            <a:ext cx="4885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8f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10000">
                <a:solidFill>
                  <a:srgbClr val="f08f00"/>
                </a:solidFill>
                <a:latin typeface="Book Antiqua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28840" y="1878120"/>
            <a:ext cx="47628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10000">
                <a:solidFill>
                  <a:srgbClr val="000000"/>
                </a:solidFill>
                <a:latin typeface="Book Antiqua"/>
              </a:rPr>
              <a:t>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81440" y="2030400"/>
            <a:ext cx="718920" cy="75420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89120" y="853920"/>
            <a:ext cx="653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Book Antiqua"/>
              </a:rPr>
              <a:t>Interconnections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66"/>
                </a:solidFill>
                <a:uFillTx/>
                <a:latin typeface="Book Antiqua"/>
              </a:rPr>
              <a:t>future</a:t>
            </a:r>
            <a:r>
              <a:rPr b="1" i="1" lang="en-US" sz="2800" spc="-1" strike="noStrike">
                <a:solidFill>
                  <a:srgbClr val="cc0066"/>
                </a:solidFill>
                <a:latin typeface="Book Antiqua"/>
              </a:rPr>
              <a:t> Optical Network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90200" y="27162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80560" y="23814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o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816960" y="57387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o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92600" y="58770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o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9040" y="37591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o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Redes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26880" y="1649520"/>
            <a:ext cx="4245120" cy="3127320"/>
          </a:xfrm>
          <a:prstGeom prst="rect">
            <a:avLst/>
          </a:prstGeom>
          <a:solidFill>
            <a:srgbClr val="eaeaea"/>
          </a:solidFill>
          <a:ln w="12600">
            <a:solidFill>
              <a:srgbClr val="cc0099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97040" y="2035080"/>
            <a:ext cx="293760" cy="297000"/>
          </a:xfrm>
          <a:prstGeom prst="downArrow">
            <a:avLst>
              <a:gd name="adj1" fmla="val 50000"/>
              <a:gd name="adj2" fmla="val 252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41600" y="3728880"/>
            <a:ext cx="2117520" cy="387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SDH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48040" y="2846520"/>
            <a:ext cx="209520" cy="1322280"/>
          </a:xfrm>
          <a:prstGeom prst="downArrow">
            <a:avLst>
              <a:gd name="adj1" fmla="val 50000"/>
              <a:gd name="adj2" fmla="val 1577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58960" y="2036880"/>
            <a:ext cx="156960" cy="1704960"/>
          </a:xfrm>
          <a:prstGeom prst="downArrow">
            <a:avLst>
              <a:gd name="adj1" fmla="val 50000"/>
              <a:gd name="adj2" fmla="val 271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7360" y="1725480"/>
            <a:ext cx="4094280" cy="33984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içs: voz, [dados, Internet, imagem], víde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5480" y="4170240"/>
            <a:ext cx="3667320" cy="46224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0800000"/>
          </a:gradFill>
          <a:ln w="1908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Bookman Old Style"/>
              </a:rPr>
              <a:t>WDM Optical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4800" y="3743280"/>
            <a:ext cx="755640" cy="33984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H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03560" y="3481560"/>
            <a:ext cx="650880" cy="31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PDH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87480" y="3238560"/>
            <a:ext cx="230400" cy="46044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76400" y="3222720"/>
            <a:ext cx="228600" cy="460440"/>
          </a:xfrm>
          <a:prstGeom prst="downArrow">
            <a:avLst>
              <a:gd name="adj1" fmla="val 50000"/>
              <a:gd name="adj2" fmla="val 503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84560" y="2062080"/>
            <a:ext cx="222120" cy="773280"/>
          </a:xfrm>
          <a:prstGeom prst="downArrow">
            <a:avLst>
              <a:gd name="adj1" fmla="val 50000"/>
              <a:gd name="adj2" fmla="val 870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36800" y="2846520"/>
            <a:ext cx="1170000" cy="384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AT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502000" y="2546280"/>
            <a:ext cx="536400" cy="287280"/>
          </a:xfrm>
          <a:custGeom>
            <a:avLst/>
            <a:gdLst/>
            <a:ahLst/>
            <a:rect l="l" t="t" r="r" b="b"/>
            <a:pathLst>
              <a:path w="403" h="221">
                <a:moveTo>
                  <a:pt x="0" y="0"/>
                </a:moveTo>
                <a:lnTo>
                  <a:pt x="403" y="0"/>
                </a:lnTo>
                <a:lnTo>
                  <a:pt x="403" y="22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46440" y="9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21016200">
            <a:off x="1560600" y="2065320"/>
            <a:ext cx="156960" cy="1704960"/>
          </a:xfrm>
          <a:prstGeom prst="downArrow">
            <a:avLst>
              <a:gd name="adj1" fmla="val 50000"/>
              <a:gd name="adj2" fmla="val 2715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97000" y="2343240"/>
            <a:ext cx="1297080" cy="384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IP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87280" y="2832120"/>
            <a:ext cx="1311480" cy="384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Ethernet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0040" y="490212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e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73000" y="987480"/>
            <a:ext cx="739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Transport Evolution Panorama</a:t>
            </a:r>
            <a:r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81480" y="3308400"/>
            <a:ext cx="4719600" cy="3357360"/>
          </a:xfrm>
          <a:prstGeom prst="rect">
            <a:avLst/>
          </a:prstGeom>
          <a:solidFill>
            <a:srgbClr val="ffffcc"/>
          </a:solidFill>
          <a:ln w="19080">
            <a:solidFill>
              <a:srgbClr val="cc0099"/>
            </a:solidFill>
            <a:miter/>
          </a:ln>
          <a:effectLst>
            <a:outerShdw dist="89604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37280" y="3784680"/>
            <a:ext cx="78120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73920" y="4930920"/>
            <a:ext cx="941400" cy="42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402080" y="3446640"/>
            <a:ext cx="4491000" cy="339480"/>
          </a:xfrm>
          <a:prstGeom prst="roundRect">
            <a:avLst>
              <a:gd name="adj" fmla="val 1666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: voice, [data, Internet], digi-vide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68920" y="4246560"/>
            <a:ext cx="1738440" cy="690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Bookman Old Style"/>
              </a:rPr>
              <a:t>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Bookman Old Style"/>
              </a:rPr>
              <a:t>Protocol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165640" y="5375160"/>
            <a:ext cx="2814840" cy="460440"/>
          </a:xfrm>
          <a:prstGeom prst="rect">
            <a:avLst/>
          </a:prstGeom>
          <a:solidFill>
            <a:srgbClr val="ccecff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Bookman Old Style"/>
              </a:rPr>
              <a:t>Optical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638320" y="2824200"/>
            <a:ext cx="26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The </a:t>
            </a: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smart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 futu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37080" y="5843520"/>
            <a:ext cx="4230720" cy="5986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0800000"/>
          </a:gradFill>
          <a:ln w="1908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Bookman Old Style"/>
              </a:rPr>
              <a:t>WDM Optical Network</a:t>
            </a:r>
            <a:r>
              <a:rPr b="1" lang="en-US" sz="24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6680" y="290520"/>
            <a:ext cx="74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Redes Ópticas --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Evolu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873000" y="1114560"/>
            <a:ext cx="7398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Camadas &amp; Chamadas...</a:t>
            </a: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73360" y="2479680"/>
            <a:ext cx="3828960" cy="68256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ccccff"/>
            </a:solidFill>
            <a:miter/>
          </a:ln>
          <a:effectLst>
            <a:outerShdw dist="99192" dir="3018055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9966"/>
                </a:solidFill>
                <a:latin typeface="Times New Roman"/>
              </a:rPr>
              <a:t>Serviç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597040" y="3094200"/>
            <a:ext cx="4013280" cy="814320"/>
          </a:xfrm>
          <a:prstGeom prst="ellipse">
            <a:avLst/>
          </a:prstGeom>
          <a:solidFill>
            <a:srgbClr val="ccecff"/>
          </a:solidFill>
          <a:ln w="57240">
            <a:solidFill>
              <a:srgbClr val="000099"/>
            </a:solidFill>
            <a:miter/>
          </a:ln>
          <a:effectLst>
            <a:outerShdw dist="81185" dir="307803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ransporte  e A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81200" y="4549680"/>
            <a:ext cx="4013280" cy="74628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ff6600"/>
            </a:solidFill>
            <a:miter/>
          </a:ln>
          <a:effectLst>
            <a:outerShdw dist="63504" dir="2216091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Planta Física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rot="18780000">
            <a:off x="1026720" y="3488400"/>
            <a:ext cx="166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Times New Roman"/>
              </a:rPr>
              <a:t>Possi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8780000">
            <a:off x="6798960" y="3602160"/>
            <a:ext cx="1274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Times New Roman"/>
              </a:rPr>
              <a:t>Dema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40160" y="3789360"/>
            <a:ext cx="4105080" cy="8683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10800000"/>
          </a:gradFill>
          <a:ln w="57240">
            <a:solidFill>
              <a:srgbClr val="d80000"/>
            </a:solidFill>
            <a:miter/>
          </a:ln>
          <a:effectLst>
            <a:outerShdw dist="81185" dir="3078030" blurRad="0" rotWithShape="0">
              <a:srgbClr val="ff99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89320" y="3916440"/>
            <a:ext cx="25909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Times New Roman"/>
              </a:rPr>
              <a:t>Rede Óptica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543800" y="2708280"/>
            <a:ext cx="533520" cy="2230560"/>
          </a:xfrm>
          <a:custGeom>
            <a:avLst/>
            <a:gdLst>
              <a:gd name="textAreaLeft" fmla="*/ 71280 w 533520"/>
              <a:gd name="textAreaRight" fmla="*/ 462240 w 533520"/>
              <a:gd name="textAreaTop" fmla="*/ 390240 h 2230560"/>
              <a:gd name="textAreaBottom" fmla="*/ 1617120 h 223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1142640" y="2708280"/>
            <a:ext cx="533520" cy="2230560"/>
          </a:xfrm>
          <a:custGeom>
            <a:avLst/>
            <a:gdLst>
              <a:gd name="textAreaLeft" fmla="*/ 71280 w 533520"/>
              <a:gd name="textAreaRight" fmla="*/ 462240 w 533520"/>
              <a:gd name="textAreaTop" fmla="*/ 390240 h 2230560"/>
              <a:gd name="textAreaBottom" fmla="*/ 1617120 h 223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397320" y="290520"/>
            <a:ext cx="44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Redes Ópticas --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Conceitos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759120" y="3833640"/>
            <a:ext cx="725400" cy="1414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580000" y="4505400"/>
            <a:ext cx="1096920" cy="753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3065400" y="513252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3971880" y="511812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861080" y="511812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748480" y="51213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6635880" y="513720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74960" y="3009960"/>
            <a:ext cx="39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898640" y="413244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14480" y="299412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14480" y="2416320"/>
            <a:ext cx="77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573200" y="4987800"/>
            <a:ext cx="5335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41880" y="507060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530720" y="506088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430280" y="4465800"/>
            <a:ext cx="5335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41880" y="454500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30720" y="453852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430280" y="3870360"/>
            <a:ext cx="533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41880" y="395460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530720" y="39434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430280" y="332100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41880" y="34034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530720" y="33926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430280" y="277488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41880" y="285912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30720" y="284796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30280" y="2203560"/>
            <a:ext cx="533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41880" y="22874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0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30720" y="2276640"/>
            <a:ext cx="27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82800" y="468000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rot="16200000">
            <a:off x="561600" y="4076640"/>
            <a:ext cx="116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enu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rot="16200000">
            <a:off x="1106640" y="336816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16200000">
            <a:off x="1036440" y="3109320"/>
            <a:ext cx="266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6200000">
            <a:off x="947160" y="2689200"/>
            <a:ext cx="44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/km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7516800" y="511812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3635280"/>
            <a:ext cx="380880" cy="180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72040" y="3543480"/>
            <a:ext cx="1800" cy="1681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67280" y="3041640"/>
            <a:ext cx="700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21440" y="3147840"/>
            <a:ext cx="50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25480" y="3803760"/>
            <a:ext cx="157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120 nm </a:t>
            </a: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15 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1889280" y="4413240"/>
            <a:ext cx="5713200" cy="14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572080" y="4192560"/>
            <a:ext cx="1084320" cy="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 flipV="1">
            <a:off x="5029200" y="3026880"/>
            <a:ext cx="519120" cy="1414440"/>
          </a:xfrm>
          <a:prstGeom prst="line">
            <a:avLst/>
          </a:prstGeom>
          <a:ln w="93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6629400" y="2952720"/>
            <a:ext cx="558720" cy="1473120"/>
          </a:xfrm>
          <a:prstGeom prst="line">
            <a:avLst/>
          </a:prstGeom>
          <a:ln w="93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029200" y="2948040"/>
            <a:ext cx="2163600" cy="172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30720" y="2755800"/>
            <a:ext cx="0" cy="19224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02360" y="2755800"/>
            <a:ext cx="0" cy="19224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273640" y="2755800"/>
            <a:ext cx="0" cy="19224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46720" y="2755800"/>
            <a:ext cx="0" cy="19224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45240" y="2755800"/>
            <a:ext cx="0" cy="19224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162920" y="2755800"/>
            <a:ext cx="0" cy="19224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13640" y="2517840"/>
            <a:ext cx="0" cy="19188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84960" y="2608200"/>
            <a:ext cx="253800" cy="0"/>
          </a:xfrm>
          <a:prstGeom prst="line">
            <a:avLst/>
          </a:prstGeom>
          <a:ln w="12600">
            <a:solidFill>
              <a:srgbClr val="00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23000" y="2608200"/>
            <a:ext cx="254160" cy="0"/>
          </a:xfrm>
          <a:prstGeom prst="line">
            <a:avLst/>
          </a:prstGeom>
          <a:ln w="12600">
            <a:solidFill>
              <a:srgbClr val="0099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74360" y="2181240"/>
            <a:ext cx="25336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paçamento dos  canais ópt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6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-100-200 G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98640" y="355284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11680" y="2803680"/>
            <a:ext cx="865440" cy="9360"/>
          </a:xfrm>
          <a:prstGeom prst="line">
            <a:avLst/>
          </a:prstGeom>
          <a:ln w="19080">
            <a:solidFill>
              <a:srgbClr val="00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354720" y="3559320"/>
            <a:ext cx="1800" cy="1681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959800" y="3317760"/>
            <a:ext cx="1050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 +  40 n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2773440"/>
            <a:ext cx="0" cy="19188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934320" y="2773440"/>
            <a:ext cx="0" cy="19188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86600" y="2773440"/>
            <a:ext cx="0" cy="19188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10280" y="2773440"/>
            <a:ext cx="0" cy="19188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45240" y="2508120"/>
            <a:ext cx="0" cy="19224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08200" y="966960"/>
            <a:ext cx="6448320" cy="47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cc0099"/>
                </a:solidFill>
                <a:latin typeface="Times New Roman"/>
              </a:rPr>
              <a:t>Transmissão em Optical Fibers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520040" y="4103640"/>
            <a:ext cx="100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20040" y="3013200"/>
            <a:ext cx="100080" cy="144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543800" y="2419200"/>
            <a:ext cx="77760" cy="1800"/>
          </a:xfrm>
          <a:prstGeom prst="line">
            <a:avLst/>
          </a:prstGeom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520040" y="468324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7620120" y="2325240"/>
            <a:ext cx="0" cy="300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520040" y="3524400"/>
            <a:ext cx="100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82800" y="1946160"/>
            <a:ext cx="5737320" cy="33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49480" y="4683240"/>
            <a:ext cx="55227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201760" y="5126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40040" y="2057400"/>
            <a:ext cx="5573520" cy="2895480"/>
          </a:xfrm>
          <a:custGeom>
            <a:avLst/>
            <a:gdLst/>
            <a:ahLst/>
            <a:rect l="l" t="t" r="r" b="b"/>
            <a:pathLst>
              <a:path w="3550" h="1620">
                <a:moveTo>
                  <a:pt x="0" y="0"/>
                </a:moveTo>
                <a:cubicBezTo>
                  <a:pt x="81" y="111"/>
                  <a:pt x="162" y="223"/>
                  <a:pt x="260" y="330"/>
                </a:cubicBezTo>
                <a:cubicBezTo>
                  <a:pt x="358" y="437"/>
                  <a:pt x="450" y="525"/>
                  <a:pt x="590" y="640"/>
                </a:cubicBezTo>
                <a:cubicBezTo>
                  <a:pt x="730" y="755"/>
                  <a:pt x="933" y="923"/>
                  <a:pt x="1100" y="1020"/>
                </a:cubicBezTo>
                <a:cubicBezTo>
                  <a:pt x="1267" y="1117"/>
                  <a:pt x="1415" y="1160"/>
                  <a:pt x="1590" y="1220"/>
                </a:cubicBezTo>
                <a:cubicBezTo>
                  <a:pt x="1765" y="1280"/>
                  <a:pt x="1972" y="1333"/>
                  <a:pt x="2150" y="1380"/>
                </a:cubicBezTo>
                <a:cubicBezTo>
                  <a:pt x="2328" y="1427"/>
                  <a:pt x="2478" y="1467"/>
                  <a:pt x="2660" y="1500"/>
                </a:cubicBezTo>
                <a:cubicBezTo>
                  <a:pt x="2842" y="1533"/>
                  <a:pt x="3092" y="1560"/>
                  <a:pt x="3240" y="1580"/>
                </a:cubicBezTo>
                <a:cubicBezTo>
                  <a:pt x="3388" y="1600"/>
                  <a:pt x="3500" y="1613"/>
                  <a:pt x="3550" y="1620"/>
                </a:cubicBezTo>
              </a:path>
            </a:pathLst>
          </a:custGeom>
          <a:noFill/>
          <a:ln w="1260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54480" y="352440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Rayle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20080" y="39816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32400" y="31050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300" spc="-1" strike="noStrike">
                <a:solidFill>
                  <a:srgbClr val="a50021"/>
                </a:solidFill>
                <a:latin typeface="Times New Roman"/>
              </a:rPr>
              <a:t>OH</a:t>
            </a: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a50021"/>
                </a:solidFill>
                <a:latin typeface="Times New Roman"/>
              </a:rPr>
              <a:t>-</a:t>
            </a:r>
            <a:r>
              <a:rPr b="0" lang="en-US" sz="1400" spc="-1" strike="noStrike" baseline="30000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528720" y="3162240"/>
            <a:ext cx="889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80 nm </a:t>
            </a:r>
            <a:r>
              <a:rPr b="0" lang="pt-B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13 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35080" y="2147760"/>
            <a:ext cx="5483160" cy="2508480"/>
          </a:xfrm>
          <a:custGeom>
            <a:avLst/>
            <a:gdLst/>
            <a:ahLst/>
            <a:rect l="l" t="t" r="r" b="b"/>
            <a:pathLst>
              <a:path w="3454" h="1618">
                <a:moveTo>
                  <a:pt x="0" y="0"/>
                </a:moveTo>
                <a:lnTo>
                  <a:pt x="309" y="418"/>
                </a:lnTo>
                <a:lnTo>
                  <a:pt x="527" y="654"/>
                </a:lnTo>
                <a:lnTo>
                  <a:pt x="718" y="827"/>
                </a:lnTo>
                <a:lnTo>
                  <a:pt x="900" y="973"/>
                </a:lnTo>
                <a:lnTo>
                  <a:pt x="1081" y="1100"/>
                </a:lnTo>
                <a:lnTo>
                  <a:pt x="1245" y="1191"/>
                </a:lnTo>
                <a:lnTo>
                  <a:pt x="1381" y="1218"/>
                </a:lnTo>
                <a:lnTo>
                  <a:pt x="1472" y="1182"/>
                </a:lnTo>
                <a:lnTo>
                  <a:pt x="1518" y="1118"/>
                </a:lnTo>
                <a:lnTo>
                  <a:pt x="1572" y="982"/>
                </a:lnTo>
                <a:lnTo>
                  <a:pt x="1590" y="836"/>
                </a:lnTo>
                <a:lnTo>
                  <a:pt x="1618" y="782"/>
                </a:lnTo>
                <a:lnTo>
                  <a:pt x="1672" y="827"/>
                </a:lnTo>
                <a:lnTo>
                  <a:pt x="1690" y="909"/>
                </a:lnTo>
                <a:lnTo>
                  <a:pt x="1736" y="1100"/>
                </a:lnTo>
                <a:lnTo>
                  <a:pt x="1799" y="1273"/>
                </a:lnTo>
                <a:lnTo>
                  <a:pt x="1899" y="1391"/>
                </a:lnTo>
                <a:lnTo>
                  <a:pt x="1999" y="1454"/>
                </a:lnTo>
                <a:lnTo>
                  <a:pt x="2190" y="1536"/>
                </a:lnTo>
                <a:lnTo>
                  <a:pt x="2399" y="1582"/>
                </a:lnTo>
                <a:lnTo>
                  <a:pt x="2599" y="1618"/>
                </a:lnTo>
                <a:lnTo>
                  <a:pt x="2754" y="1609"/>
                </a:lnTo>
                <a:lnTo>
                  <a:pt x="2918" y="1563"/>
                </a:lnTo>
                <a:lnTo>
                  <a:pt x="3072" y="1400"/>
                </a:lnTo>
                <a:lnTo>
                  <a:pt x="3199" y="1154"/>
                </a:lnTo>
                <a:lnTo>
                  <a:pt x="3281" y="927"/>
                </a:lnTo>
                <a:lnTo>
                  <a:pt x="3354" y="645"/>
                </a:lnTo>
                <a:lnTo>
                  <a:pt x="3445" y="245"/>
                </a:lnTo>
                <a:lnTo>
                  <a:pt x="3454" y="1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262560" y="2241720"/>
            <a:ext cx="1312920" cy="2971800"/>
          </a:xfrm>
          <a:custGeom>
            <a:avLst/>
            <a:gdLst/>
            <a:ahLst/>
            <a:rect l="l" t="t" r="r" b="b"/>
            <a:pathLst>
              <a:path w="800" h="1882">
                <a:moveTo>
                  <a:pt x="0" y="1882"/>
                </a:moveTo>
                <a:lnTo>
                  <a:pt x="282" y="1591"/>
                </a:lnTo>
                <a:lnTo>
                  <a:pt x="464" y="1300"/>
                </a:lnTo>
                <a:lnTo>
                  <a:pt x="609" y="946"/>
                </a:lnTo>
                <a:lnTo>
                  <a:pt x="700" y="573"/>
                </a:lnTo>
                <a:lnTo>
                  <a:pt x="782" y="173"/>
                </a:lnTo>
                <a:lnTo>
                  <a:pt x="800" y="0"/>
                </a:ln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00640" y="5167440"/>
            <a:ext cx="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067520" y="5160960"/>
            <a:ext cx="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10360" y="5175360"/>
            <a:ext cx="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22600" y="5160960"/>
            <a:ext cx="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62640" y="5494320"/>
            <a:ext cx="36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75240" y="5373720"/>
            <a:ext cx="48240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259760" y="5272200"/>
            <a:ext cx="360" cy="2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250040" y="5373720"/>
            <a:ext cx="48240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54440" y="5240160"/>
            <a:ext cx="36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646520" y="5373720"/>
            <a:ext cx="48240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55880" y="5373720"/>
            <a:ext cx="48240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35360" y="5389560"/>
            <a:ext cx="48240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487840" y="5373720"/>
            <a:ext cx="48240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55880" y="5389560"/>
            <a:ext cx="48240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21280" y="5765760"/>
            <a:ext cx="310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rimento de Onda (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81800" y="4145040"/>
            <a:ext cx="1440" cy="1681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634080" y="4140360"/>
            <a:ext cx="1800" cy="1681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316560" y="3629160"/>
            <a:ext cx="381240" cy="14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697800" y="3552840"/>
            <a:ext cx="1440" cy="168120"/>
          </a:xfrm>
          <a:prstGeom prst="line">
            <a:avLst/>
          </a:prstGeom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67280" y="4016520"/>
            <a:ext cx="1042920" cy="317520"/>
          </a:xfrm>
          <a:custGeom>
            <a:avLst/>
            <a:gdLst/>
            <a:ahLst/>
            <a:rect l="l" t="t" r="r" b="b"/>
            <a:pathLst>
              <a:path w="657" h="200">
                <a:moveTo>
                  <a:pt x="0" y="0"/>
                </a:moveTo>
                <a:cubicBezTo>
                  <a:pt x="36" y="13"/>
                  <a:pt x="73" y="26"/>
                  <a:pt x="124" y="29"/>
                </a:cubicBezTo>
                <a:cubicBezTo>
                  <a:pt x="175" y="32"/>
                  <a:pt x="256" y="18"/>
                  <a:pt x="305" y="19"/>
                </a:cubicBezTo>
                <a:cubicBezTo>
                  <a:pt x="354" y="20"/>
                  <a:pt x="387" y="27"/>
                  <a:pt x="419" y="38"/>
                </a:cubicBezTo>
                <a:cubicBezTo>
                  <a:pt x="451" y="49"/>
                  <a:pt x="465" y="64"/>
                  <a:pt x="495" y="86"/>
                </a:cubicBezTo>
                <a:cubicBezTo>
                  <a:pt x="525" y="108"/>
                  <a:pt x="573" y="153"/>
                  <a:pt x="600" y="172"/>
                </a:cubicBezTo>
                <a:cubicBezTo>
                  <a:pt x="627" y="191"/>
                  <a:pt x="642" y="195"/>
                  <a:pt x="657" y="200"/>
                </a:cubicBezTo>
              </a:path>
            </a:pathLst>
          </a:custGeom>
          <a:noFill/>
          <a:ln w="284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1240" y="1662120"/>
            <a:ext cx="2909880" cy="30312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611440" y="1654200"/>
            <a:ext cx="5024520" cy="314280"/>
          </a:xfrm>
          <a:prstGeom prst="rect">
            <a:avLst/>
          </a:prstGeom>
          <a:gradFill rotWithShape="0">
            <a:gsLst>
              <a:gs pos="0">
                <a:srgbClr val="950000"/>
              </a:gs>
              <a:gs pos="100000">
                <a:srgbClr val="e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Transmission media -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463760" y="1393920"/>
            <a:ext cx="6669000" cy="4133880"/>
          </a:xfrm>
          <a:prstGeom prst="rect">
            <a:avLst/>
          </a:prstGeom>
          <a:solidFill>
            <a:srgbClr val="f8f8f8">
              <a:alpha val="50000"/>
            </a:srgbClr>
          </a:solidFill>
          <a:ln w="50760">
            <a:solidFill>
              <a:srgbClr val="7b0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33680" y="1785960"/>
            <a:ext cx="0" cy="290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09920" y="1785960"/>
            <a:ext cx="0" cy="290052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029200" y="1785960"/>
            <a:ext cx="0" cy="290052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904000" y="1785960"/>
            <a:ext cx="0" cy="290052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219560" y="1785960"/>
            <a:ext cx="0" cy="290052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68360" y="4686480"/>
            <a:ext cx="491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-660960" y="-306000"/>
            <a:ext cx="6389280" cy="3793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00" y="12263"/>
                </a:moveTo>
                <a:arcTo wR="10800" hR="10800" stAng="467193" swAng="4932807"/>
                <a:lnTo>
                  <a:pt x="10800" y="10800"/>
                </a:lnTo>
                <a:close/>
              </a:path>
              <a:path fill="none" w="21600" h="21600">
                <a:moveTo>
                  <a:pt x="21500" y="12263"/>
                </a:moveTo>
                <a:arcTo wR="10800" hR="10800" stAng="467193" swAng="4932807"/>
              </a:path>
            </a:pathLst>
          </a:custGeom>
          <a:noFill/>
          <a:ln cap="rnd"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4280" y="430560"/>
            <a:ext cx="3538800" cy="23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34" y="11989"/>
                </a:moveTo>
                <a:arcTo wR="10800" hR="10800" stAng="379227" swAng="5020773"/>
                <a:lnTo>
                  <a:pt x="10800" y="10800"/>
                </a:lnTo>
                <a:close/>
              </a:path>
              <a:path fill="none" w="21600" h="21600">
                <a:moveTo>
                  <a:pt x="21534" y="11989"/>
                </a:moveTo>
                <a:arcTo wR="10800" hR="10800" stAng="379227" swAng="5020773"/>
              </a:path>
            </a:pathLst>
          </a:custGeom>
          <a:noFill/>
          <a:ln cap="rnd"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08080" y="2517840"/>
            <a:ext cx="56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124360" y="32893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250000" y="40593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536920" y="4199040"/>
            <a:ext cx="224784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59080" y="-147600"/>
            <a:ext cx="3019680" cy="434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71" y="12462"/>
                </a:moveTo>
                <a:arcTo wR="10800" hR="10800" stAng="531081" swAng="4868919"/>
                <a:lnTo>
                  <a:pt x="10800" y="10800"/>
                </a:lnTo>
                <a:close/>
              </a:path>
              <a:path fill="none" w="21600" h="21600">
                <a:moveTo>
                  <a:pt x="21471" y="12462"/>
                </a:moveTo>
                <a:arcTo wR="10800" hR="10800" stAng="531081" swAng="4868919"/>
              </a:path>
            </a:pathLst>
          </a:custGeom>
          <a:noFill/>
          <a:ln cap="rnd"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400480" y="4686480"/>
            <a:ext cx="49543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1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100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Hz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19560" y="1440000"/>
            <a:ext cx="113904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bsor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ttenu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dB/k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900520" y="1798560"/>
            <a:ext cx="941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wis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94360" y="4757760"/>
            <a:ext cx="130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miss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H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36920" y="4549680"/>
            <a:ext cx="5003640" cy="0"/>
          </a:xfrm>
          <a:prstGeom prst="line">
            <a:avLst/>
          </a:prstGeom>
          <a:ln w="31680">
            <a:solidFill>
              <a:srgbClr val="d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641040" y="285588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375800" y="3724200"/>
            <a:ext cx="104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M F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866200" y="4129200"/>
            <a:ext cx="1216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SM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80240" y="1817640"/>
            <a:ext cx="0" cy="2900520"/>
          </a:xfrm>
          <a:prstGeom prst="line">
            <a:avLst/>
          </a:prstGeom>
          <a:ln w="1260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Transmission media -- </a:t>
            </a: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evolução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31720" y="5861160"/>
            <a:ext cx="434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777777"/>
                </a:solidFill>
                <a:latin typeface="Arial"/>
              </a:rPr>
              <a:t>=&gt; diferentes meios podem coexist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- -  Sistemas Ópticos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61" name="oemkt2" descr=""/>
          <p:cNvPicPr/>
          <p:nvPr/>
        </p:nvPicPr>
        <p:blipFill>
          <a:blip r:embed="rId2"/>
          <a:stretch/>
        </p:blipFill>
        <p:spPr>
          <a:xfrm>
            <a:off x="1768320" y="1546200"/>
            <a:ext cx="5761080" cy="435456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798080" y="1779480"/>
            <a:ext cx="965520" cy="42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100" spc="-1" strike="noStrike">
                <a:solidFill>
                  <a:srgbClr val="339933"/>
                </a:solidFill>
                <a:latin typeface="Arial"/>
              </a:rPr>
              <a:t>Multichann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100" spc="-1" strike="noStrike">
                <a:solidFill>
                  <a:srgbClr val="339933"/>
                </a:solidFill>
                <a:latin typeface="Arial"/>
              </a:rPr>
              <a:t>(WD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75480" y="2670120"/>
            <a:ext cx="1081080" cy="428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100" spc="-1" strike="noStrike">
                <a:solidFill>
                  <a:srgbClr val="0066cc"/>
                </a:solidFill>
                <a:latin typeface="Arial"/>
              </a:rPr>
              <a:t>Singlechann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100" spc="-1" strike="noStrike">
                <a:solidFill>
                  <a:srgbClr val="0066cc"/>
                </a:solidFill>
                <a:latin typeface="Arial"/>
              </a:rPr>
              <a:t>(ED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 flipV="1">
            <a:off x="6066000" y="2517840"/>
            <a:ext cx="1358640" cy="21096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28960" y="2189160"/>
            <a:ext cx="879480" cy="596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cc0000"/>
                </a:solidFill>
                <a:latin typeface="Arial"/>
              </a:rPr>
              <a:t>OPTIC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cc0000"/>
                </a:solidFill>
                <a:latin typeface="Arial"/>
              </a:rPr>
              <a:t>FIB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cc0000"/>
                </a:solidFill>
                <a:latin typeface="Arial"/>
              </a:rPr>
              <a:t>SYSTE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55800" y="2181240"/>
            <a:ext cx="1173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672280" y="193824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erabit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275440" y="1986120"/>
            <a:ext cx="823680" cy="1152360"/>
          </a:xfrm>
          <a:prstGeom prst="ellipse">
            <a:avLst/>
          </a:prstGeom>
          <a:noFill/>
          <a:ln w="1260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668320" y="2674800"/>
            <a:ext cx="13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igabit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733840" y="2936880"/>
            <a:ext cx="1172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7840" y="86508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volução Capacid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449520" y="4443480"/>
            <a:ext cx="1795680" cy="428760"/>
          </a:xfrm>
          <a:prstGeom prst="rect">
            <a:avLst/>
          </a:prstGeom>
          <a:solidFill>
            <a:srgbClr val="cc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pt-BR" sz="1100" spc="-1" strike="noStrike">
                <a:solidFill>
                  <a:srgbClr val="cc0000"/>
                </a:solidFill>
                <a:latin typeface="Arial"/>
              </a:rPr>
              <a:t>primeiras linhas telefone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229280" y="4179960"/>
            <a:ext cx="2787480" cy="261360"/>
          </a:xfrm>
          <a:prstGeom prst="rect">
            <a:avLst/>
          </a:prstGeom>
          <a:solidFill>
            <a:srgbClr val="cc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</a:rPr>
              <a:t>multiplex 12 linhas telefone em  par cob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886280" y="3932280"/>
            <a:ext cx="1900440" cy="244440"/>
          </a:xfrm>
          <a:prstGeom prst="rect">
            <a:avLst/>
          </a:prstGeom>
          <a:solidFill>
            <a:srgbClr val="cc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Arial"/>
              </a:rPr>
              <a:t>primeiros sistemas coaxiai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838560" y="2712960"/>
            <a:ext cx="20448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Times New Roman"/>
              </a:rPr>
              <a:t>“</a:t>
            </a:r>
            <a:r>
              <a:rPr b="1" lang="pt-BR" sz="1800" spc="-1" strike="noStrike">
                <a:solidFill>
                  <a:srgbClr val="808080"/>
                </a:solidFill>
                <a:latin typeface="Times New Roman"/>
              </a:rPr>
              <a:t>killer technolog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3586320"/>
            <a:ext cx="1293840" cy="347400"/>
          </a:xfrm>
          <a:prstGeom prst="roundRect">
            <a:avLst>
              <a:gd name="adj" fmla="val 16667"/>
            </a:avLst>
          </a:prstGeom>
          <a:solidFill>
            <a:srgbClr val="cce2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cc0000"/>
                </a:solidFill>
                <a:latin typeface="Arial"/>
              </a:rPr>
              <a:t>sistemas avançad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pt-BR" sz="1100" spc="-1" strike="noStrike">
                <a:solidFill>
                  <a:srgbClr val="cc0000"/>
                </a:solidFill>
                <a:latin typeface="Arial"/>
              </a:rPr>
              <a:t>coaxiais e sateli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932120" y="5977080"/>
            <a:ext cx="63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5f5f5f"/>
                </a:solidFill>
                <a:latin typeface="Bookman Old Style"/>
              </a:rPr>
              <a:t>=&gt; Optical Communication systems represent a </a:t>
            </a:r>
            <a:r>
              <a:rPr b="0" i="1" lang="en-AU" sz="1800" spc="-1" strike="noStrike" u="sng">
                <a:solidFill>
                  <a:srgbClr val="5f5f5f"/>
                </a:solidFill>
                <a:uFillTx/>
                <a:latin typeface="Bookman Old Style"/>
              </a:rPr>
              <a:t>revolution</a:t>
            </a:r>
            <a:r>
              <a:rPr b="0" i="1" lang="en-AU" sz="1800" spc="-1" strike="noStrike">
                <a:solidFill>
                  <a:srgbClr val="5f5f5f"/>
                </a:solidFill>
                <a:latin typeface="Bookman Old Style"/>
              </a:rPr>
              <a:t>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5f5f5f"/>
                </a:solidFill>
                <a:latin typeface="Bookman Old Style"/>
              </a:rPr>
              <a:t>telecomm, </a:t>
            </a:r>
            <a:r>
              <a:rPr b="0" i="1" lang="en-AU" sz="1800" spc="-1" strike="noStrike" u="sng">
                <a:solidFill>
                  <a:srgbClr val="5f5f5f"/>
                </a:solidFill>
                <a:uFillTx/>
                <a:latin typeface="Bookman Old Style"/>
              </a:rPr>
              <a:t>not just an evolution</a:t>
            </a:r>
            <a:r>
              <a:rPr b="0" i="1" lang="en-AU" sz="1800" spc="-1" strike="noStrike">
                <a:solidFill>
                  <a:srgbClr val="5f5f5f"/>
                </a:solidFill>
                <a:latin typeface="Bookman Old Style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716360" y="5587920"/>
            <a:ext cx="24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0" y="200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dwdmgraph1999-prev-err" descr=""/>
          <p:cNvPicPr/>
          <p:nvPr/>
        </p:nvPicPr>
        <p:blipFill>
          <a:blip r:embed="rId2"/>
          <a:stretch/>
        </p:blipFill>
        <p:spPr>
          <a:xfrm>
            <a:off x="442800" y="1562040"/>
            <a:ext cx="3819600" cy="2610000"/>
          </a:xfrm>
          <a:prstGeom prst="rect">
            <a:avLst/>
          </a:prstGeom>
          <a:ln w="19080">
            <a:solidFill>
              <a:srgbClr val="ffcc00"/>
            </a:solidFill>
            <a:prstDash val="sysDot"/>
            <a:miter/>
          </a:ln>
        </p:spPr>
      </p:pic>
      <p:pic>
        <p:nvPicPr>
          <p:cNvPr id="681" name="dwdmgraph2000-realz" descr=""/>
          <p:cNvPicPr/>
          <p:nvPr/>
        </p:nvPicPr>
        <p:blipFill>
          <a:blip r:embed="rId3"/>
          <a:stretch/>
        </p:blipFill>
        <p:spPr>
          <a:xfrm>
            <a:off x="4767120" y="1579680"/>
            <a:ext cx="3897360" cy="23158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682" name=""/>
          <p:cNvSpPr/>
          <p:nvPr/>
        </p:nvSpPr>
        <p:spPr>
          <a:xfrm>
            <a:off x="444600" y="4084560"/>
            <a:ext cx="189828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imes New Roman"/>
              </a:rPr>
              <a:t>Previsões de 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02600" y="3873600"/>
            <a:ext cx="1762200" cy="614520"/>
          </a:xfrm>
          <a:prstGeom prst="rect">
            <a:avLst/>
          </a:prstGeom>
          <a:solidFill>
            <a:srgbClr val="f8f8f8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Times New Roman"/>
              </a:rPr>
              <a:t>Realizado</a:t>
            </a:r>
            <a:r>
              <a:rPr b="1" lang="en-US" sz="1800" spc="-1" strike="noStrike">
                <a:solidFill>
                  <a:srgbClr val="339966"/>
                </a:solidFill>
                <a:latin typeface="Times New Roman"/>
              </a:rPr>
              <a:t> 200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9966"/>
                </a:solidFill>
                <a:latin typeface="Times New Roman"/>
              </a:rPr>
              <a:t>U$ ~ 9 bilh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5920" y="5792760"/>
            <a:ext cx="176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Fon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KMI, 2001;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Pioneer 20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851120" y="2894040"/>
            <a:ext cx="366480" cy="8780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08680" y="252252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imes New Roman"/>
              </a:rPr>
              <a:t>U$ 3,5 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929720" y="1919160"/>
            <a:ext cx="474480" cy="194472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09920" y="2049480"/>
            <a:ext cx="88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Times New Roman"/>
              </a:rPr>
              <a:t>U$ 9 b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2583000" y="3719520"/>
            <a:ext cx="4430520" cy="3029040"/>
            <a:chOff x="2583000" y="3719520"/>
            <a:chExt cx="4430520" cy="3029040"/>
          </a:xfrm>
        </p:grpSpPr>
        <p:pic>
          <p:nvPicPr>
            <p:cNvPr id="690" name="dwdmgraph2000-2-proj" descr=""/>
            <p:cNvPicPr/>
            <p:nvPr/>
          </p:nvPicPr>
          <p:blipFill>
            <a:blip r:embed="rId4">
              <a:alphaModFix amt="50000"/>
            </a:blip>
            <a:stretch/>
          </p:blipFill>
          <p:spPr>
            <a:xfrm>
              <a:off x="2583000" y="3719520"/>
              <a:ext cx="4430520" cy="3029040"/>
            </a:xfrm>
            <a:prstGeom prst="rect">
              <a:avLst/>
            </a:prstGeom>
            <a:ln w="28440">
              <a:solidFill>
                <a:srgbClr val="ff6600"/>
              </a:solidFill>
              <a:miter/>
            </a:ln>
          </p:spPr>
        </p:pic>
        <p:sp>
          <p:nvSpPr>
            <p:cNvPr id="691" name=""/>
            <p:cNvSpPr/>
            <p:nvPr/>
          </p:nvSpPr>
          <p:spPr>
            <a:xfrm>
              <a:off x="4681440" y="5835600"/>
              <a:ext cx="303480" cy="55404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208480" y="5792760"/>
              <a:ext cx="301680" cy="596880"/>
            </a:xfrm>
            <a:prstGeom prst="rect">
              <a:avLst/>
            </a:prstGeom>
            <a:solidFill>
              <a:srgbClr val="dc0000">
                <a:alpha val="50000"/>
              </a:srgbClr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745240" y="5702400"/>
              <a:ext cx="285840" cy="698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34120" y="5564160"/>
              <a:ext cx="328680" cy="8431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64000" y="5956200"/>
              <a:ext cx="385560" cy="754200"/>
            </a:xfrm>
            <a:prstGeom prst="rect">
              <a:avLst/>
            </a:pr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173480" y="5873760"/>
              <a:ext cx="290520" cy="52704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7960" y="917640"/>
            <a:ext cx="8223480" cy="5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cc0000"/>
                </a:solidFill>
                <a:latin typeface="Times New Roman"/>
              </a:rPr>
              <a:t>Optical Systems Expenditures </a:t>
            </a:r>
            <a:r>
              <a:rPr b="0" i="1" lang="pt-BR" sz="2800" spc="-1" strike="noStrike">
                <a:solidFill>
                  <a:srgbClr val="cc0000"/>
                </a:solidFill>
                <a:latin typeface="Times New Roman"/>
              </a:rPr>
              <a:t>(&amp; revenues)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759720" y="4975200"/>
            <a:ext cx="230508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66"/>
                </a:solidFill>
                <a:latin typeface="Times New Roman"/>
              </a:rPr>
              <a:t>Previsões de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d60000"/>
                </a:solidFill>
                <a:latin typeface="Times New Roman"/>
              </a:rPr>
              <a:t>Realizações 2002-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99cc"/>
                </a:solidFill>
                <a:latin typeface="Times New Roman"/>
              </a:rPr>
              <a:t>e Novas Previs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04720" y="1738440"/>
            <a:ext cx="486000" cy="19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786200" y="1720800"/>
            <a:ext cx="576360" cy="179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629400" y="5888160"/>
            <a:ext cx="1182600" cy="274680"/>
          </a:xfrm>
          <a:custGeom>
            <a:avLst/>
            <a:gdLst/>
            <a:ahLst/>
            <a:rect l="l" t="t" r="r" b="b"/>
            <a:pathLst>
              <a:path w="394" h="201">
                <a:moveTo>
                  <a:pt x="394" y="0"/>
                </a:moveTo>
                <a:lnTo>
                  <a:pt x="394" y="201"/>
                </a:lnTo>
                <a:lnTo>
                  <a:pt x="0" y="201"/>
                </a:lnTo>
              </a:path>
            </a:pathLst>
          </a:custGeom>
          <a:noFill/>
          <a:ln w="9360">
            <a:solidFill>
              <a:srgbClr val="0099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1131840" y="4836960"/>
            <a:ext cx="3974760" cy="1287360"/>
            <a:chOff x="1131840" y="4836960"/>
            <a:chExt cx="3974760" cy="1287360"/>
          </a:xfrm>
        </p:grpSpPr>
        <p:sp>
          <p:nvSpPr>
            <p:cNvPr id="703" name=""/>
            <p:cNvSpPr/>
            <p:nvPr/>
          </p:nvSpPr>
          <p:spPr>
            <a:xfrm>
              <a:off x="4097160" y="5445360"/>
              <a:ext cx="1009440" cy="678960"/>
            </a:xfrm>
            <a:prstGeom prst="ellipse">
              <a:avLst/>
            </a:prstGeom>
            <a:noFill/>
            <a:ln w="9360">
              <a:solidFill>
                <a:srgbClr val="e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flipV="1">
              <a:off x="2268360" y="5379480"/>
              <a:ext cx="1882440" cy="248040"/>
            </a:xfrm>
            <a:prstGeom prst="line">
              <a:avLst/>
            </a:prstGeom>
            <a:ln w="9360">
              <a:solidFill>
                <a:srgbClr val="e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131840" y="4836960"/>
              <a:ext cx="1392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60000"/>
                  </a:solidFill>
                  <a:latin typeface="Times New Roman"/>
                  <a:ea typeface="Arial"/>
                </a:rPr>
                <a:t>Prejuíz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60000"/>
                  </a:solidFill>
                  <a:latin typeface="Times New Roman"/>
                  <a:ea typeface="Arial"/>
                </a:rPr>
                <a:t>acumul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60000"/>
                  </a:solidFill>
                  <a:latin typeface="Times New Roman"/>
                  <a:ea typeface="Arial"/>
                </a:rPr>
                <a:t>&gt; U$ 15 bi !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Optical Communications  – </a:t>
            </a: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Economics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Introdução Geral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28360" y="1467000"/>
            <a:ext cx="797076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je os Sistemas Óticos estão estabelecidos como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cc0000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pt-BR" sz="2000" spc="-1" strike="noStrike" u="sng">
                <a:solidFill>
                  <a:srgbClr val="000099"/>
                </a:solidFill>
                <a:uFillTx/>
                <a:latin typeface="Arial"/>
              </a:rPr>
              <a:t>A única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opção para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altíssima capacidade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(Terabits) nas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 u="sng">
                <a:solidFill>
                  <a:srgbClr val="000099"/>
                </a:solidFill>
                <a:uFillTx/>
                <a:latin typeface="Arial"/>
              </a:rPr>
              <a:t>redes longa distancia e metropolitanas tronco;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nas Redes de Acesso ainda há muito debate...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ltíssima confiabilidade e permanênc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Banda passante maior que qualquer outro meio;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menor custo por bit // por assinante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Permitiram o desenvolvimento mundial da Internet, e   </a:t>
            </a: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viabilizaram telecomunicações como uma das maiores </a:t>
            </a: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atividades econômicas do planeta </a:t>
            </a:r>
            <a:r>
              <a:rPr b="0" lang="pt-BR" sz="2000" spc="-1" strike="noStrike">
                <a:solidFill>
                  <a:srgbClr val="666699"/>
                </a:solidFill>
                <a:latin typeface="Arial"/>
              </a:rPr>
              <a:t>(junto com TI )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lembrando sempre que,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808080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a50021"/>
                </a:solidFill>
                <a:latin typeface="Arial"/>
              </a:rPr>
              <a:t>Combinação/composição com outras tecnologias é </a:t>
            </a:r>
            <a:r>
              <a:rPr b="0" i="1" lang="pt-BR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a50021"/>
                </a:solidFill>
                <a:latin typeface="Arial"/>
              </a:rPr>
              <a:t>sempre necessária !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1800" y="849240"/>
            <a:ext cx="33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Síntese inicial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246320" y="1329840"/>
            <a:ext cx="70768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451"/>
              </a:spcAft>
              <a:buClr>
                <a:srgbClr val="0000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3b3ff"/>
                </a:solidFill>
                <a:latin typeface="Lucida Casual"/>
              </a:rPr>
              <a:t>Introdução G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b3b3ff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ff"/>
                </a:solidFill>
                <a:latin typeface="Lucida Casual"/>
              </a:rPr>
              <a:t>evolução histórica; tecnologia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b3b3ff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ff"/>
                </a:solidFill>
                <a:latin typeface="Lucida Casual"/>
              </a:rPr>
              <a:t>aspectos mundiais</a:t>
            </a:r>
            <a:r>
              <a:rPr b="1" lang="en-US" sz="2000" spc="-1" strike="noStrike">
                <a:solidFill>
                  <a:srgbClr val="666699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666699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Lucida Casual"/>
              </a:rPr>
              <a:t> </a:t>
            </a:r>
            <a:r>
              <a:rPr b="1" lang="en-US" sz="2400" spc="-1" strike="noStrike">
                <a:solidFill>
                  <a:srgbClr val="666699"/>
                </a:solidFill>
                <a:latin typeface="Lucida Casual"/>
              </a:rPr>
              <a:t>Bases Tecnológicas </a:t>
            </a:r>
            <a:r>
              <a:rPr b="1" lang="en-US" sz="2400" spc="-1" strike="noStrike">
                <a:solidFill>
                  <a:srgbClr val="666699"/>
                </a:solidFill>
                <a:latin typeface="Lucida Casual"/>
              </a:rPr>
              <a:t>	</a:t>
            </a:r>
            <a:r>
              <a:rPr b="1" lang="en-US" sz="2400" spc="-1" strike="noStrike">
                <a:solidFill>
                  <a:srgbClr val="666699"/>
                </a:solidFill>
                <a:latin typeface="Lucida Casual"/>
              </a:rPr>
              <a:t>	</a:t>
            </a:r>
            <a:r>
              <a:rPr b="1" lang="en-US" sz="2400" spc="-1" strike="noStrike">
                <a:solidFill>
                  <a:srgbClr val="666699"/>
                </a:solidFill>
                <a:latin typeface="Lucida Casual"/>
              </a:rPr>
              <a:t>&gt;&gt;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666699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Lucida Casual"/>
              </a:rPr>
              <a:t>componentes ativos e passivos;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666699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Lucida Casual"/>
              </a:rPr>
              <a:t>amplificadores e roteadore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666699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Lucida Casual"/>
              </a:rPr>
              <a:t> </a:t>
            </a:r>
            <a:r>
              <a:rPr b="1" lang="en-US" sz="2400" spc="-1" strike="noStrike">
                <a:solidFill>
                  <a:srgbClr val="b3b3ff"/>
                </a:solidFill>
                <a:latin typeface="Lucida Casual"/>
              </a:rPr>
              <a:t>Redes Óticas de Transporte e Aces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b3b3ff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ff"/>
                </a:solidFill>
                <a:latin typeface="Lucida Casual"/>
              </a:rPr>
              <a:t>redes WDM (tronco e metro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b3b3ff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3ff"/>
                </a:solidFill>
                <a:latin typeface="Lucida Casual"/>
              </a:rPr>
              <a:t>redes óticas acesso</a:t>
            </a:r>
            <a:r>
              <a:rPr b="1" lang="en-US" sz="2000" spc="-1" strike="noStrike">
                <a:solidFill>
                  <a:srgbClr val="666699"/>
                </a:solidFill>
                <a:latin typeface="Lucida Casual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096920" y="2665440"/>
            <a:ext cx="6737400" cy="29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Introdução Geral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88600" y="1244520"/>
            <a:ext cx="707724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Introdução G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3333cc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tecnologias ópticas &amp; evolução histórica;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-  conceitos &amp; aplicações 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-  aspectos econômico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Bases Tecnológ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componentes ativos e passivos;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amplificadores e roteadore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Lucida Casual"/>
              </a:rPr>
              <a:t>Redes Óticas de Transporte e Aces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des WDM (tronco e metro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des óticas acesso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3333cc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Lucida Casual"/>
              </a:rPr>
              <a:t>redes fotônicas 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17680" y="1768320"/>
            <a:ext cx="6659640" cy="1752840"/>
          </a:xfrm>
          <a:prstGeom prst="rect">
            <a:avLst/>
          </a:prstGeom>
          <a:solidFill>
            <a:srgbClr val="dddd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04920" y="1511280"/>
            <a:ext cx="6659640" cy="1752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12760" y="3711240"/>
            <a:ext cx="339408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ser Semicond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plificador Ó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5f5f5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f5f5f"/>
                </a:solidFill>
                <a:latin typeface="Arial"/>
              </a:rPr>
              <a:t>Sistemas e W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75440" y="3963960"/>
            <a:ext cx="339372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todetor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todetetor A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bra Mono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bra Multi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2381400" y="2282040"/>
            <a:ext cx="4365360" cy="206280"/>
          </a:xfrm>
          <a:custGeom>
            <a:avLst/>
            <a:gdLst/>
            <a:ahLst/>
            <a:rect l="l" t="t" r="r" b="b"/>
            <a:pathLst>
              <a:path w="3000" h="227">
                <a:moveTo>
                  <a:pt x="0" y="27"/>
                </a:moveTo>
                <a:lnTo>
                  <a:pt x="382" y="27"/>
                </a:lnTo>
                <a:lnTo>
                  <a:pt x="636" y="55"/>
                </a:lnTo>
                <a:lnTo>
                  <a:pt x="900" y="164"/>
                </a:lnTo>
                <a:lnTo>
                  <a:pt x="1118" y="209"/>
                </a:lnTo>
                <a:lnTo>
                  <a:pt x="1345" y="200"/>
                </a:lnTo>
                <a:lnTo>
                  <a:pt x="1636" y="45"/>
                </a:lnTo>
                <a:lnTo>
                  <a:pt x="1927" y="0"/>
                </a:lnTo>
                <a:lnTo>
                  <a:pt x="2164" y="45"/>
                </a:lnTo>
                <a:lnTo>
                  <a:pt x="2527" y="209"/>
                </a:lnTo>
                <a:lnTo>
                  <a:pt x="2663" y="227"/>
                </a:lnTo>
                <a:lnTo>
                  <a:pt x="2782" y="191"/>
                </a:lnTo>
                <a:lnTo>
                  <a:pt x="2909" y="91"/>
                </a:lnTo>
                <a:lnTo>
                  <a:pt x="3000" y="82"/>
                </a:ln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6953400" y="1816200"/>
            <a:ext cx="745920" cy="13064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703920" y="2160720"/>
            <a:ext cx="507960" cy="628560"/>
            <a:chOff x="6703920" y="2160720"/>
            <a:chExt cx="507960" cy="628560"/>
          </a:xfrm>
        </p:grpSpPr>
        <p:sp>
          <p:nvSpPr>
            <p:cNvPr id="55" name=""/>
            <p:cNvSpPr/>
            <p:nvPr/>
          </p:nvSpPr>
          <p:spPr>
            <a:xfrm flipH="1">
              <a:off x="6886440" y="2160720"/>
              <a:ext cx="325440" cy="628560"/>
            </a:xfrm>
            <a:prstGeom prst="rect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rot="5400000">
              <a:off x="6768360" y="2313360"/>
              <a:ext cx="172800" cy="30168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 flipH="1">
            <a:off x="6876720" y="179064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69520" y="200016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00480" y="250992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te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52280" y="206064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i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62240" y="1746360"/>
            <a:ext cx="745920" cy="13064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49320" y="2090880"/>
            <a:ext cx="325440" cy="628560"/>
          </a:xfrm>
          <a:prstGeom prst="rect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154960" y="2259720"/>
            <a:ext cx="172800" cy="3013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87000" y="172080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79720" y="19461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i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0320" y="24732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382840" y="1660680"/>
            <a:ext cx="1951200" cy="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936680" y="2135160"/>
            <a:ext cx="351000" cy="3351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14480" y="2500200"/>
            <a:ext cx="92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9933"/>
                </a:solidFill>
                <a:latin typeface="Arial"/>
              </a:rPr>
              <a:t>Amplif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9933"/>
                </a:solidFill>
                <a:latin typeface="Arial"/>
              </a:rPr>
              <a:t>ótico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97600" y="3427560"/>
            <a:ext cx="1950840" cy="0"/>
          </a:xfrm>
          <a:prstGeom prst="line">
            <a:avLst/>
          </a:prstGeom>
          <a:ln w="38160">
            <a:solidFill>
              <a:srgbClr val="0066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ntrodução Geral --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conceitos básicos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11960" y="13953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0520" y="32590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Arial"/>
              </a:rPr>
              <a:t>vo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387440" y="1882440"/>
            <a:ext cx="7191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960 -  Invenção La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962 -  Laser Semicondutor (77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970 -  Laser Semicondutor  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mb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(300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SzPct val="6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970 -  Fibra Óptica (20 dB/k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9933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1973-75 - Laser, Fibras Óticas, Sistemas (no Bras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9933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1980-82 - Laser 1300/1550 e Fibra Monom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9933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9966"/>
                </a:solidFill>
                <a:latin typeface="Arial"/>
              </a:rPr>
              <a:t>1990-92 - Amplificador Ót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9933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9966"/>
                </a:solidFill>
                <a:latin typeface="Arial"/>
              </a:rPr>
              <a:t>1992-94 - Sistemas WDM Longa Dista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9933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9966"/>
                </a:solidFill>
                <a:latin typeface="Arial"/>
              </a:rPr>
              <a:t>1998- Sistemas WDM Metropolitano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339933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9966"/>
                </a:solidFill>
                <a:latin typeface="Arial"/>
              </a:rPr>
              <a:t>2000-2004 - Redes Óticas WDM e Redes Fotônicas</a:t>
            </a:r>
            <a:r>
              <a:rPr b="1" lang="pt-BR" sz="20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92400" y="880920"/>
            <a:ext cx="5948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Histórico </a:t>
            </a:r>
            <a:r>
              <a:rPr b="1" i="1" lang="en-US" sz="2800" spc="-1" strike="noStrike">
                <a:solidFill>
                  <a:srgbClr val="0099cc"/>
                </a:solidFill>
                <a:latin typeface="Arial"/>
              </a:rPr>
              <a:t>Tecnologias Ópticas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Introdução Geral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Introdução Geral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7880" y="1371600"/>
            <a:ext cx="7958160" cy="49831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19160" y="1069920"/>
            <a:ext cx="7645320" cy="5004000"/>
          </a:xfrm>
          <a:prstGeom prst="line">
            <a:avLst/>
          </a:prstGeom>
          <a:ln w="1270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83160" y="4745160"/>
            <a:ext cx="2734200" cy="989640"/>
          </a:xfrm>
          <a:prstGeom prst="ellipse">
            <a:avLst/>
          </a:prstGeom>
          <a:gradFill rotWithShape="0">
            <a:gsLst>
              <a:gs pos="0">
                <a:srgbClr val="00279f"/>
              </a:gs>
              <a:gs pos="100000">
                <a:srgbClr val="7e92c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Curtos comprimen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de o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Fibra multimo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26960" y="3900600"/>
            <a:ext cx="2716200" cy="989640"/>
          </a:xfrm>
          <a:prstGeom prst="ellipse">
            <a:avLst/>
          </a:prstGeom>
          <a:gradFill rotWithShape="0">
            <a:gsLst>
              <a:gs pos="0">
                <a:srgbClr val="00279f"/>
              </a:gs>
              <a:gs pos="100000">
                <a:srgbClr val="4b66b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480" rIns="60480" tIns="30240" bIns="30240" anchor="t">
            <a:spAutoFit/>
          </a:bodyPr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Longos compri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de on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Fibra monomo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22600" y="3112920"/>
            <a:ext cx="2613240" cy="989640"/>
          </a:xfrm>
          <a:prstGeom prst="ellipse">
            <a:avLst/>
          </a:prstGeom>
          <a:gradFill rotWithShape="0">
            <a:gsLst>
              <a:gs pos="0">
                <a:srgbClr val="00279f"/>
              </a:gs>
              <a:gs pos="100000">
                <a:srgbClr val="4b66b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pt-BR" sz="13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Optoeletrônic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alta veloci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pt-BR" sz="1400" spc="-1" strike="noStrike">
                <a:solidFill>
                  <a:srgbClr val="fafd00"/>
                </a:solidFill>
                <a:latin typeface="Times New Roman"/>
              </a:rPr>
              <a:t>Amplificação óp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49840" y="2103480"/>
            <a:ext cx="3009960" cy="1291320"/>
          </a:xfrm>
          <a:prstGeom prst="ellipse">
            <a:avLst/>
          </a:prstGeom>
          <a:gradFill rotWithShape="0">
            <a:gsLst>
              <a:gs pos="0">
                <a:srgbClr val="00279f"/>
              </a:gs>
              <a:gs pos="100000">
                <a:srgbClr val="4b66b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Redes W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Redes Ópticas de Ace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Processamento óp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</a:rPr>
              <a:t>de sina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56520" y="1590840"/>
            <a:ext cx="2192040" cy="773640"/>
          </a:xfrm>
          <a:prstGeom prst="ellipse">
            <a:avLst/>
          </a:prstGeom>
          <a:gradFill rotWithShape="0">
            <a:gsLst>
              <a:gs pos="0">
                <a:srgbClr val="00279f"/>
              </a:gs>
              <a:gs pos="100000">
                <a:srgbClr val="657cc4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480" rIns="60480" tIns="30240" bIns="30240" anchor="t">
            <a:spAutoFit/>
          </a:bodyPr>
          <a:p>
            <a:pPr algn="ctr">
              <a:buClr>
                <a:srgbClr val="fafd00"/>
              </a:buClr>
              <a:buFont typeface="Times New Roman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afd00"/>
                </a:solidFill>
                <a:latin typeface="Times New Roman"/>
              </a:rPr>
              <a:t>Redes Fotôn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88320" y="1611360"/>
            <a:ext cx="259200" cy="3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5488560" y="3988440"/>
            <a:ext cx="533520" cy="328680"/>
          </a:xfrm>
          <a:prstGeom prst="rightArrow">
            <a:avLst>
              <a:gd name="adj1" fmla="val 50000"/>
              <a:gd name="adj2" fmla="val 81169"/>
            </a:avLst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50600" y="5603760"/>
            <a:ext cx="10332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os 70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39280" y="4094280"/>
            <a:ext cx="9738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os 9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6924600" y="3225960"/>
            <a:ext cx="533520" cy="342720"/>
          </a:xfrm>
          <a:prstGeom prst="rightArrow">
            <a:avLst>
              <a:gd name="adj1" fmla="val 50000"/>
              <a:gd name="adj2" fmla="val 77843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06200" y="3359160"/>
            <a:ext cx="9846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-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7760" y="3254400"/>
            <a:ext cx="178452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Redução de Custos de Transmissão 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Aumento Capac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62160" y="2536920"/>
            <a:ext cx="30992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lcance e Flexibiliz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as Redes de Telecomun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55920" y="1362240"/>
            <a:ext cx="27594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i="1" lang="en-US" sz="1800" spc="-1" strike="noStrike">
                <a:solidFill>
                  <a:srgbClr val="7b00e4"/>
                </a:solidFill>
                <a:latin typeface="Times New Roman"/>
              </a:rPr>
              <a:t>Redes Ópticas Faixa-L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i="1" lang="en-US" sz="1800" spc="-1" strike="noStrike">
                <a:solidFill>
                  <a:srgbClr val="7b00e4"/>
                </a:solidFill>
                <a:latin typeface="Times New Roman"/>
              </a:rPr>
              <a:t>Transparentes aos</a:t>
            </a:r>
            <a:br>
              <a:rPr sz="1800"/>
            </a:br>
            <a:r>
              <a:rPr b="1" i="1" lang="en-US" sz="1800" spc="-1" strike="noStrike">
                <a:solidFill>
                  <a:srgbClr val="7b00e4"/>
                </a:solidFill>
                <a:latin typeface="Times New Roman"/>
              </a:rPr>
              <a:t>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2960" y="923760"/>
            <a:ext cx="3225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vol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Sistemas Ópticos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03320" y="4813200"/>
            <a:ext cx="10332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os 80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2880" y="6226200"/>
            <a:ext cx="767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1440" y="5648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167000" y="4757400"/>
            <a:ext cx="533520" cy="343080"/>
          </a:xfrm>
          <a:prstGeom prst="rightArrow">
            <a:avLst>
              <a:gd name="adj1" fmla="val 50000"/>
              <a:gd name="adj2" fmla="val 77761"/>
            </a:avLst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2957400" y="5576400"/>
            <a:ext cx="533160" cy="342720"/>
          </a:xfrm>
          <a:prstGeom prst="rightArrow">
            <a:avLst>
              <a:gd name="adj1" fmla="val 50000"/>
              <a:gd name="adj2" fmla="val 77791"/>
            </a:avLst>
          </a:prstGeom>
          <a:solidFill>
            <a:srgbClr val="00dfc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12880" y="2031480"/>
            <a:ext cx="0" cy="419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Histórico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14720" y="4994280"/>
            <a:ext cx="281628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1200" y="5207040"/>
            <a:ext cx="2815920" cy="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6480" y="5226120"/>
            <a:ext cx="248940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pt-BR" sz="2200" spc="-1" strike="noStrike">
                <a:solidFill>
                  <a:srgbClr val="cc0099"/>
                </a:solidFill>
                <a:latin typeface="Times New Roman"/>
              </a:rPr>
              <a:t>cada fi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cc0099"/>
                </a:solidFill>
                <a:latin typeface="Times New Roman"/>
              </a:rPr>
              <a:t>muitos lambdas</a:t>
            </a:r>
            <a:r>
              <a:rPr b="0" lang="pt-BR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66ff"/>
                </a:solidFill>
                <a:latin typeface="Times New Roman"/>
              </a:rPr>
              <a:t>(todos amplificad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915160" y="1946160"/>
          <a:ext cx="1244520" cy="10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15160" y="1946160"/>
                    <a:ext cx="12445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762520" y="4248000"/>
          <a:ext cx="1320840" cy="115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62520" y="4248000"/>
                    <a:ext cx="132084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982880" y="2098800"/>
          <a:ext cx="1138320" cy="939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82880" y="2098800"/>
                    <a:ext cx="113832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844560" y="2251080"/>
            <a:ext cx="1220760" cy="686880"/>
            <a:chOff x="844560" y="2251080"/>
            <a:chExt cx="1220760" cy="686880"/>
          </a:xfrm>
        </p:grpSpPr>
        <p:sp>
          <p:nvSpPr>
            <p:cNvPr id="118" name=""/>
            <p:cNvSpPr/>
            <p:nvPr/>
          </p:nvSpPr>
          <p:spPr>
            <a:xfrm flipV="1">
              <a:off x="1301760" y="2456640"/>
              <a:ext cx="687240" cy="275400"/>
            </a:xfrm>
            <a:custGeom>
              <a:avLst/>
              <a:gdLst/>
              <a:ahLst/>
              <a:rect l="l" t="t" r="r" b="b"/>
              <a:pathLst>
                <a:path w="433" h="193">
                  <a:moveTo>
                    <a:pt x="0" y="0"/>
                  </a:moveTo>
                  <a:lnTo>
                    <a:pt x="216" y="0"/>
                  </a:lnTo>
                  <a:lnTo>
                    <a:pt x="216" y="192"/>
                  </a:lnTo>
                  <a:lnTo>
                    <a:pt x="432" y="192"/>
                  </a:lnTo>
                </a:path>
              </a:pathLst>
            </a:custGeom>
            <a:noFill/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844560" y="2593800"/>
              <a:ext cx="1220760" cy="343800"/>
            </a:xfrm>
            <a:custGeom>
              <a:avLst/>
              <a:gdLst/>
              <a:ahLst/>
              <a:rect l="l" t="t" r="r" b="b"/>
              <a:pathLst>
                <a:path w="769" h="241">
                  <a:moveTo>
                    <a:pt x="0" y="0"/>
                  </a:moveTo>
                  <a:lnTo>
                    <a:pt x="384" y="0"/>
                  </a:lnTo>
                  <a:lnTo>
                    <a:pt x="384" y="240"/>
                  </a:lnTo>
                  <a:lnTo>
                    <a:pt x="768" y="240"/>
                  </a:lnTo>
                </a:path>
              </a:pathLst>
            </a:custGeom>
            <a:noFill/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149480" y="2250720"/>
              <a:ext cx="839520" cy="275400"/>
            </a:xfrm>
            <a:custGeom>
              <a:avLst/>
              <a:gdLst/>
              <a:ahLst/>
              <a:rect l="l" t="t" r="r" b="b"/>
              <a:pathLst>
                <a:path w="529" h="193">
                  <a:moveTo>
                    <a:pt x="0" y="192"/>
                  </a:moveTo>
                  <a:lnTo>
                    <a:pt x="264" y="192"/>
                  </a:lnTo>
                  <a:lnTo>
                    <a:pt x="264" y="0"/>
                  </a:lnTo>
                  <a:lnTo>
                    <a:pt x="528" y="0"/>
                  </a:lnTo>
                </a:path>
              </a:pathLst>
            </a:custGeom>
            <a:noFill/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058160" y="1946160"/>
            <a:ext cx="1220760" cy="915840"/>
            <a:chOff x="7058160" y="1946160"/>
            <a:chExt cx="1220760" cy="915840"/>
          </a:xfrm>
        </p:grpSpPr>
        <p:sp>
          <p:nvSpPr>
            <p:cNvPr id="122" name=""/>
            <p:cNvSpPr/>
            <p:nvPr/>
          </p:nvSpPr>
          <p:spPr>
            <a:xfrm>
              <a:off x="7134480" y="2220120"/>
              <a:ext cx="687240" cy="367560"/>
            </a:xfrm>
            <a:custGeom>
              <a:avLst/>
              <a:gdLst/>
              <a:ahLst/>
              <a:rect l="l" t="t" r="r" b="b"/>
              <a:pathLst>
                <a:path w="433" h="193">
                  <a:moveTo>
                    <a:pt x="432" y="0"/>
                  </a:moveTo>
                  <a:lnTo>
                    <a:pt x="216" y="0"/>
                  </a:lnTo>
                  <a:lnTo>
                    <a:pt x="216" y="192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58160" y="1946160"/>
              <a:ext cx="1220760" cy="458640"/>
            </a:xfrm>
            <a:custGeom>
              <a:avLst/>
              <a:gdLst/>
              <a:ahLst/>
              <a:rect l="l" t="t" r="r" b="b"/>
              <a:pathLst>
                <a:path w="769" h="241">
                  <a:moveTo>
                    <a:pt x="768" y="0"/>
                  </a:moveTo>
                  <a:lnTo>
                    <a:pt x="384" y="0"/>
                  </a:lnTo>
                  <a:lnTo>
                    <a:pt x="384" y="240"/>
                  </a:lnTo>
                  <a:lnTo>
                    <a:pt x="0" y="240"/>
                  </a:lnTo>
                </a:path>
              </a:pathLst>
            </a:custGeom>
            <a:noFill/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4480" y="2494440"/>
              <a:ext cx="839880" cy="367560"/>
            </a:xfrm>
            <a:custGeom>
              <a:avLst/>
              <a:gdLst/>
              <a:ahLst/>
              <a:rect l="l" t="t" r="r" b="b"/>
              <a:pathLst>
                <a:path w="529" h="193">
                  <a:moveTo>
                    <a:pt x="528" y="192"/>
                  </a:moveTo>
                  <a:lnTo>
                    <a:pt x="264" y="192"/>
                  </a:lnTo>
                  <a:lnTo>
                    <a:pt x="264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022560" y="2541600"/>
            <a:ext cx="2946600" cy="0"/>
          </a:xfrm>
          <a:prstGeom prst="line">
            <a:avLst/>
          </a:prstGeom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92680" y="2540160"/>
            <a:ext cx="403200" cy="18540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3080" y="2540160"/>
            <a:ext cx="401760" cy="18540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33840" y="2540160"/>
            <a:ext cx="401760" cy="18540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10280" y="2098800"/>
            <a:ext cx="186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3366ff"/>
                </a:solidFill>
                <a:latin typeface="Times New Roman"/>
              </a:rPr>
              <a:t>muitas 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fib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17440" y="3774960"/>
            <a:ext cx="6855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0720" y="2311560"/>
            <a:ext cx="74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e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19560" y="1946160"/>
            <a:ext cx="74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me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81840" y="4638600"/>
            <a:ext cx="1890720" cy="1216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7b00e4"/>
                </a:solidFill>
                <a:latin typeface="Times New Roman"/>
              </a:rPr>
              <a:t>Rede A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7b00e4"/>
                </a:solidFill>
                <a:latin typeface="Times New Roman"/>
              </a:rPr>
              <a:t>Multiservi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06840" y="3451320"/>
            <a:ext cx="1758960" cy="701640"/>
          </a:xfrm>
          <a:prstGeom prst="downArrow">
            <a:avLst>
              <a:gd name="adj1" fmla="val 50000"/>
              <a:gd name="adj2" fmla="val 25019"/>
            </a:avLst>
          </a:prstGeom>
          <a:solidFill>
            <a:srgbClr val="f4f4f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47920" y="5067360"/>
            <a:ext cx="2514600" cy="1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47920" y="5145120"/>
            <a:ext cx="25146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52840" y="4537080"/>
            <a:ext cx="17046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66ff"/>
                </a:solidFill>
                <a:latin typeface="Times New Roman"/>
              </a:rPr>
              <a:t>muitas fib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67640" y="2405160"/>
            <a:ext cx="1204920" cy="6001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Times New Roman"/>
              </a:rPr>
              <a:t>telef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5480" y="2784600"/>
            <a:ext cx="1204920" cy="60012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777777"/>
                </a:solidFill>
                <a:latin typeface="Times New Roman"/>
              </a:rPr>
              <a:t>telef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7520" y="4791240"/>
            <a:ext cx="1890720" cy="1215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7b00e4"/>
                </a:solidFill>
                <a:latin typeface="Times New Roman"/>
              </a:rPr>
              <a:t>Rede Ac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7b00e4"/>
                </a:solidFill>
                <a:latin typeface="Times New Roman"/>
              </a:rPr>
              <a:t>Multiservi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35160" y="4537080"/>
          <a:ext cx="1138320" cy="93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35160" y="4537080"/>
                    <a:ext cx="11383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 rot="5400000">
            <a:off x="3438000" y="495612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5190840" y="49561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362400" y="2373480"/>
            <a:ext cx="349200" cy="502920"/>
            <a:chOff x="3362400" y="2373480"/>
            <a:chExt cx="349200" cy="502920"/>
          </a:xfrm>
        </p:grpSpPr>
        <p:sp>
          <p:nvSpPr>
            <p:cNvPr id="146" name=""/>
            <p:cNvSpPr/>
            <p:nvPr/>
          </p:nvSpPr>
          <p:spPr>
            <a:xfrm>
              <a:off x="3416040" y="2373480"/>
              <a:ext cx="243000" cy="502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2400" y="2752560"/>
              <a:ext cx="349200" cy="120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249880" y="2357280"/>
            <a:ext cx="349200" cy="503280"/>
            <a:chOff x="5249880" y="2357280"/>
            <a:chExt cx="349200" cy="503280"/>
          </a:xfrm>
        </p:grpSpPr>
        <p:sp>
          <p:nvSpPr>
            <p:cNvPr id="149" name=""/>
            <p:cNvSpPr/>
            <p:nvPr/>
          </p:nvSpPr>
          <p:spPr>
            <a:xfrm>
              <a:off x="5303520" y="2357280"/>
              <a:ext cx="243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49880" y="2736720"/>
              <a:ext cx="349200" cy="120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45440" y="27716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ener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122800" y="2920680"/>
            <a:ext cx="18252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614400" y="2920680"/>
            <a:ext cx="18252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00920" y="3267000"/>
            <a:ext cx="1587600" cy="82260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1R = potenc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2R = + atra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asual"/>
              </a:rPr>
              <a:t>3R = + f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1109520"/>
            <a:ext cx="4896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volução Sistemas Óptico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21840" y="3173400"/>
            <a:ext cx="10332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os 80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75880" y="4029120"/>
            <a:ext cx="10332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3840"/>
                <a:tab algn="l" pos="787320"/>
                <a:tab algn="l" pos="1181160"/>
                <a:tab algn="l" pos="1574640"/>
                <a:tab algn="l" pos="1968480"/>
                <a:tab algn="l" pos="236232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os 90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91200" y="92880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volução Capacid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954600" y="1974960"/>
          <a:ext cx="4994280" cy="3192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4600" y="1974960"/>
                    <a:ext cx="499428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06520" y="4240080"/>
          <a:ext cx="3587760" cy="23907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6520" y="4240080"/>
                    <a:ext cx="358776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995400" y="1994040"/>
          <a:ext cx="2670120" cy="19904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95400" y="1994040"/>
                    <a:ext cx="267012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istemas Ópticos 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85680" y="971640"/>
            <a:ext cx="369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cc"/>
                </a:solidFill>
                <a:latin typeface="Times New Roman"/>
              </a:rPr>
              <a:t>Natureza &amp; Extens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WDM-prod_map1" descr=""/>
          <p:cNvPicPr/>
          <p:nvPr/>
        </p:nvPicPr>
        <p:blipFill>
          <a:blip r:embed="rId2"/>
          <a:stretch/>
        </p:blipFill>
        <p:spPr>
          <a:xfrm>
            <a:off x="1347840" y="1482840"/>
            <a:ext cx="6097680" cy="4940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666960" y="4222800"/>
            <a:ext cx="1206720" cy="841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56080" y="4043520"/>
            <a:ext cx="1752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Longa Distanci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5175360" y="3048120"/>
            <a:ext cx="888840" cy="460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53120" y="2104920"/>
            <a:ext cx="841320" cy="41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270400" y="2997360"/>
            <a:ext cx="77940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65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Metr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00640" y="2133720"/>
            <a:ext cx="81288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65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</a:rPr>
              <a:t>Acess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397320" y="290520"/>
            <a:ext cx="44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Redes Ópticas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Redes 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499080" y="1031760"/>
            <a:ext cx="497880" cy="2466360"/>
            <a:chOff x="6499080" y="1031760"/>
            <a:chExt cx="497880" cy="2466360"/>
          </a:xfrm>
        </p:grpSpPr>
        <p:sp>
          <p:nvSpPr>
            <p:cNvPr id="179" name=""/>
            <p:cNvSpPr/>
            <p:nvPr/>
          </p:nvSpPr>
          <p:spPr>
            <a:xfrm>
              <a:off x="6499440" y="2266920"/>
              <a:ext cx="497520" cy="123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499080" y="1031400"/>
              <a:ext cx="497520" cy="123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683520" y="1014840"/>
            <a:ext cx="2615400" cy="3155760"/>
            <a:chOff x="3683520" y="1014840"/>
            <a:chExt cx="2615400" cy="3155760"/>
          </a:xfrm>
        </p:grpSpPr>
        <p:sp>
          <p:nvSpPr>
            <p:cNvPr id="182" name=""/>
            <p:cNvSpPr/>
            <p:nvPr/>
          </p:nvSpPr>
          <p:spPr>
            <a:xfrm flipH="1">
              <a:off x="3683520" y="2594880"/>
              <a:ext cx="2615040" cy="157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683880" y="1014120"/>
              <a:ext cx="2615040" cy="157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418440" y="1185840"/>
            <a:ext cx="482040" cy="2357280"/>
            <a:chOff x="6418440" y="1185840"/>
            <a:chExt cx="482040" cy="2357280"/>
          </a:xfrm>
        </p:grpSpPr>
        <p:sp>
          <p:nvSpPr>
            <p:cNvPr id="185" name=""/>
            <p:cNvSpPr/>
            <p:nvPr/>
          </p:nvSpPr>
          <p:spPr>
            <a:xfrm>
              <a:off x="6418800" y="2366280"/>
              <a:ext cx="481680" cy="117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6418440" y="1185480"/>
              <a:ext cx="481680" cy="11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583520" y="2558880"/>
            <a:ext cx="1904760" cy="3500640"/>
            <a:chOff x="4583520" y="2558880"/>
            <a:chExt cx="1904760" cy="3500640"/>
          </a:xfrm>
        </p:grpSpPr>
        <p:sp>
          <p:nvSpPr>
            <p:cNvPr id="188" name=""/>
            <p:cNvSpPr/>
            <p:nvPr/>
          </p:nvSpPr>
          <p:spPr>
            <a:xfrm flipH="1">
              <a:off x="4583520" y="4311720"/>
              <a:ext cx="1904400" cy="174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83880" y="2558520"/>
              <a:ext cx="190440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267920" y="2368440"/>
            <a:ext cx="3196800" cy="990360"/>
            <a:chOff x="1267920" y="2368440"/>
            <a:chExt cx="3196800" cy="990360"/>
          </a:xfrm>
        </p:grpSpPr>
        <p:sp>
          <p:nvSpPr>
            <p:cNvPr id="191" name=""/>
            <p:cNvSpPr/>
            <p:nvPr/>
          </p:nvSpPr>
          <p:spPr>
            <a:xfrm flipH="1" rot="16200000">
              <a:off x="3171240" y="2065680"/>
              <a:ext cx="990000" cy="159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 rot="16200000">
              <a:off x="1572840" y="2063160"/>
              <a:ext cx="990000" cy="160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416240" y="2455920"/>
            <a:ext cx="2737440" cy="965880"/>
            <a:chOff x="1416240" y="2455920"/>
            <a:chExt cx="2737440" cy="965880"/>
          </a:xfrm>
        </p:grpSpPr>
        <p:sp>
          <p:nvSpPr>
            <p:cNvPr id="194" name=""/>
            <p:cNvSpPr/>
            <p:nvPr/>
          </p:nvSpPr>
          <p:spPr>
            <a:xfrm flipH="1" rot="16200000">
              <a:off x="2986920" y="2255400"/>
              <a:ext cx="965520" cy="136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 rot="16200000">
              <a:off x="1618200" y="2253600"/>
              <a:ext cx="965520" cy="13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899400" y="2698200"/>
            <a:ext cx="929880" cy="2892240"/>
            <a:chOff x="6899400" y="2698200"/>
            <a:chExt cx="929880" cy="2892240"/>
          </a:xfrm>
        </p:grpSpPr>
        <p:sp>
          <p:nvSpPr>
            <p:cNvPr id="197" name=""/>
            <p:cNvSpPr/>
            <p:nvPr/>
          </p:nvSpPr>
          <p:spPr>
            <a:xfrm>
              <a:off x="6899760" y="4146480"/>
              <a:ext cx="92952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6899400" y="2697840"/>
              <a:ext cx="929520" cy="144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788400" y="1112760"/>
            <a:ext cx="38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Redes Ópticas WDM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754360" y="3282840"/>
          <a:ext cx="129528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54360" y="3282840"/>
                    <a:ext cx="12952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" name=""/>
          <p:cNvGrpSpPr/>
          <p:nvPr/>
        </p:nvGrpSpPr>
        <p:grpSpPr>
          <a:xfrm>
            <a:off x="3973680" y="3093120"/>
            <a:ext cx="2361240" cy="761760"/>
            <a:chOff x="3973680" y="3093120"/>
            <a:chExt cx="2361240" cy="761760"/>
          </a:xfrm>
        </p:grpSpPr>
        <p:sp>
          <p:nvSpPr>
            <p:cNvPr id="203" name=""/>
            <p:cNvSpPr/>
            <p:nvPr/>
          </p:nvSpPr>
          <p:spPr>
            <a:xfrm flipV="1">
              <a:off x="3974040" y="3092760"/>
              <a:ext cx="23608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973680" y="3473640"/>
              <a:ext cx="236088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149000" y="3719520"/>
            <a:ext cx="18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cc0099"/>
                </a:solidFill>
                <a:latin typeface="Lucida Casual"/>
              </a:rPr>
              <a:t>Fibras Óp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1400" spc="-1" strike="noStrike">
                <a:solidFill>
                  <a:srgbClr val="cc0099"/>
                </a:solidFill>
                <a:latin typeface="Lucida Casual"/>
              </a:rPr>
              <a:t>(everywhe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1560" y="2862360"/>
            <a:ext cx="14104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entral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mutaçã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ea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44640" y="2400480"/>
          <a:ext cx="104292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44640" y="2400480"/>
                    <a:ext cx="1042920" cy="9144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6958080" y="2536200"/>
            <a:ext cx="944280" cy="3044880"/>
            <a:chOff x="6958080" y="2536200"/>
            <a:chExt cx="944280" cy="3044880"/>
          </a:xfrm>
        </p:grpSpPr>
        <p:sp>
          <p:nvSpPr>
            <p:cNvPr id="210" name=""/>
            <p:cNvSpPr/>
            <p:nvPr/>
          </p:nvSpPr>
          <p:spPr>
            <a:xfrm>
              <a:off x="6958440" y="4060800"/>
              <a:ext cx="943920" cy="152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6958080" y="2535840"/>
              <a:ext cx="9439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87880" y="3587400"/>
            <a:ext cx="914040" cy="1826640"/>
            <a:chOff x="3287880" y="3587400"/>
            <a:chExt cx="914040" cy="1826640"/>
          </a:xfrm>
        </p:grpSpPr>
        <p:sp>
          <p:nvSpPr>
            <p:cNvPr id="213" name=""/>
            <p:cNvSpPr/>
            <p:nvPr/>
          </p:nvSpPr>
          <p:spPr>
            <a:xfrm>
              <a:off x="3288240" y="4502160"/>
              <a:ext cx="913680" cy="91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287880" y="3587040"/>
              <a:ext cx="913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624120" y="4807080"/>
            <a:ext cx="1447920" cy="175248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2320" y="2155680"/>
            <a:ext cx="1600200" cy="133992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07040" y="4273560"/>
            <a:ext cx="2362320" cy="175248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411960" y="4730760"/>
          <a:ext cx="1676520" cy="76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11960" y="4730760"/>
                    <a:ext cx="1676520" cy="76212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27760" y="3409920"/>
            <a:ext cx="193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de Acesso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03760" y="5302080"/>
            <a:ext cx="19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de Acesso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363840" y="3358800"/>
            <a:ext cx="914040" cy="2131200"/>
            <a:chOff x="3363840" y="3358800"/>
            <a:chExt cx="914040" cy="2131200"/>
          </a:xfrm>
        </p:grpSpPr>
        <p:sp>
          <p:nvSpPr>
            <p:cNvPr id="223" name=""/>
            <p:cNvSpPr/>
            <p:nvPr/>
          </p:nvSpPr>
          <p:spPr>
            <a:xfrm>
              <a:off x="3364200" y="4426200"/>
              <a:ext cx="913680" cy="106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363840" y="3358440"/>
              <a:ext cx="913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973680" y="3153960"/>
            <a:ext cx="2361240" cy="761040"/>
            <a:chOff x="3973680" y="3153960"/>
            <a:chExt cx="2361240" cy="761040"/>
          </a:xfrm>
        </p:grpSpPr>
        <p:sp>
          <p:nvSpPr>
            <p:cNvPr id="226" name=""/>
            <p:cNvSpPr/>
            <p:nvPr/>
          </p:nvSpPr>
          <p:spPr>
            <a:xfrm flipV="1">
              <a:off x="3974040" y="3153600"/>
              <a:ext cx="23608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973680" y="3534480"/>
              <a:ext cx="23608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973680" y="3033360"/>
            <a:ext cx="2361240" cy="761040"/>
            <a:chOff x="3973680" y="3033360"/>
            <a:chExt cx="2361240" cy="761040"/>
          </a:xfrm>
        </p:grpSpPr>
        <p:sp>
          <p:nvSpPr>
            <p:cNvPr id="229" name=""/>
            <p:cNvSpPr/>
            <p:nvPr/>
          </p:nvSpPr>
          <p:spPr>
            <a:xfrm flipV="1">
              <a:off x="3974040" y="3033000"/>
              <a:ext cx="23608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973680" y="3413880"/>
              <a:ext cx="23608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346080" y="5435640"/>
            <a:ext cx="193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de Acesso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35040" y="2695680"/>
            <a:ext cx="206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Lucida Casual"/>
              </a:rPr>
              <a:t>Rede Tro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(Anéis SD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659840" y="2634480"/>
            <a:ext cx="1904040" cy="3502080"/>
            <a:chOff x="4659840" y="2634480"/>
            <a:chExt cx="1904040" cy="3502080"/>
          </a:xfrm>
        </p:grpSpPr>
        <p:sp>
          <p:nvSpPr>
            <p:cNvPr id="234" name=""/>
            <p:cNvSpPr/>
            <p:nvPr/>
          </p:nvSpPr>
          <p:spPr>
            <a:xfrm flipH="1">
              <a:off x="4659840" y="4388040"/>
              <a:ext cx="1903680" cy="174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60200" y="2634120"/>
              <a:ext cx="1903680" cy="175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1650600" y="3971880"/>
            <a:ext cx="14104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entral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mutaçã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ea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584880" y="968400"/>
            <a:ext cx="2613960" cy="3085920"/>
            <a:chOff x="3584880" y="968400"/>
            <a:chExt cx="2613960" cy="3085920"/>
          </a:xfrm>
        </p:grpSpPr>
        <p:sp>
          <p:nvSpPr>
            <p:cNvPr id="238" name=""/>
            <p:cNvSpPr/>
            <p:nvPr/>
          </p:nvSpPr>
          <p:spPr>
            <a:xfrm flipH="1">
              <a:off x="3584880" y="2513880"/>
              <a:ext cx="2613600" cy="154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585240" y="967680"/>
              <a:ext cx="2613600" cy="154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459480" y="1147320"/>
            <a:ext cx="482040" cy="2321280"/>
            <a:chOff x="6459480" y="1147320"/>
            <a:chExt cx="482040" cy="2321280"/>
          </a:xfrm>
        </p:grpSpPr>
        <p:sp>
          <p:nvSpPr>
            <p:cNvPr id="241" name=""/>
            <p:cNvSpPr/>
            <p:nvPr/>
          </p:nvSpPr>
          <p:spPr>
            <a:xfrm>
              <a:off x="6459840" y="2309760"/>
              <a:ext cx="481680" cy="11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6459480" y="1146960"/>
              <a:ext cx="481680" cy="116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3" name=""/>
          <p:cNvGraphicFramePr/>
          <p:nvPr/>
        </p:nvGraphicFramePr>
        <p:xfrm>
          <a:off x="6039000" y="1440000"/>
          <a:ext cx="1104840" cy="406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39000" y="1440000"/>
                    <a:ext cx="1104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4939920" y="1617840"/>
            <a:ext cx="1153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entr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58160" y="1047600"/>
            <a:ext cx="1549440" cy="78444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461360" y="1125360"/>
          <a:ext cx="766800" cy="67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461360" y="1125360"/>
                    <a:ext cx="766800" cy="67176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6987600" y="17683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e Acess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259680" y="2749680"/>
          <a:ext cx="8380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59680" y="274968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3925800" y="4959360"/>
          <a:ext cx="846360" cy="1447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25800" y="4959360"/>
                    <a:ext cx="846360" cy="144792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54" name=""/>
          <p:cNvGrpSpPr/>
          <p:nvPr/>
        </p:nvGrpSpPr>
        <p:grpSpPr>
          <a:xfrm>
            <a:off x="3624480" y="970920"/>
            <a:ext cx="2629800" cy="3178080"/>
            <a:chOff x="3624480" y="970920"/>
            <a:chExt cx="2629800" cy="3178080"/>
          </a:xfrm>
        </p:grpSpPr>
        <p:sp>
          <p:nvSpPr>
            <p:cNvPr id="255" name=""/>
            <p:cNvSpPr/>
            <p:nvPr/>
          </p:nvSpPr>
          <p:spPr>
            <a:xfrm flipH="1">
              <a:off x="3624480" y="2562480"/>
              <a:ext cx="2629440" cy="15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624840" y="970200"/>
              <a:ext cx="2629440" cy="159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8:43:23Z</dcterms:created>
  <dc:creator>CPqD</dc:creator>
  <dc:description/>
  <dc:language>en-US</dc:language>
  <cp:lastModifiedBy>rudge</cp:lastModifiedBy>
  <dcterms:modified xsi:type="dcterms:W3CDTF">2004-08-27T23:05:19Z</dcterms:modified>
  <cp:revision>75</cp:revision>
  <dc:subject/>
  <dc:title>Apresentação do PowerPoint</dc:title>
</cp:coreProperties>
</file>