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5.wmf" ContentType="image/x-wmf"/>
  <Override PartName="/ppt/media/image7.wmf" ContentType="image/x-wmf"/>
  <Override PartName="/ppt/media/image12.wmf" ContentType="image/x-wmf"/>
  <Override PartName="/ppt/media/image33.jpeg" ContentType="image/jpeg"/>
  <Override PartName="/ppt/media/image27.png" ContentType="image/png"/>
  <Override PartName="/ppt/media/image28.png" ContentType="image/png"/>
  <Override PartName="/ppt/media/image13.wmf" ContentType="image/x-wmf"/>
  <Override PartName="/ppt/media/image9.wmf" ContentType="image/x-wmf"/>
  <Override PartName="/ppt/media/image8.wmf" ContentType="image/x-wmf"/>
  <Override PartName="/ppt/media/image26.png" ContentType="image/png"/>
  <Override PartName="/ppt/media/image17.jpeg" ContentType="image/jpeg"/>
  <Override PartName="/ppt/media/image11.wmf" ContentType="image/x-wmf"/>
  <Override PartName="/ppt/media/image34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4.wmf" ContentType="image/x-wmf"/>
  <Override PartName="/ppt/media/image3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16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10061575" cy="1450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752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68280" y="655308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E01-C124-41F0-AE15-DA24C3E7BF92}" type="slidenum"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6.wmf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27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eee802.org/3/efm/index.html" TargetMode="External"/><Relationship Id="rId3" Type="http://schemas.openxmlformats.org/officeDocument/2006/relationships/hyperlink" Target="http://www.ieee802.org/3/efm/index.html" TargetMode="External"/><Relationship Id="rId4" Type="http://schemas.openxmlformats.org/officeDocument/2006/relationships/hyperlink" Target="http://www.ieee802.org/3/efm/index.html" TargetMode="External"/><Relationship Id="rId5" Type="http://schemas.openxmlformats.org/officeDocument/2006/relationships/hyperlink" Target="http://www.efmalliance.org/" TargetMode="External"/><Relationship Id="rId6" Type="http://schemas.openxmlformats.org/officeDocument/2006/relationships/hyperlink" Target="http://www.efmalliance.org/" TargetMode="External"/><Relationship Id="rId7" Type="http://schemas.openxmlformats.org/officeDocument/2006/relationships/hyperlink" Target="http://www.efmalliance.org/" TargetMode="Externa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4.wmf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1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22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23.wmf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454040" y="1093680"/>
            <a:ext cx="706932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cc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i="1" lang="en-GB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Comunicações Óptic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i="1" lang="en-GB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Tecnologia, Sistemas &amp; Redes </a:t>
            </a:r>
            <a:r>
              <a:rPr b="1" i="1" lang="en-GB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280360" y="6629400"/>
            <a:ext cx="698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</a:rPr>
              <a:t>mês/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549800" y="3516480"/>
            <a:ext cx="3396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Felipe Rudge Barb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41840" y="373680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Fundação CPq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Campinas 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Arial"/>
              </a:rPr>
              <a:t>BRAS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lobe" descr=""/>
          <p:cNvPicPr/>
          <p:nvPr/>
        </p:nvPicPr>
        <p:blipFill>
          <a:blip r:embed="rId2"/>
          <a:stretch/>
        </p:blipFill>
        <p:spPr>
          <a:xfrm>
            <a:off x="0" y="3394080"/>
            <a:ext cx="14479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719440" y="3127320"/>
            <a:ext cx="3222720" cy="1579680"/>
          </a:xfrm>
          <a:prstGeom prst="rect">
            <a:avLst/>
          </a:prstGeom>
          <a:solidFill>
            <a:srgbClr val="ffe5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60093"/>
                </a:solidFill>
                <a:latin typeface="Arial"/>
              </a:rPr>
              <a:t>Cama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60093"/>
                </a:solidFill>
                <a:latin typeface="Arial"/>
              </a:rPr>
              <a:t>Óptica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d60093"/>
                </a:solidFill>
                <a:latin typeface="Arial"/>
              </a:rPr>
              <a:t>Múltiplo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d60093"/>
                </a:solidFill>
                <a:latin typeface="Arial"/>
              </a:rPr>
              <a:t>lambdas </a:t>
            </a:r>
            <a:r>
              <a:rPr b="1" i="1" lang="pt-BR" sz="1600" spc="-1" strike="noStrike">
                <a:solidFill>
                  <a:srgbClr val="339966"/>
                </a:solidFill>
                <a:latin typeface="Arial"/>
              </a:rPr>
              <a:t>WDM</a:t>
            </a:r>
            <a:r>
              <a:rPr b="1" i="1" lang="pt-BR" sz="1600" spc="-1" strike="noStrike">
                <a:solidFill>
                  <a:srgbClr val="d60093"/>
                </a:solidFill>
                <a:latin typeface="Arial"/>
              </a:rPr>
              <a:t>     </a:t>
            </a:r>
            <a:r>
              <a:rPr b="1" lang="pt-BR" sz="1600" spc="-1" strike="noStrike">
                <a:solidFill>
                  <a:srgbClr val="d60093"/>
                </a:solidFill>
                <a:latin typeface="Arial"/>
              </a:rPr>
              <a:t>ou    Múltip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d60093"/>
                </a:solidFill>
                <a:latin typeface="Arial"/>
              </a:rPr>
              <a:t>Fibras </a:t>
            </a:r>
            <a:r>
              <a:rPr b="1" i="1" lang="pt-BR" sz="1600" spc="-1" strike="noStrike">
                <a:solidFill>
                  <a:srgbClr val="d60093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040" y="5197320"/>
            <a:ext cx="2332080" cy="1386000"/>
          </a:xfrm>
          <a:prstGeom prst="rect">
            <a:avLst/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64000" y="2581200"/>
            <a:ext cx="304920" cy="152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rédioverde" descr=""/>
          <p:cNvPicPr/>
          <p:nvPr/>
        </p:nvPicPr>
        <p:blipFill>
          <a:blip r:embed="rId2"/>
          <a:stretch/>
        </p:blipFill>
        <p:spPr>
          <a:xfrm>
            <a:off x="5108400" y="307800"/>
            <a:ext cx="747720" cy="914400"/>
          </a:xfrm>
          <a:prstGeom prst="rect">
            <a:avLst/>
          </a:prstGeom>
          <a:ln w="0">
            <a:noFill/>
          </a:ln>
        </p:spPr>
      </p:pic>
      <p:pic>
        <p:nvPicPr>
          <p:cNvPr id="538" name="prédiorosa" descr=""/>
          <p:cNvPicPr/>
          <p:nvPr/>
        </p:nvPicPr>
        <p:blipFill>
          <a:blip r:embed="rId3"/>
          <a:stretch/>
        </p:blipFill>
        <p:spPr>
          <a:xfrm>
            <a:off x="3460680" y="307800"/>
            <a:ext cx="650880" cy="914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841920" y="757080"/>
            <a:ext cx="1600200" cy="144972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sun%20ue450" descr=""/>
          <p:cNvPicPr/>
          <p:nvPr/>
        </p:nvPicPr>
        <p:blipFill>
          <a:blip r:embed="rId4"/>
          <a:stretch/>
        </p:blipFill>
        <p:spPr>
          <a:xfrm>
            <a:off x="2038320" y="5630760"/>
            <a:ext cx="990720" cy="846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 flipV="1">
            <a:off x="2892600" y="5870160"/>
            <a:ext cx="1177920" cy="32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77960" y="5543640"/>
            <a:ext cx="14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-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oadcast 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5"/>
          <a:stretch/>
        </p:blipFill>
        <p:spPr>
          <a:xfrm>
            <a:off x="4146480" y="5400720"/>
            <a:ext cx="993960" cy="784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5195880" y="5743440"/>
            <a:ext cx="1620720" cy="130320"/>
          </a:xfrm>
          <a:prstGeom prst="leftRightArrow">
            <a:avLst>
              <a:gd name="adj1" fmla="val 50000"/>
              <a:gd name="adj2" fmla="val 247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18480" y="10922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/100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6"/>
          <a:stretch/>
        </p:blipFill>
        <p:spPr>
          <a:xfrm flipH="1" rot="10800000">
            <a:off x="3765600" y="84096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 flipH="1">
            <a:off x="4556160" y="2376360"/>
            <a:ext cx="1440" cy="571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699240" y="5411880"/>
            <a:ext cx="2073240" cy="1278000"/>
            <a:chOff x="6699240" y="5411880"/>
            <a:chExt cx="2073240" cy="1278000"/>
          </a:xfrm>
        </p:grpSpPr>
        <p:pic>
          <p:nvPicPr>
            <p:cNvPr id="549" name="" descr=""/>
            <p:cNvPicPr/>
            <p:nvPr/>
          </p:nvPicPr>
          <p:blipFill>
            <a:blip r:embed="rId7"/>
            <a:stretch/>
          </p:blipFill>
          <p:spPr>
            <a:xfrm>
              <a:off x="6699240" y="5411880"/>
              <a:ext cx="2073240" cy="12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7084800" y="5848560"/>
              <a:ext cx="13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H="1">
            <a:off x="4681080" y="4711680"/>
            <a:ext cx="11160" cy="7174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4557600" y="4695840"/>
            <a:ext cx="14400" cy="746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83600" y="338616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cc0000"/>
                </a:solidFill>
                <a:latin typeface="Arial"/>
              </a:rPr>
              <a:t>Óp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8"/>
          <a:stretch/>
        </p:blipFill>
        <p:spPr>
          <a:xfrm flipH="1" rot="10800000">
            <a:off x="4419720" y="207612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9"/>
          <a:stretch/>
        </p:blipFill>
        <p:spPr>
          <a:xfrm flipH="1" rot="10800000">
            <a:off x="3657600" y="15998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10"/>
          <a:stretch/>
        </p:blipFill>
        <p:spPr>
          <a:xfrm flipH="1" rot="10800000">
            <a:off x="5032440" y="764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11"/>
          <a:stretch/>
        </p:blipFill>
        <p:spPr>
          <a:xfrm flipH="1" rot="10800000">
            <a:off x="5213520" y="1568520"/>
            <a:ext cx="457200" cy="3585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 flipH="1">
            <a:off x="2160720" y="1143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232080" y="99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232080" y="106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265200" y="9176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394240" y="857160"/>
            <a:ext cx="533520" cy="228600"/>
            <a:chOff x="5394240" y="857160"/>
            <a:chExt cx="533520" cy="228600"/>
          </a:xfrm>
        </p:grpSpPr>
        <p:sp>
          <p:nvSpPr>
            <p:cNvPr id="563" name=""/>
            <p:cNvSpPr/>
            <p:nvPr/>
          </p:nvSpPr>
          <p:spPr>
            <a:xfrm>
              <a:off x="5394240" y="8571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94240" y="933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394240" y="1009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94240" y="1085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5704200" y="371520"/>
            <a:ext cx="174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zenas 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nas de usuá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79840" y="4965840"/>
            <a:ext cx="304920" cy="152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65760" y="1085760"/>
            <a:ext cx="131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alguns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centena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usu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97200" y="2835360"/>
            <a:ext cx="876240" cy="1911240"/>
          </a:xfrm>
          <a:custGeom>
            <a:avLst/>
            <a:gdLst/>
            <a:ahLst/>
            <a:rect l="l" t="t" r="r" b="b"/>
            <a:pathLst>
              <a:path w="763" h="1223">
                <a:moveTo>
                  <a:pt x="753" y="0"/>
                </a:moveTo>
                <a:cubicBezTo>
                  <a:pt x="737" y="47"/>
                  <a:pt x="746" y="109"/>
                  <a:pt x="718" y="151"/>
                </a:cubicBezTo>
                <a:cubicBezTo>
                  <a:pt x="711" y="161"/>
                  <a:pt x="699" y="167"/>
                  <a:pt x="691" y="177"/>
                </a:cubicBezTo>
                <a:cubicBezTo>
                  <a:pt x="684" y="185"/>
                  <a:pt x="681" y="197"/>
                  <a:pt x="673" y="204"/>
                </a:cubicBezTo>
                <a:cubicBezTo>
                  <a:pt x="670" y="207"/>
                  <a:pt x="624" y="220"/>
                  <a:pt x="620" y="221"/>
                </a:cubicBezTo>
                <a:cubicBezTo>
                  <a:pt x="611" y="227"/>
                  <a:pt x="604" y="235"/>
                  <a:pt x="594" y="239"/>
                </a:cubicBezTo>
                <a:cubicBezTo>
                  <a:pt x="577" y="247"/>
                  <a:pt x="540" y="257"/>
                  <a:pt x="540" y="257"/>
                </a:cubicBezTo>
                <a:cubicBezTo>
                  <a:pt x="485" y="295"/>
                  <a:pt x="402" y="302"/>
                  <a:pt x="337" y="319"/>
                </a:cubicBezTo>
                <a:cubicBezTo>
                  <a:pt x="279" y="334"/>
                  <a:pt x="205" y="345"/>
                  <a:pt x="151" y="372"/>
                </a:cubicBezTo>
                <a:cubicBezTo>
                  <a:pt x="141" y="377"/>
                  <a:pt x="133" y="385"/>
                  <a:pt x="124" y="390"/>
                </a:cubicBezTo>
                <a:cubicBezTo>
                  <a:pt x="113" y="396"/>
                  <a:pt x="101" y="401"/>
                  <a:pt x="89" y="407"/>
                </a:cubicBezTo>
                <a:cubicBezTo>
                  <a:pt x="43" y="453"/>
                  <a:pt x="27" y="468"/>
                  <a:pt x="0" y="523"/>
                </a:cubicBezTo>
                <a:cubicBezTo>
                  <a:pt x="3" y="573"/>
                  <a:pt x="4" y="623"/>
                  <a:pt x="9" y="673"/>
                </a:cubicBezTo>
                <a:cubicBezTo>
                  <a:pt x="22" y="800"/>
                  <a:pt x="246" y="809"/>
                  <a:pt x="328" y="815"/>
                </a:cubicBezTo>
                <a:cubicBezTo>
                  <a:pt x="382" y="834"/>
                  <a:pt x="440" y="844"/>
                  <a:pt x="496" y="859"/>
                </a:cubicBezTo>
                <a:cubicBezTo>
                  <a:pt x="527" y="868"/>
                  <a:pt x="554" y="885"/>
                  <a:pt x="585" y="895"/>
                </a:cubicBezTo>
                <a:cubicBezTo>
                  <a:pt x="647" y="936"/>
                  <a:pt x="620" y="918"/>
                  <a:pt x="665" y="948"/>
                </a:cubicBezTo>
                <a:cubicBezTo>
                  <a:pt x="694" y="967"/>
                  <a:pt x="706" y="999"/>
                  <a:pt x="735" y="1019"/>
                </a:cubicBezTo>
                <a:cubicBezTo>
                  <a:pt x="763" y="1102"/>
                  <a:pt x="744" y="1037"/>
                  <a:pt x="744" y="1223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670720" y="1622520"/>
            <a:ext cx="228600" cy="228600"/>
            <a:chOff x="5670720" y="1622520"/>
            <a:chExt cx="228600" cy="228600"/>
          </a:xfrm>
        </p:grpSpPr>
        <p:sp>
          <p:nvSpPr>
            <p:cNvPr id="572" name=""/>
            <p:cNvSpPr/>
            <p:nvPr/>
          </p:nvSpPr>
          <p:spPr>
            <a:xfrm>
              <a:off x="5670720" y="1622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70720" y="1698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70720" y="1774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70720" y="1851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429000" y="1676520"/>
            <a:ext cx="228600" cy="228600"/>
            <a:chOff x="3429000" y="1676520"/>
            <a:chExt cx="228600" cy="228600"/>
          </a:xfrm>
        </p:grpSpPr>
        <p:sp>
          <p:nvSpPr>
            <p:cNvPr id="577" name=""/>
            <p:cNvSpPr/>
            <p:nvPr/>
          </p:nvSpPr>
          <p:spPr>
            <a:xfrm>
              <a:off x="3429000" y="1676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29000" y="1752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29000" y="1828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1905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514400" y="1876320"/>
            <a:ext cx="228600" cy="228600"/>
            <a:chOff x="4514400" y="1876320"/>
            <a:chExt cx="228600" cy="228600"/>
          </a:xfrm>
        </p:grpSpPr>
        <p:sp>
          <p:nvSpPr>
            <p:cNvPr id="582" name=""/>
            <p:cNvSpPr/>
            <p:nvPr/>
          </p:nvSpPr>
          <p:spPr>
            <a:xfrm>
              <a:off x="4743000" y="187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67040" y="187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590720" y="187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514400" y="1876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 flipV="1">
            <a:off x="3573360" y="2133360"/>
            <a:ext cx="639720" cy="2286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40280" y="494172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teador c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plas Portas G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67760" y="1514520"/>
            <a:ext cx="21985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eadores  c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 Portas G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ultiplas Portas 10/100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29400" y="2166840"/>
            <a:ext cx="20980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oteador  c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4 Portas G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ultiplas Portas 10/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92400" y="2854440"/>
            <a:ext cx="2318760" cy="146556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Lucida Casual"/>
              </a:rPr>
              <a:t>Redes Óp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Lucida Casual"/>
              </a:rPr>
              <a:t>Metro-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Lucida Casual"/>
              </a:rPr>
              <a:t>“</a:t>
            </a:r>
            <a:r>
              <a:rPr b="1" lang="en-US" sz="1800" spc="-1" strike="noStrike">
                <a:solidFill>
                  <a:srgbClr val="cc0000"/>
                </a:solidFill>
                <a:latin typeface="Lucida Casual"/>
              </a:rPr>
              <a:t>ultima geraçã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Lucida Casual"/>
              </a:rPr>
              <a:t>=&gt; </a:t>
            </a: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IP</a:t>
            </a:r>
            <a:r>
              <a:rPr b="1" lang="en-US" sz="1800" spc="-1" strike="noStrike">
                <a:solidFill>
                  <a:srgbClr val="cc0000"/>
                </a:solidFill>
                <a:latin typeface="Lucida Casual"/>
              </a:rPr>
              <a:t> sobre </a:t>
            </a: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W</a:t>
            </a:r>
            <a:r>
              <a:rPr b="1" lang="en-US" sz="1800" spc="-1" strike="noStrike">
                <a:solidFill>
                  <a:srgbClr val="cc0000"/>
                </a:solidFill>
                <a:latin typeface="Lucida Casual"/>
              </a:rPr>
              <a:t>D</a:t>
            </a:r>
            <a:r>
              <a:rPr b="1" lang="en-US" sz="1800" spc="-1" strike="noStrike">
                <a:solidFill>
                  <a:srgbClr val="00be00"/>
                </a:solidFill>
                <a:latin typeface="Lucida Casual"/>
              </a:rPr>
              <a:t>M</a:t>
            </a:r>
            <a:r>
              <a:rPr b="1" lang="en-US" sz="1800" spc="-1" strike="noStrike">
                <a:solidFill>
                  <a:srgbClr val="cc0000"/>
                </a:solidFill>
                <a:latin typeface="Lucida Casu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Lucida Casu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rot="21550800">
            <a:off x="4674600" y="2811240"/>
            <a:ext cx="909360" cy="1941840"/>
          </a:xfrm>
          <a:custGeom>
            <a:avLst/>
            <a:gdLst/>
            <a:ahLst/>
            <a:rect l="l" t="t" r="r" b="b"/>
            <a:pathLst>
              <a:path w="763" h="1223">
                <a:moveTo>
                  <a:pt x="753" y="0"/>
                </a:moveTo>
                <a:cubicBezTo>
                  <a:pt x="737" y="47"/>
                  <a:pt x="746" y="109"/>
                  <a:pt x="718" y="151"/>
                </a:cubicBezTo>
                <a:cubicBezTo>
                  <a:pt x="711" y="161"/>
                  <a:pt x="699" y="167"/>
                  <a:pt x="691" y="177"/>
                </a:cubicBezTo>
                <a:cubicBezTo>
                  <a:pt x="684" y="185"/>
                  <a:pt x="681" y="197"/>
                  <a:pt x="673" y="204"/>
                </a:cubicBezTo>
                <a:cubicBezTo>
                  <a:pt x="670" y="207"/>
                  <a:pt x="624" y="220"/>
                  <a:pt x="620" y="221"/>
                </a:cubicBezTo>
                <a:cubicBezTo>
                  <a:pt x="611" y="227"/>
                  <a:pt x="604" y="235"/>
                  <a:pt x="594" y="239"/>
                </a:cubicBezTo>
                <a:cubicBezTo>
                  <a:pt x="577" y="247"/>
                  <a:pt x="540" y="257"/>
                  <a:pt x="540" y="257"/>
                </a:cubicBezTo>
                <a:cubicBezTo>
                  <a:pt x="485" y="295"/>
                  <a:pt x="402" y="302"/>
                  <a:pt x="337" y="319"/>
                </a:cubicBezTo>
                <a:cubicBezTo>
                  <a:pt x="279" y="334"/>
                  <a:pt x="205" y="345"/>
                  <a:pt x="151" y="372"/>
                </a:cubicBezTo>
                <a:cubicBezTo>
                  <a:pt x="141" y="377"/>
                  <a:pt x="133" y="385"/>
                  <a:pt x="124" y="390"/>
                </a:cubicBezTo>
                <a:cubicBezTo>
                  <a:pt x="113" y="396"/>
                  <a:pt x="101" y="401"/>
                  <a:pt x="89" y="407"/>
                </a:cubicBezTo>
                <a:cubicBezTo>
                  <a:pt x="43" y="453"/>
                  <a:pt x="27" y="468"/>
                  <a:pt x="0" y="523"/>
                </a:cubicBezTo>
                <a:cubicBezTo>
                  <a:pt x="3" y="573"/>
                  <a:pt x="4" y="623"/>
                  <a:pt x="9" y="673"/>
                </a:cubicBezTo>
                <a:cubicBezTo>
                  <a:pt x="22" y="800"/>
                  <a:pt x="246" y="809"/>
                  <a:pt x="328" y="815"/>
                </a:cubicBezTo>
                <a:cubicBezTo>
                  <a:pt x="382" y="834"/>
                  <a:pt x="440" y="844"/>
                  <a:pt x="496" y="859"/>
                </a:cubicBezTo>
                <a:cubicBezTo>
                  <a:pt x="527" y="868"/>
                  <a:pt x="554" y="885"/>
                  <a:pt x="585" y="895"/>
                </a:cubicBezTo>
                <a:cubicBezTo>
                  <a:pt x="647" y="936"/>
                  <a:pt x="620" y="918"/>
                  <a:pt x="665" y="948"/>
                </a:cubicBezTo>
                <a:cubicBezTo>
                  <a:pt x="694" y="967"/>
                  <a:pt x="706" y="999"/>
                  <a:pt x="735" y="1019"/>
                </a:cubicBezTo>
                <a:cubicBezTo>
                  <a:pt x="763" y="1102"/>
                  <a:pt x="744" y="1037"/>
                  <a:pt x="744" y="1223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692600" y="2374920"/>
            <a:ext cx="0" cy="4842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83360" y="6122880"/>
            <a:ext cx="875520" cy="6422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ST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RT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443480" y="6200640"/>
            <a:ext cx="792000" cy="351000"/>
          </a:xfrm>
          <a:custGeom>
            <a:avLst/>
            <a:gdLst>
              <a:gd name="textAreaLeft" fmla="*/ 263880 w 792000"/>
              <a:gd name="textAreaRight" fmla="*/ 678600 w 792000"/>
              <a:gd name="textAreaTop" fmla="*/ 202320 h 351000"/>
              <a:gd name="textAreaBottom" fmla="*/ 3006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000" y="5211720"/>
            <a:ext cx="18586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Palatino"/>
              </a:rPr>
              <a:t>“</a:t>
            </a:r>
            <a:r>
              <a:rPr b="1" lang="pt-BR" sz="1800" spc="-1" strike="noStrike">
                <a:solidFill>
                  <a:srgbClr val="808080"/>
                </a:solidFill>
                <a:latin typeface="Palatino"/>
              </a:rPr>
              <a:t>Cost issues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37280" y="2359080"/>
            <a:ext cx="15660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nel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979920" y="2651040"/>
            <a:ext cx="1596600" cy="70380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ela-a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5560" y="4770360"/>
            <a:ext cx="8121600" cy="2087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222320" y="4776840"/>
            <a:ext cx="1582920" cy="459720"/>
          </a:xfrm>
          <a:prstGeom prst="rect">
            <a:avLst/>
          </a:prstGeom>
          <a:noFill/>
          <a:ln w="93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Head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009" descr=""/>
          <p:cNvPicPr/>
          <p:nvPr/>
        </p:nvPicPr>
        <p:blipFill>
          <a:blip r:embed="rId12"/>
          <a:stretch/>
        </p:blipFill>
        <p:spPr>
          <a:xfrm>
            <a:off x="1868400" y="577800"/>
            <a:ext cx="701640" cy="617760"/>
          </a:xfrm>
          <a:prstGeom prst="rect">
            <a:avLst/>
          </a:prstGeom>
          <a:ln w="0">
            <a:noFill/>
          </a:ln>
        </p:spPr>
      </p:pic>
      <p:grpSp>
        <p:nvGrpSpPr>
          <p:cNvPr id="601" name=""/>
          <p:cNvGrpSpPr/>
          <p:nvPr/>
        </p:nvGrpSpPr>
        <p:grpSpPr>
          <a:xfrm>
            <a:off x="4807080" y="4662360"/>
            <a:ext cx="266400" cy="814680"/>
            <a:chOff x="4807080" y="4662360"/>
            <a:chExt cx="266400" cy="814680"/>
          </a:xfrm>
        </p:grpSpPr>
        <p:sp>
          <p:nvSpPr>
            <p:cNvPr id="602" name=""/>
            <p:cNvSpPr/>
            <p:nvPr/>
          </p:nvSpPr>
          <p:spPr>
            <a:xfrm flipH="1">
              <a:off x="4876920" y="4668840"/>
              <a:ext cx="196560" cy="808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4807080" y="4662360"/>
              <a:ext cx="196560" cy="808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181400" y="4662360"/>
            <a:ext cx="266760" cy="833400"/>
            <a:chOff x="4181400" y="4662360"/>
            <a:chExt cx="266760" cy="833400"/>
          </a:xfrm>
        </p:grpSpPr>
        <p:sp>
          <p:nvSpPr>
            <p:cNvPr id="605" name=""/>
            <p:cNvSpPr/>
            <p:nvPr/>
          </p:nvSpPr>
          <p:spPr>
            <a:xfrm>
              <a:off x="4251240" y="4662360"/>
              <a:ext cx="196920" cy="8082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81400" y="4687920"/>
              <a:ext cx="196920" cy="80784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 flipV="1">
            <a:off x="4191120" y="4571280"/>
            <a:ext cx="884160" cy="150840"/>
          </a:xfrm>
          <a:custGeom>
            <a:avLst/>
            <a:gdLst>
              <a:gd name="textAreaLeft" fmla="*/ 194400 w 884160"/>
              <a:gd name="textAreaRight" fmla="*/ 689760 w 884160"/>
              <a:gd name="textAreaTop" fmla="*/ 33120 h 150840"/>
              <a:gd name="textAreaBottom" fmla="*/ 117720 h 150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76720" y="2924280"/>
            <a:ext cx="884160" cy="153720"/>
          </a:xfrm>
          <a:custGeom>
            <a:avLst/>
            <a:gdLst>
              <a:gd name="textAreaLeft" fmla="*/ 194400 w 884160"/>
              <a:gd name="textAreaRight" fmla="*/ 689760 w 884160"/>
              <a:gd name="textAreaTop" fmla="*/ 33840 h 153720"/>
              <a:gd name="textAreaBottom" fmla="*/ 119880 h 15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31000" y="2857680"/>
            <a:ext cx="121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9966"/>
                </a:solidFill>
                <a:latin typeface="Lucida Casual"/>
              </a:rPr>
              <a:t>Mux/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9966"/>
                </a:solidFill>
                <a:latin typeface="Lucida Casual"/>
              </a:rPr>
              <a:t>Óp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245" descr=""/>
          <p:cNvPicPr/>
          <p:nvPr/>
        </p:nvPicPr>
        <p:blipFill>
          <a:blip r:embed="rId13"/>
          <a:stretch/>
        </p:blipFill>
        <p:spPr>
          <a:xfrm>
            <a:off x="5862600" y="1025640"/>
            <a:ext cx="363600" cy="10890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6086880" y="16113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systems 2G-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25480" y="1104840"/>
            <a:ext cx="6951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Lucida Casual"/>
              </a:rPr>
              <a:t>Optical Packet Networks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685800" y="1885680"/>
            <a:ext cx="821376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MA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th First-Mile Alli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5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eee802.org/3/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fm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index.html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;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www.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efmalliance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.org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5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nce November 2000 more than 200 individuals from over 80 companies have participated in an IEEE study group, which formally became the </a:t>
            </a:r>
            <a:r>
              <a:rPr b="0" lang="en-US" sz="1800" spc="-1" strike="noStrike" u="sng">
                <a:solidFill>
                  <a:srgbClr val="808080"/>
                </a:solidFill>
                <a:uFillTx/>
                <a:latin typeface="Arial"/>
              </a:rPr>
              <a:t>IEEE 802.3ah EFM Task Force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in September 2001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08080"/>
              </a:buClr>
              <a:buSzPct val="50000"/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performance in 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triple-play </a:t>
            </a: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is best for EPON; but an enormous legacy of telephone companies holds APON as a straightforward solution...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should be noted that both European and American (as well as Asian) companies participate actively in APON and EP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717120" y="1734840"/>
            <a:ext cx="8031240" cy="45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ntão te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des ópticas de pacot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redes de fibras ópticas com tecnologias de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transporte de pacotes de infor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 são as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redes disponíveis hoj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roteadores IP/ transporte Ethernet/ </a:t>
            </a:r>
            <a:r>
              <a:rPr b="0" lang="pt-BR" sz="2000" spc="-1" strike="noStrike">
                <a:solidFill>
                  <a:srgbClr val="a50021"/>
                </a:solidFill>
                <a:latin typeface="Arial"/>
              </a:rPr>
              <a:t>transmissão WD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cc"/>
                </a:solidFill>
                <a:latin typeface="Arial"/>
              </a:rPr>
              <a:t>redes de pacotes ópt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= redes de fibras ópticas com arquitetura funcional de 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chaveamento ótic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de pacotes de lu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rtanto na própria camada óptica; representam uma 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ruptura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com as redes atu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mas não são incompatíveis com elas;  </a:t>
            </a:r>
            <a:r>
              <a:rPr b="0" lang="pt-BR" sz="2000" spc="-1" strike="noStrike">
                <a:solidFill>
                  <a:srgbClr val="a50021"/>
                </a:solidFill>
                <a:latin typeface="Arial"/>
              </a:rPr>
              <a:t>transmissão W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4880" y="963720"/>
            <a:ext cx="6951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Lucida Casual"/>
              </a:rPr>
              <a:t>Optical Packet Network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4252320" y="3385080"/>
            <a:ext cx="1328760" cy="805320"/>
          </a:xfrm>
          <a:prstGeom prst="rect">
            <a:avLst/>
          </a:prstGeom>
          <a:solidFill>
            <a:srgbClr val="ffd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W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cc0099"/>
                </a:solidFill>
                <a:latin typeface="Times New Roman"/>
              </a:rPr>
              <a:t>rou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830000">
            <a:off x="2243880" y="3182040"/>
            <a:ext cx="1790640" cy="81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4770000">
            <a:off x="4838400" y="3575160"/>
            <a:ext cx="1984320" cy="9504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524400">
            <a:off x="3287520" y="4354560"/>
            <a:ext cx="2462040" cy="889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524400">
            <a:off x="3561840" y="2509560"/>
            <a:ext cx="1859040" cy="10476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rot="20118000">
            <a:off x="3117600" y="3341520"/>
            <a:ext cx="2517840" cy="9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50000">
                <a:srgbClr val="3366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626080" y="4167360"/>
            <a:ext cx="725400" cy="799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032560" y="4927320"/>
            <a:ext cx="1530000" cy="1239480"/>
            <a:chOff x="2032560" y="4927320"/>
            <a:chExt cx="1530000" cy="1239480"/>
          </a:xfrm>
        </p:grpSpPr>
        <p:sp>
          <p:nvSpPr>
            <p:cNvPr id="624" name=""/>
            <p:cNvSpPr/>
            <p:nvPr/>
          </p:nvSpPr>
          <p:spPr>
            <a:xfrm rot="966000">
              <a:off x="2070360" y="5160960"/>
              <a:ext cx="270360" cy="31284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966000">
              <a:off x="3259440" y="5495760"/>
              <a:ext cx="264600" cy="31464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966000">
              <a:off x="2267280" y="505368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966000">
              <a:off x="2691000" y="517608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966000">
              <a:off x="3106440" y="529020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966000">
              <a:off x="2180520" y="5354280"/>
              <a:ext cx="26640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966000">
              <a:off x="2416680" y="5260320"/>
              <a:ext cx="26640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966000">
              <a:off x="2351520" y="5609880"/>
              <a:ext cx="26604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966000">
              <a:off x="3021120" y="5586120"/>
              <a:ext cx="26640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966000">
              <a:off x="2503800" y="4957920"/>
              <a:ext cx="26640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966000">
              <a:off x="2584800" y="551160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966000">
              <a:off x="2869920" y="537876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966000">
              <a:off x="2962080" y="5079600"/>
              <a:ext cx="265320" cy="31284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966000">
              <a:off x="2738880" y="5716440"/>
              <a:ext cx="25668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966000">
              <a:off x="2567160" y="5177160"/>
              <a:ext cx="66420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966000">
              <a:off x="2379600" y="5138640"/>
              <a:ext cx="66312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966000">
              <a:off x="3035520" y="5274720"/>
              <a:ext cx="38772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966000">
              <a:off x="2325600" y="5272560"/>
              <a:ext cx="62604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966000">
              <a:off x="2619000" y="5076000"/>
              <a:ext cx="4572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966000">
              <a:off x="2787120" y="528516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966000">
              <a:off x="2529360" y="538632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966000">
              <a:off x="3217320" y="5419800"/>
              <a:ext cx="4608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966000">
              <a:off x="3073320" y="520560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966000">
              <a:off x="2288880" y="547704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966000">
              <a:off x="2221560" y="5047200"/>
              <a:ext cx="361080" cy="32652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966000">
              <a:off x="2526120" y="5347080"/>
              <a:ext cx="67068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966000">
              <a:off x="3371400" y="5628240"/>
              <a:ext cx="4608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966000">
              <a:off x="2974680" y="55267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966000">
              <a:off x="3132720" y="57330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966000">
              <a:off x="2695680" y="56401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966000">
              <a:off x="2166480" y="5281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48800">
              <a:off x="2172600" y="5068080"/>
              <a:ext cx="23148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966000">
              <a:off x="2391120" y="5173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102800">
              <a:off x="2068200" y="5335200"/>
              <a:ext cx="246600" cy="2120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5187600">
              <a:off x="3234600" y="5409360"/>
              <a:ext cx="284400" cy="2091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1511600">
              <a:off x="3170520" y="5650920"/>
              <a:ext cx="23724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 rot="1137600">
              <a:off x="2657160" y="5051520"/>
              <a:ext cx="457920" cy="11628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966000">
              <a:off x="3221280" y="5425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966000">
              <a:off x="2501640" y="5807160"/>
              <a:ext cx="26604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966000">
              <a:off x="2604960" y="59410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1511600">
              <a:off x="2643840" y="5872680"/>
              <a:ext cx="23724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966000">
              <a:off x="2663280" y="5556960"/>
              <a:ext cx="67068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966000">
              <a:off x="2837880" y="5853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966000">
              <a:off x="2105640" y="5373360"/>
              <a:ext cx="62604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5648600">
              <a:off x="2358720" y="5803920"/>
              <a:ext cx="292680" cy="2055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966000">
              <a:off x="2604960" y="59403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966000">
              <a:off x="2295720" y="5477400"/>
              <a:ext cx="4572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966000">
              <a:off x="3370320" y="5629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966000">
              <a:off x="3138120" y="57376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966000">
              <a:off x="2463840" y="57319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 flipH="1">
            <a:off x="2798640" y="4444920"/>
            <a:ext cx="160560" cy="86832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31960" y="3784680"/>
            <a:ext cx="725760" cy="79992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653800" y="5040360"/>
            <a:ext cx="1526760" cy="1237320"/>
            <a:chOff x="5653800" y="5040360"/>
            <a:chExt cx="1526760" cy="1237320"/>
          </a:xfrm>
        </p:grpSpPr>
        <p:sp>
          <p:nvSpPr>
            <p:cNvPr id="677" name=""/>
            <p:cNvSpPr/>
            <p:nvPr/>
          </p:nvSpPr>
          <p:spPr>
            <a:xfrm flipH="1" rot="20634000">
              <a:off x="6872400" y="5273640"/>
              <a:ext cx="269640" cy="31248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20634000">
              <a:off x="5691600" y="5608080"/>
              <a:ext cx="264240" cy="31356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20634000">
              <a:off x="6680520" y="516672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20634000">
              <a:off x="6257880" y="528876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20634000">
              <a:off x="5842800" y="540288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rot="20634000">
              <a:off x="6767280" y="5466960"/>
              <a:ext cx="265680" cy="31320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rot="20634000">
              <a:off x="6531480" y="537300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rot="20634000">
              <a:off x="6596280" y="5722200"/>
              <a:ext cx="265680" cy="29052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rot="20634000">
              <a:off x="5928120" y="569808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 rot="20634000">
              <a:off x="6444000" y="507096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rot="20634000">
              <a:off x="6364080" y="5624280"/>
              <a:ext cx="265680" cy="3124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20634000">
              <a:off x="6078960" y="5491440"/>
              <a:ext cx="265680" cy="31320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rot="20634000">
              <a:off x="5988240" y="5192280"/>
              <a:ext cx="264600" cy="31248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rot="20634000">
              <a:off x="6219360" y="5828400"/>
              <a:ext cx="25596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20634000">
              <a:off x="5983920" y="5290200"/>
              <a:ext cx="662760" cy="49752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rot="20634000">
              <a:off x="6172560" y="5251680"/>
              <a:ext cx="661680" cy="45576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 rot="20634000">
              <a:off x="5793120" y="5387400"/>
              <a:ext cx="386640" cy="32652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rot="20634000">
              <a:off x="6263280" y="5385600"/>
              <a:ext cx="624600" cy="55260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rot="20634000">
              <a:off x="6549840" y="518904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rot="20634000">
              <a:off x="6352920" y="5398200"/>
              <a:ext cx="74520" cy="8208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rot="20634000">
              <a:off x="6639120" y="549864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rot="20634000">
              <a:off x="5952600" y="553212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rot="20634000">
              <a:off x="6095880" y="531792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rot="20634000">
              <a:off x="6879240" y="559008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rot="20634000">
              <a:off x="6630840" y="5160240"/>
              <a:ext cx="360360" cy="32616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rot="20634000">
              <a:off x="6018120" y="5459760"/>
              <a:ext cx="669240" cy="52560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rot="20634000">
              <a:off x="5798160" y="574020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rot="20634000">
              <a:off x="6194880" y="56390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rot="20634000">
              <a:off x="6037200" y="5844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rot="20634000">
              <a:off x="6472800" y="57524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rot="20634000">
              <a:off x="7000920" y="5394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rot="20851200">
              <a:off x="6809400" y="5181120"/>
              <a:ext cx="231120" cy="2466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rot="20634000">
              <a:off x="6777360" y="5286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rot="5497200">
              <a:off x="6898680" y="5448960"/>
              <a:ext cx="246240" cy="211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rot="16412400">
              <a:off x="5697000" y="5521680"/>
              <a:ext cx="284040" cy="2088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rot="10088400">
              <a:off x="5808600" y="5763240"/>
              <a:ext cx="236520" cy="238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 rot="20462400">
              <a:off x="6099840" y="5164560"/>
              <a:ext cx="456840" cy="11664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 rot="20634000">
              <a:off x="5948640" y="5538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rot="20634000">
              <a:off x="6446880" y="5919120"/>
              <a:ext cx="265680" cy="29808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rot="20634000">
              <a:off x="6563520" y="605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0088400">
              <a:off x="6334200" y="5984640"/>
              <a:ext cx="236520" cy="23832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rot="20634000">
              <a:off x="5881320" y="5669280"/>
              <a:ext cx="669240" cy="52560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 rot="20634000">
              <a:off x="6331680" y="59652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20634000">
              <a:off x="6482880" y="5486040"/>
              <a:ext cx="624600" cy="55260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rot="5951400">
              <a:off x="6562800" y="5916240"/>
              <a:ext cx="292320" cy="2052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rot="20634000">
              <a:off x="6563520" y="605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rot="20634000">
              <a:off x="6871680" y="55897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rot="20634000">
              <a:off x="5799960" y="5741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rot="20634000">
              <a:off x="6031800" y="5849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rot="20634000">
              <a:off x="6704640" y="58435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6168960" y="4802040"/>
            <a:ext cx="236520" cy="62568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6179040" y="2554560"/>
            <a:ext cx="1526760" cy="1172520"/>
            <a:chOff x="6179040" y="2554560"/>
            <a:chExt cx="1526760" cy="1172520"/>
          </a:xfrm>
        </p:grpSpPr>
        <p:sp>
          <p:nvSpPr>
            <p:cNvPr id="729" name=""/>
            <p:cNvSpPr/>
            <p:nvPr/>
          </p:nvSpPr>
          <p:spPr>
            <a:xfrm flipH="1" rot="21127800">
              <a:off x="7415280" y="2833920"/>
              <a:ext cx="269640" cy="31248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rot="21127800">
              <a:off x="6198840" y="2995200"/>
              <a:ext cx="264240" cy="31428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rot="21127800">
              <a:off x="7240680" y="269964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rot="21127800">
              <a:off x="6805080" y="27601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rot="21127800">
              <a:off x="6378480" y="281340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rot="21127800">
              <a:off x="7283160" y="300960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21127800">
              <a:off x="7063560" y="28825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rot="21127800">
              <a:off x="7080120" y="3238200"/>
              <a:ext cx="26568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rot="21127800">
              <a:off x="6420240" y="3118320"/>
              <a:ext cx="26568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rot="21127800">
              <a:off x="7020360" y="2571120"/>
              <a:ext cx="26568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rot="21127800">
              <a:off x="6862320" y="3107520"/>
              <a:ext cx="26568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 rot="21127800">
              <a:off x="6598800" y="2934720"/>
              <a:ext cx="26568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rot="21127800">
              <a:off x="6551280" y="2625840"/>
              <a:ext cx="264600" cy="31248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rot="21127800">
              <a:off x="6691320" y="3288600"/>
              <a:ext cx="255960" cy="29880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rot="21127800">
              <a:off x="6517440" y="2749320"/>
              <a:ext cx="66276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 rot="21127800">
              <a:off x="6713280" y="2738880"/>
              <a:ext cx="66168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rot="21127800">
              <a:off x="6328440" y="2799360"/>
              <a:ext cx="38664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rot="21127800">
              <a:off x="6776640" y="2881080"/>
              <a:ext cx="62460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rot="21127800">
              <a:off x="7127280" y="2688480"/>
              <a:ext cx="4536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rot="21127800">
              <a:off x="6901200" y="286884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rot="21127800">
              <a:off x="7171560" y="300816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rot="21127800">
              <a:off x="6487200" y="294264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 rot="21127800">
              <a:off x="6659640" y="2751480"/>
              <a:ext cx="46800" cy="5508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 rot="21127800">
              <a:off x="7395840" y="313272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rot="21127800">
              <a:off x="7191360" y="2692800"/>
              <a:ext cx="360360" cy="32688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 rot="21127800">
              <a:off x="6527160" y="2922840"/>
              <a:ext cx="66924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rot="21127800">
              <a:off x="6305400" y="312696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rot="21127800">
              <a:off x="6711120" y="308340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rot="21127800">
              <a:off x="6526440" y="32648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rot="21127800">
              <a:off x="6970320" y="323568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rot="21127800">
              <a:off x="7544160" y="29563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rot="21345000">
              <a:off x="7371720" y="2730600"/>
              <a:ext cx="23112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rot="21127800">
              <a:off x="7338240" y="28177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rot="5991000">
              <a:off x="7423560" y="3009600"/>
              <a:ext cx="246600" cy="211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rot="16906200">
              <a:off x="6224760" y="2912760"/>
              <a:ext cx="284400" cy="2084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rot="10582800">
              <a:off x="6298200" y="3163680"/>
              <a:ext cx="23652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 rot="20956200">
              <a:off x="6679080" y="2629440"/>
              <a:ext cx="456840" cy="11664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 rot="21127800">
              <a:off x="6482520" y="29480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rot="21127800">
              <a:off x="6902640" y="3411720"/>
              <a:ext cx="26568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rot="21127800">
              <a:off x="7017480" y="354636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 rot="10582800">
              <a:off x="6786720" y="3458880"/>
              <a:ext cx="23652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rot="21127800">
              <a:off x="6361560" y="3111120"/>
              <a:ext cx="66924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rot="21127800">
              <a:off x="6800040" y="34261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rot="21127800">
              <a:off x="6980040" y="3012480"/>
              <a:ext cx="62460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 rot="6445200">
              <a:off x="7024680" y="3428280"/>
              <a:ext cx="292680" cy="20484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rot="21127800">
              <a:off x="7017120" y="35456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rot="21127800">
              <a:off x="7389000" y="31316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 rot="21127800">
              <a:off x="6306120" y="31280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rot="21127800">
              <a:off x="6520320" y="326844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rot="21127800">
              <a:off x="7186680" y="3359520"/>
              <a:ext cx="45360" cy="5940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5981760" y="2736720"/>
            <a:ext cx="941040" cy="1749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319720" y="2308320"/>
            <a:ext cx="725400" cy="7966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450800" y="2373120"/>
            <a:ext cx="1528200" cy="1172880"/>
            <a:chOff x="1450800" y="2373120"/>
            <a:chExt cx="1528200" cy="1172880"/>
          </a:xfrm>
        </p:grpSpPr>
        <p:sp>
          <p:nvSpPr>
            <p:cNvPr id="782" name=""/>
            <p:cNvSpPr/>
            <p:nvPr/>
          </p:nvSpPr>
          <p:spPr>
            <a:xfrm rot="472200">
              <a:off x="1470600" y="2652480"/>
              <a:ext cx="270000" cy="312840"/>
            </a:xfrm>
            <a:custGeom>
              <a:avLst/>
              <a:gdLst/>
              <a:ahLst/>
              <a:rect l="l" t="t" r="r" b="b"/>
              <a:pathLst>
                <a:path w="539" h="528">
                  <a:moveTo>
                    <a:pt x="135" y="0"/>
                  </a:moveTo>
                  <a:lnTo>
                    <a:pt x="0" y="263"/>
                  </a:lnTo>
                  <a:lnTo>
                    <a:pt x="135" y="528"/>
                  </a:lnTo>
                  <a:lnTo>
                    <a:pt x="404" y="528"/>
                  </a:lnTo>
                  <a:lnTo>
                    <a:pt x="539" y="263"/>
                  </a:lnTo>
                  <a:lnTo>
                    <a:pt x="404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472200">
              <a:off x="2694240" y="2814120"/>
              <a:ext cx="264240" cy="314640"/>
            </a:xfrm>
            <a:custGeom>
              <a:avLst/>
              <a:gdLst/>
              <a:ahLst/>
              <a:rect l="l" t="t" r="r" b="b"/>
              <a:pathLst>
                <a:path w="528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28" y="266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472200">
              <a:off x="1650240" y="251856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472200">
              <a:off x="2086560" y="25790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5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ccffff"/>
            </a:solidFill>
            <a:ln w="42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472200">
              <a:off x="2513880" y="263232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2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472200">
              <a:off x="1607040" y="282852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3" y="0"/>
                  </a:moveTo>
                  <a:lnTo>
                    <a:pt x="0" y="265"/>
                  </a:lnTo>
                  <a:lnTo>
                    <a:pt x="133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472200">
              <a:off x="1827720" y="27014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3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3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472200">
              <a:off x="1811520" y="3057120"/>
              <a:ext cx="266040" cy="29088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8" y="528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472200">
              <a:off x="2471400" y="2937240"/>
              <a:ext cx="26604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5"/>
                  </a:lnTo>
                  <a:lnTo>
                    <a:pt x="133" y="531"/>
                  </a:lnTo>
                  <a:lnTo>
                    <a:pt x="398" y="531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472200">
              <a:off x="1870200" y="2389680"/>
              <a:ext cx="266040" cy="3146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3" y="0"/>
                  </a:moveTo>
                  <a:lnTo>
                    <a:pt x="0" y="266"/>
                  </a:lnTo>
                  <a:lnTo>
                    <a:pt x="133" y="531"/>
                  </a:lnTo>
                  <a:lnTo>
                    <a:pt x="399" y="531"/>
                  </a:lnTo>
                  <a:lnTo>
                    <a:pt x="531" y="266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472200">
              <a:off x="2029320" y="2926440"/>
              <a:ext cx="266040" cy="312840"/>
            </a:xfrm>
            <a:custGeom>
              <a:avLst/>
              <a:gdLst/>
              <a:ahLst/>
              <a:rect l="l" t="t" r="r" b="b"/>
              <a:pathLst>
                <a:path w="531" h="528">
                  <a:moveTo>
                    <a:pt x="133" y="0"/>
                  </a:moveTo>
                  <a:lnTo>
                    <a:pt x="0" y="262"/>
                  </a:lnTo>
                  <a:lnTo>
                    <a:pt x="133" y="528"/>
                  </a:lnTo>
                  <a:lnTo>
                    <a:pt x="399" y="528"/>
                  </a:lnTo>
                  <a:lnTo>
                    <a:pt x="531" y="262"/>
                  </a:lnTo>
                  <a:lnTo>
                    <a:pt x="399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472200">
              <a:off x="2292120" y="2753640"/>
              <a:ext cx="266040" cy="313920"/>
            </a:xfrm>
            <a:custGeom>
              <a:avLst/>
              <a:gdLst/>
              <a:ahLst/>
              <a:rect l="l" t="t" r="r" b="b"/>
              <a:pathLst>
                <a:path w="531" h="530">
                  <a:moveTo>
                    <a:pt x="132" y="0"/>
                  </a:moveTo>
                  <a:lnTo>
                    <a:pt x="0" y="265"/>
                  </a:lnTo>
                  <a:lnTo>
                    <a:pt x="132" y="530"/>
                  </a:lnTo>
                  <a:lnTo>
                    <a:pt x="398" y="530"/>
                  </a:lnTo>
                  <a:lnTo>
                    <a:pt x="531" y="265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72200">
              <a:off x="2340720" y="2444760"/>
              <a:ext cx="264960" cy="312840"/>
            </a:xfrm>
            <a:custGeom>
              <a:avLst/>
              <a:gdLst/>
              <a:ahLst/>
              <a:rect l="l" t="t" r="r" b="b"/>
              <a:pathLst>
                <a:path w="529" h="528">
                  <a:moveTo>
                    <a:pt x="133" y="0"/>
                  </a:moveTo>
                  <a:lnTo>
                    <a:pt x="0" y="265"/>
                  </a:lnTo>
                  <a:lnTo>
                    <a:pt x="133" y="528"/>
                  </a:lnTo>
                  <a:lnTo>
                    <a:pt x="396" y="528"/>
                  </a:lnTo>
                  <a:lnTo>
                    <a:pt x="529" y="265"/>
                  </a:lnTo>
                  <a:lnTo>
                    <a:pt x="396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472200">
              <a:off x="2210040" y="3107520"/>
              <a:ext cx="25632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472200">
              <a:off x="1975680" y="2568240"/>
              <a:ext cx="663480" cy="498600"/>
            </a:xfrm>
            <a:custGeom>
              <a:avLst/>
              <a:gdLst/>
              <a:ahLst/>
              <a:rect l="l" t="t" r="r" b="b"/>
              <a:pathLst>
                <a:path w="1324" h="841">
                  <a:moveTo>
                    <a:pt x="17" y="0"/>
                  </a:moveTo>
                  <a:lnTo>
                    <a:pt x="0" y="21"/>
                  </a:lnTo>
                  <a:lnTo>
                    <a:pt x="1310" y="841"/>
                  </a:lnTo>
                  <a:lnTo>
                    <a:pt x="1324" y="8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472200">
              <a:off x="1781280" y="2557800"/>
              <a:ext cx="662400" cy="456480"/>
            </a:xfrm>
            <a:custGeom>
              <a:avLst/>
              <a:gdLst/>
              <a:ahLst/>
              <a:rect l="l" t="t" r="r" b="b"/>
              <a:pathLst>
                <a:path w="1331" h="770">
                  <a:moveTo>
                    <a:pt x="1331" y="24"/>
                  </a:moveTo>
                  <a:lnTo>
                    <a:pt x="1313" y="0"/>
                  </a:lnTo>
                  <a:lnTo>
                    <a:pt x="0" y="749"/>
                  </a:lnTo>
                  <a:lnTo>
                    <a:pt x="18" y="770"/>
                  </a:lnTo>
                  <a:lnTo>
                    <a:pt x="1331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472200">
              <a:off x="2441880" y="2618280"/>
              <a:ext cx="387000" cy="327240"/>
            </a:xfrm>
            <a:custGeom>
              <a:avLst/>
              <a:gdLst/>
              <a:ahLst/>
              <a:rect l="l" t="t" r="r" b="b"/>
              <a:pathLst>
                <a:path w="773" h="552">
                  <a:moveTo>
                    <a:pt x="15" y="0"/>
                  </a:moveTo>
                  <a:lnTo>
                    <a:pt x="0" y="24"/>
                  </a:lnTo>
                  <a:lnTo>
                    <a:pt x="758" y="552"/>
                  </a:lnTo>
                  <a:lnTo>
                    <a:pt x="773" y="53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472200">
              <a:off x="1754640" y="2700000"/>
              <a:ext cx="62532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472200">
              <a:off x="1983600" y="2507400"/>
              <a:ext cx="45360" cy="5400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472200">
              <a:off x="2181240" y="2688120"/>
              <a:ext cx="74520" cy="81720"/>
            </a:xfrm>
            <a:prstGeom prst="ellipse">
              <a:avLst/>
            </a:prstGeom>
            <a:solidFill>
              <a:srgbClr val="ff66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472200">
              <a:off x="1939320" y="2827080"/>
              <a:ext cx="4536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472200">
              <a:off x="2624400" y="2761560"/>
              <a:ext cx="45720" cy="5436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472200">
              <a:off x="2450520" y="2570400"/>
              <a:ext cx="46800" cy="554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472200">
              <a:off x="1715040" y="2951640"/>
              <a:ext cx="4536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472200">
              <a:off x="1604880" y="2511720"/>
              <a:ext cx="360720" cy="326520"/>
            </a:xfrm>
            <a:custGeom>
              <a:avLst/>
              <a:gdLst/>
              <a:ahLst/>
              <a:rect l="l" t="t" r="r" b="b"/>
              <a:pathLst>
                <a:path w="720" h="551">
                  <a:moveTo>
                    <a:pt x="720" y="24"/>
                  </a:moveTo>
                  <a:lnTo>
                    <a:pt x="705" y="0"/>
                  </a:lnTo>
                  <a:lnTo>
                    <a:pt x="0" y="531"/>
                  </a:lnTo>
                  <a:lnTo>
                    <a:pt x="14" y="551"/>
                  </a:lnTo>
                  <a:lnTo>
                    <a:pt x="720" y="24"/>
                  </a:lnTo>
                  <a:close/>
                </a:path>
              </a:pathLst>
            </a:custGeom>
            <a:solidFill>
              <a:srgbClr val="0000ff"/>
            </a:solidFill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472200">
              <a:off x="1960920" y="2741760"/>
              <a:ext cx="66996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472200">
              <a:off x="2806560" y="2945880"/>
              <a:ext cx="45720" cy="53640"/>
            </a:xfrm>
            <a:prstGeom prst="ellipse">
              <a:avLst/>
            </a:prstGeom>
            <a:solidFill>
              <a:srgbClr val="8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472200">
              <a:off x="2400480" y="290232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472200">
              <a:off x="2585520" y="30837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472200">
              <a:off x="2140920" y="305460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472200">
              <a:off x="1566360" y="27752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255000">
              <a:off x="1554120" y="2548800"/>
              <a:ext cx="231480" cy="24696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472200">
              <a:off x="1772640" y="26366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5609000">
              <a:off x="1486080" y="2828160"/>
              <a:ext cx="246600" cy="211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4693800">
              <a:off x="2649240" y="2731320"/>
              <a:ext cx="284400" cy="2088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1017200">
              <a:off x="2623320" y="2982600"/>
              <a:ext cx="23688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 rot="643800">
              <a:off x="2020680" y="2448000"/>
              <a:ext cx="457200" cy="116280"/>
            </a:xfrm>
            <a:custGeom>
              <a:avLst/>
              <a:gdLst/>
              <a:ahLst/>
              <a:rect l="l" t="t" r="r" b="b"/>
              <a:pathLst>
                <a:path w="457" h="214">
                  <a:moveTo>
                    <a:pt x="0" y="0"/>
                  </a:moveTo>
                  <a:cubicBezTo>
                    <a:pt x="81" y="103"/>
                    <a:pt x="162" y="206"/>
                    <a:pt x="238" y="210"/>
                  </a:cubicBezTo>
                  <a:cubicBezTo>
                    <a:pt x="314" y="214"/>
                    <a:pt x="420" y="58"/>
                    <a:pt x="457" y="27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472200">
              <a:off x="2629440" y="27669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472200">
              <a:off x="1988280" y="3230640"/>
              <a:ext cx="266040" cy="298440"/>
            </a:xfrm>
            <a:custGeom>
              <a:avLst/>
              <a:gdLst/>
              <a:ahLst/>
              <a:rect l="l" t="t" r="r" b="b"/>
              <a:pathLst>
                <a:path w="531" h="531">
                  <a:moveTo>
                    <a:pt x="132" y="0"/>
                  </a:moveTo>
                  <a:lnTo>
                    <a:pt x="0" y="266"/>
                  </a:lnTo>
                  <a:lnTo>
                    <a:pt x="132" y="531"/>
                  </a:lnTo>
                  <a:lnTo>
                    <a:pt x="398" y="531"/>
                  </a:lnTo>
                  <a:lnTo>
                    <a:pt x="531" y="266"/>
                  </a:lnTo>
                  <a:lnTo>
                    <a:pt x="398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472200">
              <a:off x="2093760" y="336528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1017200">
              <a:off x="2134440" y="3277440"/>
              <a:ext cx="236880" cy="23868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472200">
              <a:off x="2126520" y="2930040"/>
              <a:ext cx="669960" cy="527040"/>
            </a:xfrm>
            <a:custGeom>
              <a:avLst/>
              <a:gdLst/>
              <a:ahLst/>
              <a:rect l="l" t="t" r="r" b="b"/>
              <a:pathLst>
                <a:path w="1319" h="926">
                  <a:moveTo>
                    <a:pt x="1319" y="27"/>
                  </a:moveTo>
                  <a:lnTo>
                    <a:pt x="1304" y="0"/>
                  </a:lnTo>
                  <a:lnTo>
                    <a:pt x="0" y="903"/>
                  </a:lnTo>
                  <a:lnTo>
                    <a:pt x="18" y="926"/>
                  </a:lnTo>
                  <a:lnTo>
                    <a:pt x="1319" y="27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472200">
              <a:off x="2311560" y="32450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472200">
              <a:off x="1551240" y="2831400"/>
              <a:ext cx="625320" cy="553680"/>
            </a:xfrm>
            <a:custGeom>
              <a:avLst/>
              <a:gdLst/>
              <a:ahLst/>
              <a:rect l="l" t="t" r="r" b="b"/>
              <a:pathLst>
                <a:path w="1248" h="934">
                  <a:moveTo>
                    <a:pt x="18" y="0"/>
                  </a:moveTo>
                  <a:lnTo>
                    <a:pt x="0" y="23"/>
                  </a:lnTo>
                  <a:lnTo>
                    <a:pt x="1231" y="934"/>
                  </a:lnTo>
                  <a:lnTo>
                    <a:pt x="1248" y="91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5154800">
              <a:off x="1839600" y="3246840"/>
              <a:ext cx="292680" cy="205200"/>
            </a:xfrm>
            <a:custGeom>
              <a:avLst/>
              <a:gdLst/>
              <a:ahLst/>
              <a:rect l="l" t="t" r="r" b="b"/>
              <a:pathLst>
                <a:path w="351" h="326">
                  <a:moveTo>
                    <a:pt x="58" y="326"/>
                  </a:moveTo>
                  <a:cubicBezTo>
                    <a:pt x="29" y="234"/>
                    <a:pt x="0" y="142"/>
                    <a:pt x="21" y="89"/>
                  </a:cubicBezTo>
                  <a:cubicBezTo>
                    <a:pt x="42" y="36"/>
                    <a:pt x="131" y="0"/>
                    <a:pt x="186" y="6"/>
                  </a:cubicBezTo>
                  <a:cubicBezTo>
                    <a:pt x="241" y="12"/>
                    <a:pt x="325" y="107"/>
                    <a:pt x="351" y="125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472200">
              <a:off x="2094120" y="3364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472200">
              <a:off x="1721880" y="29505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472200">
              <a:off x="2805840" y="29469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472200">
              <a:off x="2591640" y="308736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472200">
              <a:off x="1924560" y="3178440"/>
              <a:ext cx="45360" cy="59040"/>
            </a:xfrm>
            <a:prstGeom prst="ellipse">
              <a:avLst/>
            </a:prstGeom>
            <a:solidFill>
              <a:srgbClr val="cc33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 flipH="1">
            <a:off x="2250000" y="2413080"/>
            <a:ext cx="740160" cy="315720"/>
          </a:xfrm>
          <a:prstGeom prst="line">
            <a:avLst/>
          </a:prstGeom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285320" y="32612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21480" y="555984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172520" y="52423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99400" y="271980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408360" y="45482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18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246360" y="2112840"/>
            <a:ext cx="48852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10000">
                <a:solidFill>
                  <a:srgbClr val="000000"/>
                </a:solidFill>
                <a:latin typeface="Book Antiqua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28840" y="1878120"/>
            <a:ext cx="476280" cy="4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 baseline="-10000">
                <a:solidFill>
                  <a:srgbClr val="000000"/>
                </a:solidFill>
                <a:latin typeface="Book Antiqua"/>
              </a:rPr>
              <a:t>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881440" y="2030400"/>
            <a:ext cx="718920" cy="75420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66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17480" y="98280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Book Antiqua"/>
              </a:rPr>
              <a:t>Future Evolution of Optical Network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07720" y="213516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180560" y="23814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816960" y="57387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892600" y="587700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9040" y="210348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ro-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2435400" y="2932200"/>
            <a:ext cx="500040" cy="93348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171960" y="4465800"/>
            <a:ext cx="266400" cy="674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442120" y="595620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cc0000"/>
                </a:solidFill>
                <a:latin typeface="Times New Roman"/>
              </a:rPr>
              <a:t>ON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72480" y="3351240"/>
            <a:ext cx="19886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Lucida Sans Unicode"/>
              </a:rPr>
              <a:t>  </a:t>
            </a:r>
            <a:r>
              <a:rPr b="1" lang="en-US" sz="3600" spc="-1" strike="noStrike">
                <a:solidFill>
                  <a:srgbClr val="ccccff"/>
                </a:solidFill>
                <a:latin typeface="Lucida Sans Unicode"/>
              </a:rPr>
              <a:t>FTTB/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Lucida Sans Unicode"/>
              </a:rPr>
              <a:t>FT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9520" y="5388120"/>
            <a:ext cx="478080" cy="44928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08360" y="4892760"/>
            <a:ext cx="520920" cy="4953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05440" y="5170320"/>
            <a:ext cx="488880" cy="455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830840" y="5108400"/>
            <a:ext cx="66600" cy="61920"/>
          </a:xfrm>
          <a:prstGeom prst="ellipse">
            <a:avLst/>
          </a:prstGeom>
          <a:solidFill>
            <a:srgbClr val="3333cc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73560" y="5361120"/>
            <a:ext cx="68400" cy="63360"/>
          </a:xfrm>
          <a:prstGeom prst="ellipse">
            <a:avLst/>
          </a:prstGeom>
          <a:solidFill>
            <a:srgbClr val="3333cc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29040" y="5572080"/>
            <a:ext cx="66960" cy="65160"/>
          </a:xfrm>
          <a:prstGeom prst="ellipse">
            <a:avLst/>
          </a:prstGeom>
          <a:solidFill>
            <a:srgbClr val="3333cc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69000" y="5143680"/>
            <a:ext cx="0" cy="469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07080" y="5129280"/>
            <a:ext cx="422280" cy="27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08640" y="5838840"/>
            <a:ext cx="52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208480" y="4371840"/>
          <a:ext cx="80496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8480" y="4371840"/>
                    <a:ext cx="804960" cy="1052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62" name=""/>
          <p:cNvSpPr/>
          <p:nvPr/>
        </p:nvSpPr>
        <p:spPr>
          <a:xfrm>
            <a:off x="5396040" y="5392800"/>
            <a:ext cx="490320" cy="47952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3435120" y="5135040"/>
            <a:ext cx="1382760" cy="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713120" y="2773440"/>
            <a:ext cx="2132280" cy="17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603760" y="5586480"/>
            <a:ext cx="77760" cy="7920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40160" y="5421240"/>
            <a:ext cx="379440" cy="187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175360" y="5369040"/>
            <a:ext cx="77760" cy="7920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91040" y="5618160"/>
            <a:ext cx="519120" cy="4953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4857480" y="5614560"/>
            <a:ext cx="407880" cy="282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822920" y="5100480"/>
            <a:ext cx="77760" cy="7956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22920" y="5567400"/>
            <a:ext cx="77760" cy="7920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210280" y="5823000"/>
            <a:ext cx="77760" cy="79200"/>
          </a:xfrm>
          <a:prstGeom prst="ellipse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1042920" y="2528640"/>
            <a:ext cx="1058760" cy="507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136600" y="1633680"/>
            <a:ext cx="263880" cy="9111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395160" y="1824120"/>
            <a:ext cx="260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2400" spc="-1" strike="noStrike">
                <a:solidFill>
                  <a:srgbClr val="a50021"/>
                </a:solidFill>
                <a:latin typeface="Times New Roman"/>
              </a:rPr>
              <a:t>Fibre everywher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655720" y="3807000"/>
            <a:ext cx="687600" cy="70452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73280" y="3970440"/>
            <a:ext cx="8604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cc0000"/>
                </a:solidFill>
                <a:latin typeface="Times New Roman"/>
              </a:rPr>
              <a:t>Optical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940640" y="2941560"/>
            <a:ext cx="204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/drop optical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451240" y="2557440"/>
            <a:ext cx="1633320" cy="34308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3259080" y="3179520"/>
            <a:ext cx="952560" cy="79380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452600" y="4232160"/>
            <a:ext cx="1227240" cy="44784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784520" y="2108160"/>
            <a:ext cx="853920" cy="870120"/>
          </a:xfrm>
          <a:prstGeom prst="ellipse">
            <a:avLst/>
          </a:prstGeom>
          <a:gradFill rotWithShape="0">
            <a:gsLst>
              <a:gs pos="0">
                <a:srgbClr val="66ff99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87400" y="2341440"/>
            <a:ext cx="879480" cy="5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Times New Roman"/>
              </a:rPr>
              <a:t>Optical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2425680" y="4473720"/>
            <a:ext cx="477720" cy="116496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394080" y="4603680"/>
            <a:ext cx="127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/dr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cal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4668840" y="2494080"/>
            <a:ext cx="558720" cy="27288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43560" y="3259080"/>
            <a:ext cx="701640" cy="67644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189160" y="5987880"/>
            <a:ext cx="561960" cy="0"/>
          </a:xfrm>
          <a:prstGeom prst="line">
            <a:avLst/>
          </a:prstGeom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184480" y="6183360"/>
            <a:ext cx="561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739240" y="5868000"/>
            <a:ext cx="1203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asual"/>
              </a:rPr>
              <a:t>Fibras si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asual"/>
              </a:rPr>
              <a:t>Fibras dup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2234880" y="1636560"/>
            <a:ext cx="8892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1290240" y="2436480"/>
            <a:ext cx="219240" cy="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913040" y="4519080"/>
            <a:ext cx="204840" cy="1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498760" y="4873320"/>
            <a:ext cx="11736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5005440" y="3611520"/>
            <a:ext cx="2332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641760" y="3581280"/>
            <a:ext cx="204840" cy="1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3389400" y="2685600"/>
            <a:ext cx="218880" cy="4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807080" y="2478240"/>
            <a:ext cx="204480" cy="1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2548080" y="3346200"/>
            <a:ext cx="147600" cy="3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50840" y="38725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ó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989880" y="337428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ó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94920" y="181512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Nó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3" name=""/>
          <p:cNvGraphicFramePr/>
          <p:nvPr/>
        </p:nvGraphicFramePr>
        <p:xfrm>
          <a:off x="6808680" y="1881360"/>
          <a:ext cx="1370160" cy="109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8680" y="1881360"/>
                    <a:ext cx="137016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5" name=""/>
          <p:cNvSpPr/>
          <p:nvPr/>
        </p:nvSpPr>
        <p:spPr>
          <a:xfrm flipH="1">
            <a:off x="5290920" y="5641920"/>
            <a:ext cx="31428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054320" y="2612880"/>
            <a:ext cx="687600" cy="70488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986280" y="2759040"/>
            <a:ext cx="830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cc0000"/>
                </a:solidFill>
                <a:latin typeface="Times New Roman"/>
              </a:rPr>
              <a:t>Optical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867040" y="4513320"/>
            <a:ext cx="4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Monotype Corsiva"/>
              </a:rPr>
              <a:t>f</a:t>
            </a:r>
            <a:r>
              <a:rPr b="1" lang="en-US" sz="2000" spc="-1" strike="noStrike" baseline="-10000">
                <a:solidFill>
                  <a:srgbClr val="cc3399"/>
                </a:solidFill>
                <a:latin typeface="Times New Roman"/>
              </a:rPr>
              <a:t> i</a:t>
            </a:r>
            <a:r>
              <a:rPr b="1" lang="en-US" sz="2000" spc="-1" strike="noStrike">
                <a:solidFill>
                  <a:srgbClr val="cc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 flipV="1">
            <a:off x="3269880" y="4471560"/>
            <a:ext cx="8892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>
            <a:off x="3365280" y="4481640"/>
            <a:ext cx="88920" cy="19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657320" y="291780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Monotype Corsiva"/>
              </a:rPr>
              <a:t>f</a:t>
            </a:r>
            <a:r>
              <a:rPr b="1" lang="en-US" sz="2000" spc="-1" strike="noStrike" baseline="-10000">
                <a:solidFill>
                  <a:srgbClr val="cc3399"/>
                </a:solidFill>
                <a:latin typeface="Times New Roman"/>
              </a:rPr>
              <a:t> j</a:t>
            </a:r>
            <a:r>
              <a:rPr b="1" lang="en-US" sz="2000" spc="-1" strike="noStrike">
                <a:solidFill>
                  <a:srgbClr val="cc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60160" y="874800"/>
            <a:ext cx="55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Book Antiqua"/>
              </a:rPr>
              <a:t>  </a:t>
            </a:r>
            <a:r>
              <a:rPr b="1" i="1" lang="en-US" sz="2800" spc="-1" strike="noStrike">
                <a:solidFill>
                  <a:srgbClr val="cc0000"/>
                </a:solidFill>
                <a:latin typeface="Book Antiqua"/>
              </a:rPr>
              <a:t>Future Optical Access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880" y="22860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Photonic Network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Metro-Acesso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4438800" y="2470320"/>
            <a:ext cx="1247760" cy="19666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4433760" y="2779200"/>
            <a:ext cx="12304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438800" y="3397320"/>
            <a:ext cx="1241280" cy="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38800" y="2776680"/>
            <a:ext cx="1241280" cy="620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438800" y="2776680"/>
            <a:ext cx="1241280" cy="1342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438800" y="2776680"/>
            <a:ext cx="1241280" cy="1342800"/>
          </a:xfrm>
          <a:prstGeom prst="line">
            <a:avLst/>
          </a:prstGeom>
          <a:ln w="11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4438800" y="2776680"/>
            <a:ext cx="1241280" cy="620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38800" y="3397320"/>
            <a:ext cx="1241280" cy="7221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438800" y="3397320"/>
            <a:ext cx="1241280" cy="722160"/>
          </a:xfrm>
          <a:prstGeom prst="line">
            <a:avLst/>
          </a:prstGeom>
          <a:ln w="11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19520" y="2470320"/>
            <a:ext cx="1019160" cy="1139760"/>
          </a:xfrm>
          <a:prstGeom prst="rect">
            <a:avLst/>
          </a:prstGeom>
          <a:solidFill>
            <a:srgbClr val="dddddd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35240" y="2563920"/>
            <a:ext cx="209520" cy="2142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00400" y="2563920"/>
            <a:ext cx="210960" cy="2142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70240" y="2563920"/>
            <a:ext cx="209520" cy="21420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787480" y="2781360"/>
            <a:ext cx="851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92560" y="2781360"/>
            <a:ext cx="115092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35240" y="3187800"/>
            <a:ext cx="209520" cy="2127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200400" y="3187800"/>
            <a:ext cx="210960" cy="2127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270240" y="3187800"/>
            <a:ext cx="209520" cy="212760"/>
          </a:xfrm>
          <a:prstGeom prst="ellipse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787480" y="3400560"/>
            <a:ext cx="882720" cy="2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693880" y="5565600"/>
            <a:ext cx="3068640" cy="419400"/>
          </a:xfrm>
          <a:prstGeom prst="rect">
            <a:avLst/>
          </a:prstGeom>
          <a:solidFill>
            <a:srgbClr val="f8f8f8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556080" y="4129200"/>
            <a:ext cx="6120" cy="774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75160" y="4122720"/>
            <a:ext cx="7570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327560" y="4068720"/>
            <a:ext cx="111240" cy="109440"/>
          </a:xfrm>
          <a:custGeom>
            <a:avLst/>
            <a:gdLst/>
            <a:ahLst/>
            <a:rect l="l" t="t" r="r" b="b"/>
            <a:pathLst>
              <a:path w="70" h="69">
                <a:moveTo>
                  <a:pt x="0" y="69"/>
                </a:moveTo>
                <a:lnTo>
                  <a:pt x="70" y="34"/>
                </a:lnTo>
                <a:lnTo>
                  <a:pt x="0" y="0"/>
                </a:lnTo>
                <a:lnTo>
                  <a:pt x="0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062080" y="2781360"/>
            <a:ext cx="614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673360" y="2725560"/>
            <a:ext cx="114120" cy="113040"/>
          </a:xfrm>
          <a:custGeom>
            <a:avLst/>
            <a:gdLst/>
            <a:ahLst/>
            <a:rect l="l" t="t" r="r" b="b"/>
            <a:pathLst>
              <a:path w="72" h="71">
                <a:moveTo>
                  <a:pt x="0" y="71"/>
                </a:moveTo>
                <a:lnTo>
                  <a:pt x="72" y="35"/>
                </a:lnTo>
                <a:lnTo>
                  <a:pt x="0" y="0"/>
                </a:lnTo>
                <a:lnTo>
                  <a:pt x="0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62080" y="3400560"/>
            <a:ext cx="6145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673360" y="3344760"/>
            <a:ext cx="11412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72"/>
                </a:moveTo>
                <a:lnTo>
                  <a:pt x="72" y="35"/>
                </a:lnTo>
                <a:lnTo>
                  <a:pt x="0" y="0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68920" y="2770200"/>
            <a:ext cx="965160" cy="32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680080" y="3400560"/>
            <a:ext cx="923760" cy="1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600960" y="3344760"/>
            <a:ext cx="114120" cy="114480"/>
          </a:xfrm>
          <a:custGeom>
            <a:avLst/>
            <a:gdLst/>
            <a:ahLst/>
            <a:rect l="l" t="t" r="r" b="b"/>
            <a:pathLst>
              <a:path w="72" h="72">
                <a:moveTo>
                  <a:pt x="0" y="72"/>
                </a:moveTo>
                <a:lnTo>
                  <a:pt x="72" y="35"/>
                </a:lnTo>
                <a:lnTo>
                  <a:pt x="0" y="0"/>
                </a:lnTo>
                <a:lnTo>
                  <a:pt x="0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680080" y="4119480"/>
            <a:ext cx="399960" cy="79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21200" y="4732200"/>
            <a:ext cx="55440" cy="841680"/>
          </a:xfrm>
          <a:custGeom>
            <a:avLst/>
            <a:gdLst/>
            <a:ahLst/>
            <a:rect l="l" t="t" r="r" b="b"/>
            <a:pathLst>
              <a:path w="35" h="530">
                <a:moveTo>
                  <a:pt x="35" y="0"/>
                </a:moveTo>
                <a:lnTo>
                  <a:pt x="7" y="0"/>
                </a:lnTo>
                <a:lnTo>
                  <a:pt x="0" y="530"/>
                </a:lnTo>
                <a:lnTo>
                  <a:pt x="28" y="530"/>
                </a:lnTo>
                <a:lnTo>
                  <a:pt x="3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853160" y="4437000"/>
            <a:ext cx="206280" cy="303120"/>
          </a:xfrm>
          <a:custGeom>
            <a:avLst/>
            <a:gdLst/>
            <a:ahLst/>
            <a:rect l="l" t="t" r="r" b="b"/>
            <a:pathLst>
              <a:path w="130" h="191">
                <a:moveTo>
                  <a:pt x="130" y="191"/>
                </a:moveTo>
                <a:lnTo>
                  <a:pt x="65" y="0"/>
                </a:lnTo>
                <a:lnTo>
                  <a:pt x="0" y="191"/>
                </a:lnTo>
                <a:lnTo>
                  <a:pt x="130" y="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870280" y="3606840"/>
            <a:ext cx="41040" cy="177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790720" y="5373720"/>
            <a:ext cx="195480" cy="191880"/>
          </a:xfrm>
          <a:custGeom>
            <a:avLst/>
            <a:gdLst/>
            <a:ahLst/>
            <a:rect l="l" t="t" r="r" b="b"/>
            <a:pathLst>
              <a:path w="123" h="121">
                <a:moveTo>
                  <a:pt x="0" y="0"/>
                </a:moveTo>
                <a:lnTo>
                  <a:pt x="63" y="121"/>
                </a:ln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614760" y="5668920"/>
            <a:ext cx="25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714840" y="5762520"/>
            <a:ext cx="19764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387240" y="5649840"/>
            <a:ext cx="175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lectronic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748040" y="205740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53160" y="2143080"/>
            <a:ext cx="950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886280" y="2112840"/>
            <a:ext cx="4618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83880" y="1973160"/>
            <a:ext cx="10004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Book Antiqua"/>
              </a:rPr>
              <a:t>Optica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Book Antiqua"/>
              </a:rPr>
              <a:t>Swit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373480" y="2160720"/>
            <a:ext cx="21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476440" y="2246400"/>
            <a:ext cx="968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511360" y="2216160"/>
            <a:ext cx="15447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47000" y="2219400"/>
            <a:ext cx="1524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Header 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476440" y="2422440"/>
            <a:ext cx="1238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373480" y="2987640"/>
            <a:ext cx="4204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90800" y="3606840"/>
            <a:ext cx="18655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094200" y="4897440"/>
            <a:ext cx="13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128040" y="489744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130920" y="5097600"/>
            <a:ext cx="102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cal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021360" y="4127400"/>
            <a:ext cx="112680" cy="619200"/>
            <a:chOff x="6021360" y="4127400"/>
            <a:chExt cx="112680" cy="619200"/>
          </a:xfrm>
        </p:grpSpPr>
        <p:sp>
          <p:nvSpPr>
            <p:cNvPr id="967" name=""/>
            <p:cNvSpPr/>
            <p:nvPr/>
          </p:nvSpPr>
          <p:spPr>
            <a:xfrm>
              <a:off x="6080040" y="4127400"/>
              <a:ext cx="1800" cy="5158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21360" y="4636800"/>
              <a:ext cx="112680" cy="10980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0" y="0"/>
                  </a:moveTo>
                  <a:lnTo>
                    <a:pt x="37" y="69"/>
                  </a:lnTo>
                  <a:lnTo>
                    <a:pt x="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5783400" y="4794120"/>
            <a:ext cx="13474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820480" y="47941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820120" y="4994280"/>
            <a:ext cx="102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cal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217880" y="108360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ode Structure –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functional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73600" y="2773440"/>
            <a:ext cx="8146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f5f5f"/>
                </a:solidFill>
                <a:latin typeface="Arial"/>
              </a:rPr>
              <a:t>In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f5f5f"/>
                </a:solidFill>
                <a:latin typeface="Arial"/>
              </a:rPr>
              <a:t>F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884640" y="2766960"/>
            <a:ext cx="93060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f5f5f"/>
                </a:solidFill>
                <a:latin typeface="Arial"/>
              </a:rPr>
              <a:t>Outp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f5f5f"/>
                </a:solidFill>
                <a:latin typeface="Arial"/>
              </a:rPr>
              <a:t>F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14720" y="2371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12000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32000" y="2948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 baseline="-12000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856840" y="2978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12000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871240" y="23558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 baseline="-12000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3427560" y="3395520"/>
            <a:ext cx="1012680" cy="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552480" y="42498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88760" y="42768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Dr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44680" y="26208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8706"/>
                </a:solidFill>
                <a:latin typeface="Arial"/>
                <a:ea typeface="Arial"/>
              </a:rPr>
              <a:t>Redes de Pacotes Óp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987560" y="1828800"/>
            <a:ext cx="4906800" cy="44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808200" y="1119240"/>
            <a:ext cx="6951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Book Antiqua"/>
              </a:rPr>
              <a:t>Optical Packet Switching &amp;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on-on-Fc" descr=""/>
          <p:cNvPicPr/>
          <p:nvPr/>
        </p:nvPicPr>
        <p:blipFill>
          <a:blip r:embed="rId2"/>
          <a:stretch/>
        </p:blipFill>
        <p:spPr>
          <a:xfrm>
            <a:off x="2546280" y="4329000"/>
            <a:ext cx="2863800" cy="23558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 flipH="1" flipV="1">
            <a:off x="6048000" y="3805200"/>
            <a:ext cx="273240" cy="39528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29480" y="5570640"/>
            <a:ext cx="1923840" cy="106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pt Sw 1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RC &amp; LDC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pt Sw 2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RC </a:t>
            </a:r>
            <a:r>
              <a:rPr b="0" i="1" lang="pt-BR" sz="1600" spc="-1" strike="noStrike">
                <a:solidFill>
                  <a:srgbClr val="ff0000"/>
                </a:solidFill>
                <a:latin typeface="Arial"/>
              </a:rPr>
              <a:t>on</a:t>
            </a:r>
            <a:r>
              <a:rPr b="0" i="1" lang="pt-BR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dr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91080" y="5959440"/>
            <a:ext cx="1800" cy="5097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44680" y="26208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8706"/>
                </a:solidFill>
                <a:latin typeface="Arial"/>
                <a:ea typeface="Arial"/>
              </a:rPr>
              <a:t>Redes de Pacotes Óp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115040" y="3178080"/>
            <a:ext cx="1687680" cy="1029240"/>
            <a:chOff x="7115040" y="3178080"/>
            <a:chExt cx="1687680" cy="1029240"/>
          </a:xfrm>
        </p:grpSpPr>
        <p:sp>
          <p:nvSpPr>
            <p:cNvPr id="991" name=""/>
            <p:cNvSpPr/>
            <p:nvPr/>
          </p:nvSpPr>
          <p:spPr>
            <a:xfrm>
              <a:off x="7448760" y="3304800"/>
              <a:ext cx="1082520" cy="798480"/>
            </a:xfrm>
            <a:prstGeom prst="rect">
              <a:avLst/>
            </a:prstGeom>
            <a:solidFill>
              <a:srgbClr val="f8f8f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446960" y="3178080"/>
              <a:ext cx="10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115040" y="4095360"/>
              <a:ext cx="16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92880" y="382968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8451720" y="3839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67760" y="3870000"/>
              <a:ext cx="12571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500960" y="3315960"/>
              <a:ext cx="44640" cy="7844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01040" y="3314520"/>
              <a:ext cx="71280" cy="7858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62960" y="3306600"/>
              <a:ext cx="868320" cy="79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7197480" y="40957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Arial Narro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899120" y="41022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4"/>
          <a:stretch/>
        </p:blipFill>
        <p:spPr>
          <a:xfrm>
            <a:off x="879480" y="1739880"/>
            <a:ext cx="5960880" cy="23796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790920" y="4079880"/>
            <a:ext cx="88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Swit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446480" y="4567320"/>
            <a:ext cx="110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and dr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421000" y="5386320"/>
            <a:ext cx="1440" cy="538200"/>
          </a:xfrm>
          <a:prstGeom prst="line">
            <a:avLst/>
          </a:prstGeom>
          <a:ln w="3816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/>
          </p:nvPr>
        </p:nvSpPr>
        <p:spPr>
          <a:xfrm>
            <a:off x="641520" y="1641600"/>
            <a:ext cx="83692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0099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Optical Circuit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switching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treaming communication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the high capacity / high reliability solution for WDM backbone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;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[low-speed: several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</a:rPr>
              <a:t>m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; 10-100 ms]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300"/>
              </a:spcAft>
              <a:buClr>
                <a:srgbClr val="000099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Optical Burst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Switching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  (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reserved/released capacity</a:t>
            </a: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0000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optimization of installed capacity; improved granularity; smooth technological transition;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[moderate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speed: fraction of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</a:rPr>
              <a:t>m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; ~100 </a:t>
            </a:r>
            <a:r>
              <a:rPr b="0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249"/>
              </a:spcAft>
              <a:buClr>
                <a:srgbClr val="990099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990099"/>
                </a:solidFill>
                <a:uFillTx/>
                <a:latin typeface="Arial"/>
              </a:rPr>
              <a:t>Optical Packet</a:t>
            </a:r>
            <a:r>
              <a:rPr b="0" lang="pt-BR" sz="2000" spc="-1" strike="noStrike">
                <a:solidFill>
                  <a:srgbClr val="990099"/>
                </a:solidFill>
                <a:latin typeface="Arial"/>
              </a:rPr>
              <a:t> Switch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249"/>
              </a:spcAft>
              <a:buClr>
                <a:srgbClr val="9900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99"/>
                </a:solidFill>
                <a:latin typeface="Arial"/>
              </a:rPr>
              <a:t>the most flexible, best use of installed capacity; highest granularity;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ignificant cost issues in technological transition</a:t>
            </a:r>
            <a:r>
              <a:rPr b="0" lang="pt-BR" sz="2000" spc="-1" strike="noStrike">
                <a:solidFill>
                  <a:srgbClr val="990099"/>
                </a:solidFill>
                <a:latin typeface="Arial"/>
              </a:rPr>
              <a:t>;</a:t>
            </a:r>
            <a:r>
              <a:rPr b="0" lang="pt-BR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990099"/>
                </a:solidFill>
                <a:latin typeface="Arial"/>
              </a:rPr>
              <a:t>[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very fast switching: few </a:t>
            </a:r>
            <a:r>
              <a:rPr b="0" lang="pt-BR" sz="1800" spc="-1" strike="noStrike" u="sng">
                <a:solidFill>
                  <a:srgbClr val="0000cc"/>
                </a:solidFill>
                <a:uFillTx/>
                <a:latin typeface="Symbol"/>
                <a:ea typeface="Symbol"/>
              </a:rPr>
              <a:t></a:t>
            </a:r>
            <a:r>
              <a:rPr b="0" lang="pt-BR" sz="1800" spc="-1" strike="noStrike" u="sng">
                <a:solidFill>
                  <a:srgbClr val="0000cc"/>
                </a:solidFill>
                <a:uFillTx/>
                <a:latin typeface="Arial"/>
              </a:rPr>
              <a:t>s</a:t>
            </a:r>
            <a:r>
              <a:rPr b="0" lang="pt-BR" sz="1800" spc="-1" strike="noStrike">
                <a:solidFill>
                  <a:srgbClr val="0000cc"/>
                </a:solidFill>
                <a:latin typeface="Arial"/>
              </a:rPr>
              <a:t> or less !]</a:t>
            </a:r>
            <a:r>
              <a:rPr b="0" lang="pt-BR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14240" y="987480"/>
            <a:ext cx="82933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 u="sng">
                <a:solidFill>
                  <a:srgbClr val="a50021"/>
                </a:solidFill>
                <a:uFillTx/>
                <a:latin typeface="Times New Roman"/>
              </a:rPr>
              <a:t>New</a:t>
            </a:r>
            <a:r>
              <a:rPr b="1" i="1" lang="pt-BR" sz="3200" spc="-1" strike="noStrike">
                <a:solidFill>
                  <a:srgbClr val="a50021"/>
                </a:solidFill>
                <a:latin typeface="Times New Roman"/>
              </a:rPr>
              <a:t> Transport concepts (into Optical Net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- final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828360" y="1467000"/>
            <a:ext cx="79707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seja, hoje os Sistemas Óticos estão estabelecidos como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3333cc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A única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opção de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altíssima capacidade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(throughput)  nas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redes longa distancia e metropolitanas;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ltíssima confiabilidade e permanênc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Redes ópticas de 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acesso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(último kilômetro) cada vez mais  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perto do </a:t>
            </a:r>
            <a:r>
              <a:rPr b="0" lang="pt-BR" sz="2000" spc="-1" strike="noStrike" u="sng">
                <a:solidFill>
                  <a:srgbClr val="000099"/>
                </a:solidFill>
                <a:uFillTx/>
                <a:latin typeface="Arial"/>
              </a:rPr>
              <a:t>usuário final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Banda passante maior que qualquer outro meio;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menor custo por bit // por assinante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a50021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Permitiram o desenvolvimento mundial da Internet, e  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viabilizaram telecomunicações como uma das maiores 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cc0000"/>
                </a:solidFill>
                <a:latin typeface="Arial"/>
              </a:rPr>
              <a:t>atividades econômicas do planeta </a:t>
            </a:r>
            <a:r>
              <a:rPr b="0" lang="pt-BR" sz="2000" spc="-1" strike="noStrike">
                <a:solidFill>
                  <a:srgbClr val="666699"/>
                </a:solidFill>
                <a:latin typeface="Arial"/>
              </a:rPr>
              <a:t>(junto com TI )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76"/>
              </a:spcBef>
              <a:buClr>
                <a:srgbClr val="6666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a50021"/>
                </a:solidFill>
                <a:latin typeface="Arial"/>
              </a:rPr>
              <a:t>Excelente custo-beneficio, embora custo “elevado”..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lembrando sempre que,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808080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Combinação/composição com outras tecnologias é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a50021"/>
                </a:solidFill>
                <a:latin typeface="Arial"/>
              </a:rPr>
              <a:t>sempre necessária e benvinda !!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31800" y="84924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Conclusão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5715720" y="1593720"/>
            <a:ext cx="3263760" cy="8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cc"/>
                </a:solidFill>
                <a:latin typeface="Arial"/>
              </a:rPr>
              <a:t>Felipe Rudge  (e colabora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udge@cpqd</a:t>
            </a: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.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om.br </a:t>
            </a: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66cc"/>
                </a:solidFill>
                <a:latin typeface="Arial"/>
              </a:rPr>
              <a:t>tel.: +55(19) 3705-65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31840" y="4270320"/>
            <a:ext cx="3279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Rod. Campinas–Mogi-Mirim, km 1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13086-902 - Campinas – SP   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www.cpqd.com.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304920" y="5286240"/>
            <a:ext cx="8656560" cy="625680"/>
          </a:xfrm>
          <a:prstGeom prst="rect">
            <a:avLst/>
          </a:prstGeom>
          <a:gradFill rotWithShape="0">
            <a:gsLst>
              <a:gs pos="0">
                <a:srgbClr val="f28706"/>
              </a:gs>
              <a:gs pos="50000">
                <a:srgbClr val="a05903"/>
              </a:gs>
              <a:gs pos="100000">
                <a:srgbClr val="f2870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04640" y="714240"/>
            <a:ext cx="46501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28706"/>
                </a:solidFill>
                <a:latin typeface="Arial"/>
              </a:rPr>
              <a:t>Gratos pela atenção! </a:t>
            </a:r>
            <a:r>
              <a:rPr b="1" i="1" lang="en-US" sz="2400" spc="-1" strike="noStrike">
                <a:solidFill>
                  <a:srgbClr val="f28706"/>
                </a:solidFill>
                <a:latin typeface="Arial"/>
              </a:rPr>
              <a:t>(Thanks for com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Foto_CPqd" descr=""/>
          <p:cNvPicPr/>
          <p:nvPr/>
        </p:nvPicPr>
        <p:blipFill>
          <a:blip r:embed="rId2"/>
          <a:stretch/>
        </p:blipFill>
        <p:spPr>
          <a:xfrm>
            <a:off x="3424320" y="2509920"/>
            <a:ext cx="5719680" cy="396216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 rot="21091800">
            <a:off x="858960" y="2069640"/>
            <a:ext cx="3894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e00"/>
                </a:solidFill>
                <a:latin typeface="Arial"/>
              </a:rPr>
              <a:t>Conheçam o CPq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31440" y="1330200"/>
            <a:ext cx="7077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451"/>
              </a:spcAft>
              <a:buClr>
                <a:srgbClr val="000000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b3b3ff"/>
                </a:solidFill>
                <a:latin typeface="Lucida Casual"/>
              </a:rPr>
              <a:t>Introdução Geral      </a:t>
            </a:r>
            <a:r>
              <a:rPr b="1" lang="pt-BR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3b3ff"/>
                </a:solidFill>
                <a:latin typeface="Lucida Casual"/>
              </a:rPr>
              <a:t>tecnologias ópticas &amp; evolução histórica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3b3ff"/>
                </a:solidFill>
                <a:latin typeface="Lucida Casual"/>
              </a:rPr>
              <a:t>-  aplicaçõ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b3b3ff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b3b3ff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b3b3ff"/>
                </a:solidFill>
                <a:latin typeface="Lucida Casual"/>
              </a:rPr>
              <a:t>Bases Tecnológicas     </a:t>
            </a:r>
            <a:r>
              <a:rPr b="1" lang="pt-BR" sz="2400" spc="-1" strike="noStrike">
                <a:solidFill>
                  <a:srgbClr val="3333cc"/>
                </a:solidFill>
                <a:latin typeface="Monotype Sorts"/>
                <a:ea typeface="Monotype Sorts"/>
              </a:rPr>
              <a:t>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3b3ff"/>
                </a:solidFill>
                <a:latin typeface="Lucida Casual"/>
              </a:rPr>
              <a:t>componentes ativos e passivos;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b3b3ff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b3b3ff"/>
                </a:solidFill>
                <a:latin typeface="Lucida Casual"/>
              </a:rPr>
              <a:t>amplificadores e roteadores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666699"/>
              </a:buClr>
              <a:buSzPct val="60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666699"/>
                </a:solidFill>
                <a:latin typeface="Lucida Casual"/>
              </a:rPr>
              <a:t> </a:t>
            </a:r>
            <a:r>
              <a:rPr b="1" lang="pt-BR" sz="2400" spc="-1" strike="noStrike">
                <a:solidFill>
                  <a:srgbClr val="666699"/>
                </a:solidFill>
                <a:latin typeface="Lucida Casual"/>
              </a:rPr>
              <a:t>Redes Óticas de Transporte e A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Lucida Casual"/>
              </a:rPr>
              <a:t>redes WDM (tronco e metro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Lucida Casual"/>
              </a:rPr>
              <a:t>redes óticas acesso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Clr>
                <a:srgbClr val="666699"/>
              </a:buClr>
              <a:buSzPct val="50000"/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666699"/>
                </a:solidFill>
                <a:latin typeface="Lucida Casual"/>
              </a:rPr>
              <a:t>redes fotônicas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724080" y="2994120"/>
            <a:ext cx="1605600" cy="581400"/>
          </a:xfrm>
          <a:prstGeom prst="rect">
            <a:avLst/>
          </a:pr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7777"/>
                </a:solidFill>
                <a:latin typeface="Arial"/>
              </a:rPr>
              <a:t>==&gt;&gt;  </a:t>
            </a:r>
            <a:r>
              <a:rPr b="0" i="1" lang="en-US" sz="3200" spc="-1" strike="noStrike">
                <a:solidFill>
                  <a:srgbClr val="777777"/>
                </a:solidFill>
                <a:latin typeface="Bookman Old Style"/>
              </a:rPr>
              <a:t>F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499080" y="1031760"/>
            <a:ext cx="497880" cy="2466360"/>
            <a:chOff x="6499080" y="1031760"/>
            <a:chExt cx="497880" cy="2466360"/>
          </a:xfrm>
        </p:grpSpPr>
        <p:sp>
          <p:nvSpPr>
            <p:cNvPr id="50" name=""/>
            <p:cNvSpPr/>
            <p:nvPr/>
          </p:nvSpPr>
          <p:spPr>
            <a:xfrm>
              <a:off x="6499440" y="2266920"/>
              <a:ext cx="497520" cy="1231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6499080" y="1031400"/>
              <a:ext cx="497520" cy="123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83520" y="1014840"/>
            <a:ext cx="2615400" cy="3155760"/>
            <a:chOff x="3683520" y="1014840"/>
            <a:chExt cx="2615400" cy="3155760"/>
          </a:xfrm>
        </p:grpSpPr>
        <p:sp>
          <p:nvSpPr>
            <p:cNvPr id="53" name=""/>
            <p:cNvSpPr/>
            <p:nvPr/>
          </p:nvSpPr>
          <p:spPr>
            <a:xfrm flipH="1">
              <a:off x="3683520" y="2594880"/>
              <a:ext cx="2615040" cy="157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683880" y="1014120"/>
              <a:ext cx="2615040" cy="157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418440" y="1185840"/>
            <a:ext cx="482040" cy="2357280"/>
            <a:chOff x="6418440" y="1185840"/>
            <a:chExt cx="482040" cy="2357280"/>
          </a:xfrm>
        </p:grpSpPr>
        <p:sp>
          <p:nvSpPr>
            <p:cNvPr id="56" name=""/>
            <p:cNvSpPr/>
            <p:nvPr/>
          </p:nvSpPr>
          <p:spPr>
            <a:xfrm>
              <a:off x="6418800" y="2366280"/>
              <a:ext cx="481680" cy="117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6418440" y="1185480"/>
              <a:ext cx="481680" cy="11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83520" y="2558880"/>
            <a:ext cx="1904760" cy="3500640"/>
            <a:chOff x="4583520" y="2558880"/>
            <a:chExt cx="1904760" cy="3500640"/>
          </a:xfrm>
        </p:grpSpPr>
        <p:sp>
          <p:nvSpPr>
            <p:cNvPr id="59" name=""/>
            <p:cNvSpPr/>
            <p:nvPr/>
          </p:nvSpPr>
          <p:spPr>
            <a:xfrm flipH="1">
              <a:off x="4583520" y="4311720"/>
              <a:ext cx="1904400" cy="174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83880" y="2558520"/>
              <a:ext cx="190440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267920" y="2368440"/>
            <a:ext cx="3196800" cy="990360"/>
            <a:chOff x="1267920" y="2368440"/>
            <a:chExt cx="3196800" cy="990360"/>
          </a:xfrm>
        </p:grpSpPr>
        <p:sp>
          <p:nvSpPr>
            <p:cNvPr id="62" name=""/>
            <p:cNvSpPr/>
            <p:nvPr/>
          </p:nvSpPr>
          <p:spPr>
            <a:xfrm flipH="1" rot="16200000">
              <a:off x="3171240" y="2065680"/>
              <a:ext cx="990000" cy="159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 rot="16200000">
              <a:off x="1572840" y="2063160"/>
              <a:ext cx="990000" cy="160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416240" y="2455920"/>
            <a:ext cx="2737440" cy="965880"/>
            <a:chOff x="1416240" y="2455920"/>
            <a:chExt cx="2737440" cy="965880"/>
          </a:xfrm>
        </p:grpSpPr>
        <p:sp>
          <p:nvSpPr>
            <p:cNvPr id="65" name=""/>
            <p:cNvSpPr/>
            <p:nvPr/>
          </p:nvSpPr>
          <p:spPr>
            <a:xfrm flipH="1" rot="16200000">
              <a:off x="2986920" y="2255400"/>
              <a:ext cx="965520" cy="136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 rot="16200000">
              <a:off x="1618200" y="2253600"/>
              <a:ext cx="965520" cy="13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99400" y="2698200"/>
            <a:ext cx="929880" cy="2892240"/>
            <a:chOff x="6899400" y="2698200"/>
            <a:chExt cx="929880" cy="2892240"/>
          </a:xfrm>
        </p:grpSpPr>
        <p:sp>
          <p:nvSpPr>
            <p:cNvPr id="68" name=""/>
            <p:cNvSpPr/>
            <p:nvPr/>
          </p:nvSpPr>
          <p:spPr>
            <a:xfrm>
              <a:off x="6899760" y="4146480"/>
              <a:ext cx="92952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6899400" y="2697840"/>
              <a:ext cx="929520" cy="144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88400" y="1112760"/>
            <a:ext cx="38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Redes Ópticas WDM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54360" y="3282840"/>
          <a:ext cx="1295280" cy="77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54360" y="3282840"/>
                    <a:ext cx="129528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" name=""/>
          <p:cNvGrpSpPr/>
          <p:nvPr/>
        </p:nvGrpSpPr>
        <p:grpSpPr>
          <a:xfrm>
            <a:off x="3973680" y="3093120"/>
            <a:ext cx="2361240" cy="761760"/>
            <a:chOff x="3973680" y="3093120"/>
            <a:chExt cx="2361240" cy="761760"/>
          </a:xfrm>
        </p:grpSpPr>
        <p:sp>
          <p:nvSpPr>
            <p:cNvPr id="74" name=""/>
            <p:cNvSpPr/>
            <p:nvPr/>
          </p:nvSpPr>
          <p:spPr>
            <a:xfrm flipV="1">
              <a:off x="3974040" y="309276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973680" y="3473640"/>
              <a:ext cx="23608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103280" y="3754440"/>
            <a:ext cx="198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Lucida Casual"/>
              </a:rPr>
              <a:t>Fibras Óp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1560" y="2862360"/>
            <a:ext cx="14104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entral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utaç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e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44640" y="2400480"/>
          <a:ext cx="1042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44640" y="2400480"/>
                    <a:ext cx="1042920" cy="9144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6958080" y="2536200"/>
            <a:ext cx="944280" cy="3044880"/>
            <a:chOff x="6958080" y="2536200"/>
            <a:chExt cx="944280" cy="3044880"/>
          </a:xfrm>
        </p:grpSpPr>
        <p:sp>
          <p:nvSpPr>
            <p:cNvPr id="81" name=""/>
            <p:cNvSpPr/>
            <p:nvPr/>
          </p:nvSpPr>
          <p:spPr>
            <a:xfrm>
              <a:off x="6958440" y="4060800"/>
              <a:ext cx="943920" cy="152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6958080" y="2535840"/>
              <a:ext cx="9439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287880" y="3587400"/>
            <a:ext cx="914040" cy="1826640"/>
            <a:chOff x="3287880" y="3587400"/>
            <a:chExt cx="914040" cy="1826640"/>
          </a:xfrm>
        </p:grpSpPr>
        <p:sp>
          <p:nvSpPr>
            <p:cNvPr id="84" name=""/>
            <p:cNvSpPr/>
            <p:nvPr/>
          </p:nvSpPr>
          <p:spPr>
            <a:xfrm>
              <a:off x="3288240" y="4502160"/>
              <a:ext cx="913680" cy="91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287880" y="3587040"/>
              <a:ext cx="9136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624120" y="4807080"/>
            <a:ext cx="1447920" cy="175248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2320" y="2155680"/>
            <a:ext cx="1600200" cy="133992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07040" y="4273560"/>
            <a:ext cx="2362320" cy="175248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411960" y="4730760"/>
          <a:ext cx="1676520" cy="762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11960" y="4730760"/>
                    <a:ext cx="1676520" cy="76212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27760" y="3409920"/>
            <a:ext cx="193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3760" y="5302080"/>
            <a:ext cx="19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363840" y="3358800"/>
            <a:ext cx="914040" cy="2131200"/>
            <a:chOff x="3363840" y="3358800"/>
            <a:chExt cx="914040" cy="2131200"/>
          </a:xfrm>
        </p:grpSpPr>
        <p:sp>
          <p:nvSpPr>
            <p:cNvPr id="94" name=""/>
            <p:cNvSpPr/>
            <p:nvPr/>
          </p:nvSpPr>
          <p:spPr>
            <a:xfrm>
              <a:off x="3364200" y="4426200"/>
              <a:ext cx="913680" cy="106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3363840" y="3358440"/>
              <a:ext cx="9136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73680" y="3153960"/>
            <a:ext cx="2361240" cy="761040"/>
            <a:chOff x="3973680" y="3153960"/>
            <a:chExt cx="2361240" cy="761040"/>
          </a:xfrm>
        </p:grpSpPr>
        <p:sp>
          <p:nvSpPr>
            <p:cNvPr id="97" name=""/>
            <p:cNvSpPr/>
            <p:nvPr/>
          </p:nvSpPr>
          <p:spPr>
            <a:xfrm flipV="1">
              <a:off x="3974040" y="315360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3973680" y="3534480"/>
              <a:ext cx="23608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973680" y="3033360"/>
            <a:ext cx="2361240" cy="761040"/>
            <a:chOff x="3973680" y="3033360"/>
            <a:chExt cx="2361240" cy="761040"/>
          </a:xfrm>
        </p:grpSpPr>
        <p:sp>
          <p:nvSpPr>
            <p:cNvPr id="100" name=""/>
            <p:cNvSpPr/>
            <p:nvPr/>
          </p:nvSpPr>
          <p:spPr>
            <a:xfrm flipV="1">
              <a:off x="3974040" y="3033000"/>
              <a:ext cx="23608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3973680" y="3413880"/>
              <a:ext cx="23608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346080" y="5435640"/>
            <a:ext cx="193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de Acesso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35040" y="2695680"/>
            <a:ext cx="206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Lucida Casual"/>
              </a:rPr>
              <a:t>Rede Tro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Lucida Casual"/>
              </a:rPr>
              <a:t>(Anéis SD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659840" y="2634480"/>
            <a:ext cx="1904040" cy="3502080"/>
            <a:chOff x="4659840" y="2634480"/>
            <a:chExt cx="1904040" cy="3502080"/>
          </a:xfrm>
        </p:grpSpPr>
        <p:sp>
          <p:nvSpPr>
            <p:cNvPr id="105" name=""/>
            <p:cNvSpPr/>
            <p:nvPr/>
          </p:nvSpPr>
          <p:spPr>
            <a:xfrm flipH="1">
              <a:off x="4659840" y="4388040"/>
              <a:ext cx="1903680" cy="174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660200" y="2634120"/>
              <a:ext cx="1903680" cy="175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650600" y="3971880"/>
            <a:ext cx="141048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entral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mutaçã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ea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4880" y="968400"/>
            <a:ext cx="2613960" cy="3085920"/>
            <a:chOff x="3584880" y="968400"/>
            <a:chExt cx="2613960" cy="3085920"/>
          </a:xfrm>
        </p:grpSpPr>
        <p:sp>
          <p:nvSpPr>
            <p:cNvPr id="109" name=""/>
            <p:cNvSpPr/>
            <p:nvPr/>
          </p:nvSpPr>
          <p:spPr>
            <a:xfrm flipH="1">
              <a:off x="3584880" y="2513880"/>
              <a:ext cx="2613600" cy="154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585240" y="967680"/>
              <a:ext cx="2613600" cy="154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459480" y="1147320"/>
            <a:ext cx="482040" cy="2321280"/>
            <a:chOff x="6459480" y="1147320"/>
            <a:chExt cx="482040" cy="2321280"/>
          </a:xfrm>
        </p:grpSpPr>
        <p:sp>
          <p:nvSpPr>
            <p:cNvPr id="112" name=""/>
            <p:cNvSpPr/>
            <p:nvPr/>
          </p:nvSpPr>
          <p:spPr>
            <a:xfrm>
              <a:off x="6459840" y="2309760"/>
              <a:ext cx="481680" cy="11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6459480" y="1146960"/>
              <a:ext cx="481680" cy="116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4" name=""/>
          <p:cNvGraphicFramePr/>
          <p:nvPr/>
        </p:nvGraphicFramePr>
        <p:xfrm>
          <a:off x="6039000" y="1440000"/>
          <a:ext cx="1104840" cy="406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39000" y="1440000"/>
                    <a:ext cx="1104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939920" y="1617840"/>
            <a:ext cx="11530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entr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58160" y="1047600"/>
            <a:ext cx="1549440" cy="784440"/>
          </a:xfrm>
          <a:prstGeom prst="ellipse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461360" y="1125360"/>
          <a:ext cx="766800" cy="67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61360" y="1125360"/>
                    <a:ext cx="766800" cy="6717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6987600" y="1768320"/>
            <a:ext cx="17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de Acesso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259680" y="2749680"/>
          <a:ext cx="8380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59680" y="274968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925800" y="4959360"/>
          <a:ext cx="846360" cy="1447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925800" y="4959360"/>
                    <a:ext cx="846360" cy="144792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5" name=""/>
          <p:cNvGrpSpPr/>
          <p:nvPr/>
        </p:nvGrpSpPr>
        <p:grpSpPr>
          <a:xfrm>
            <a:off x="3624480" y="970920"/>
            <a:ext cx="2629800" cy="3178080"/>
            <a:chOff x="3624480" y="970920"/>
            <a:chExt cx="2629800" cy="3178080"/>
          </a:xfrm>
        </p:grpSpPr>
        <p:sp>
          <p:nvSpPr>
            <p:cNvPr id="126" name=""/>
            <p:cNvSpPr/>
            <p:nvPr/>
          </p:nvSpPr>
          <p:spPr>
            <a:xfrm flipH="1">
              <a:off x="3624480" y="2562480"/>
              <a:ext cx="2629440" cy="15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624840" y="970200"/>
              <a:ext cx="2629440" cy="159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527120" y="1639800"/>
            <a:ext cx="6097680" cy="4940280"/>
            <a:chOff x="1527120" y="1639800"/>
            <a:chExt cx="6097680" cy="4940280"/>
          </a:xfrm>
        </p:grpSpPr>
        <p:pic>
          <p:nvPicPr>
            <p:cNvPr id="130" name="WDM-prod_map1" descr=""/>
            <p:cNvPicPr/>
            <p:nvPr/>
          </p:nvPicPr>
          <p:blipFill>
            <a:blip r:embed="rId2"/>
            <a:stretch/>
          </p:blipFill>
          <p:spPr>
            <a:xfrm>
              <a:off x="1527120" y="1639800"/>
              <a:ext cx="6097680" cy="49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3909960" y="4379760"/>
              <a:ext cx="1206720" cy="84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605400" y="4206960"/>
              <a:ext cx="1987560" cy="91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Down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Arial Black"/>
                </a:rPr>
                <a:t>Longa Distancia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18360" y="3205080"/>
              <a:ext cx="888840" cy="46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96120" y="2262240"/>
              <a:ext cx="841320" cy="41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5434200" y="3171960"/>
              <a:ext cx="86832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Down">
                <a:avLst>
                  <a:gd name="adj" fmla="val 655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9966"/>
                  </a:solidFill>
                  <a:latin typeface="Arial Black"/>
                </a:rPr>
                <a:t>Metro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415200" y="2289240"/>
              <a:ext cx="812880" cy="355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Down">
                <a:avLst>
                  <a:gd name="adj" fmla="val 655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69696"/>
                  </a:solidFill>
                  <a:latin typeface="Arial Black"/>
                </a:rPr>
                <a:t>Acess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56800" y="1157400"/>
            <a:ext cx="379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Natureza &amp; Extensã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-1461600" y="4259880"/>
            <a:ext cx="5118840" cy="1765800"/>
            <a:chOff x="-1461600" y="4259880"/>
            <a:chExt cx="5118840" cy="1765800"/>
          </a:xfrm>
        </p:grpSpPr>
        <p:sp>
          <p:nvSpPr>
            <p:cNvPr id="140" name=""/>
            <p:cNvSpPr/>
            <p:nvPr/>
          </p:nvSpPr>
          <p:spPr>
            <a:xfrm>
              <a:off x="-1461600" y="4259880"/>
              <a:ext cx="5043960" cy="169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0720" y="5808960"/>
              <a:ext cx="214560" cy="216720"/>
            </a:xfrm>
            <a:prstGeom prst="ellipse">
              <a:avLst/>
            </a:prstGeom>
            <a:gradFill rotWithShape="0">
              <a:gsLst>
                <a:gs pos="0">
                  <a:srgbClr val="f3f6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16760" y="5802840"/>
              <a:ext cx="214200" cy="216720"/>
            </a:xfrm>
            <a:prstGeom prst="ellipse">
              <a:avLst/>
            </a:prstGeom>
            <a:gradFill rotWithShape="0">
              <a:gsLst>
                <a:gs pos="0">
                  <a:srgbClr val="f3f6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43160" y="5732640"/>
              <a:ext cx="214200" cy="216360"/>
            </a:xfrm>
            <a:prstGeom prst="ellipse">
              <a:avLst/>
            </a:prstGeom>
            <a:gradFill rotWithShape="0">
              <a:gsLst>
                <a:gs pos="0">
                  <a:srgbClr val="f3f6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77840" y="5521680"/>
              <a:ext cx="214200" cy="216360"/>
            </a:xfrm>
            <a:prstGeom prst="ellipse">
              <a:avLst/>
            </a:prstGeom>
            <a:gradFill rotWithShape="0">
              <a:gsLst>
                <a:gs pos="0">
                  <a:srgbClr val="f3f6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43040" y="5135040"/>
              <a:ext cx="214200" cy="216360"/>
            </a:xfrm>
            <a:prstGeom prst="ellipse">
              <a:avLst/>
            </a:prstGeom>
            <a:gradFill rotWithShape="0">
              <a:gsLst>
                <a:gs pos="0">
                  <a:srgbClr val="f3f6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905120" y="1523880"/>
            <a:ext cx="121860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666880"/>
            <a:ext cx="2590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840" y="3205080"/>
            <a:ext cx="13708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2514600"/>
            <a:ext cx="12186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8640000">
            <a:off x="939600" y="15764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291760"/>
            <a:ext cx="1828440" cy="18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63" y="1208"/>
                </a:moveTo>
                <a:arcTo wR="10800" hR="10800" stAng="-3758398" swAng="3758398"/>
                <a:lnTo>
                  <a:pt x="10800" y="10800"/>
                </a:lnTo>
                <a:close/>
              </a:path>
              <a:path fill="none" w="21600" h="21600">
                <a:moveTo>
                  <a:pt x="15763" y="1208"/>
                </a:moveTo>
                <a:arcTo wR="10800" hR="10800" stAng="-3758398" swAng="3758398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90560" y="3803760"/>
            <a:ext cx="231840" cy="23472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959200"/>
            <a:ext cx="231480" cy="23472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1880" y="2197080"/>
            <a:ext cx="231840" cy="23508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3651120"/>
            <a:ext cx="231840" cy="23508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0680" y="2736720"/>
            <a:ext cx="231840" cy="23508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197080"/>
            <a:ext cx="231480" cy="23508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160" y="5562720"/>
            <a:ext cx="19810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4881600"/>
            <a:ext cx="761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7440000">
            <a:off x="5515560" y="439920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1520" y="4348080"/>
            <a:ext cx="152280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21420000">
            <a:off x="5031720" y="4375800"/>
            <a:ext cx="21333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0740000">
            <a:off x="5112360" y="4335120"/>
            <a:ext cx="18284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440" y="4724280"/>
            <a:ext cx="25909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1680" y="5262480"/>
            <a:ext cx="137088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440" y="4572000"/>
            <a:ext cx="12193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4349160"/>
            <a:ext cx="1828440" cy="182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63" y="1208"/>
                </a:moveTo>
                <a:arcTo wR="10800" hR="10800" stAng="-3758398" swAng="3758398"/>
                <a:lnTo>
                  <a:pt x="10800" y="10800"/>
                </a:lnTo>
                <a:close/>
              </a:path>
              <a:path fill="none" w="21600" h="21600">
                <a:moveTo>
                  <a:pt x="15763" y="1208"/>
                </a:moveTo>
                <a:arcTo wR="10800" hR="10800" stAng="-3758398" swAng="3758398"/>
              </a:path>
            </a:pathLst>
          </a:custGeom>
          <a:noFill/>
          <a:ln cap="rnd"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5099040"/>
            <a:ext cx="231840" cy="235080"/>
          </a:xfrm>
          <a:prstGeom prst="ellipse">
            <a:avLst/>
          </a:prstGeom>
          <a:gradFill rotWithShape="0">
            <a:gsLst>
              <a:gs pos="0">
                <a:srgbClr val="f3f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4254480"/>
            <a:ext cx="231840" cy="23508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83360" y="5708520"/>
            <a:ext cx="231840" cy="23508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69160" y="4794120"/>
            <a:ext cx="231840" cy="235080"/>
          </a:xfrm>
          <a:prstGeom prst="ellipse">
            <a:avLst/>
          </a:prstGeom>
          <a:gradFill rotWithShape="0">
            <a:gsLst>
              <a:gs pos="0">
                <a:srgbClr val="f3f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254480"/>
            <a:ext cx="231840" cy="23508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6040" y="5186520"/>
            <a:ext cx="137088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50400" y="5638680"/>
            <a:ext cx="231480" cy="23508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73320" y="4957920"/>
            <a:ext cx="1777680" cy="458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Times New Roman"/>
              </a:rPr>
              <a:t>Bar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0160" y="1752480"/>
            <a:ext cx="1117800" cy="458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40560" y="3657600"/>
            <a:ext cx="1032480" cy="458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24600" y="2354400"/>
            <a:ext cx="3105000" cy="777600"/>
          </a:xfrm>
          <a:prstGeom prst="ellipse">
            <a:avLst/>
          </a:prstGeom>
          <a:noFill/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11560" y="2603520"/>
            <a:ext cx="233640" cy="23976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26320" y="2979720"/>
            <a:ext cx="231840" cy="29700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72280" y="2595600"/>
            <a:ext cx="233640" cy="295200"/>
          </a:xfrm>
          <a:prstGeom prst="ellipse">
            <a:avLst/>
          </a:prstGeom>
          <a:solidFill>
            <a:srgbClr val="cce2ee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8320" y="2209680"/>
            <a:ext cx="231840" cy="297000"/>
          </a:xfrm>
          <a:prstGeom prst="ellipse">
            <a:avLst/>
          </a:prstGeom>
          <a:gradFill rotWithShape="0">
            <a:gsLst>
              <a:gs pos="0">
                <a:srgbClr val="f3f6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9200" y="1739880"/>
            <a:ext cx="794520" cy="458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794120"/>
            <a:ext cx="3276720" cy="1611360"/>
          </a:xfrm>
          <a:prstGeom prst="rect">
            <a:avLst/>
          </a:prstGeom>
          <a:noFill/>
          <a:ln w="1260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901960"/>
            <a:ext cx="380880" cy="450720"/>
          </a:xfrm>
          <a:prstGeom prst="ellipse">
            <a:avLst/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69160" y="4724280"/>
            <a:ext cx="381240" cy="387360"/>
          </a:xfrm>
          <a:prstGeom prst="ellipse">
            <a:avLst/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2158920"/>
            <a:ext cx="380880" cy="387360"/>
          </a:xfrm>
          <a:prstGeom prst="ellipse">
            <a:avLst/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5022720"/>
            <a:ext cx="381240" cy="387360"/>
          </a:xfrm>
          <a:prstGeom prst="ellipse">
            <a:avLst/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88840" y="5719680"/>
            <a:ext cx="381240" cy="387360"/>
          </a:xfrm>
          <a:prstGeom prst="ellipse">
            <a:avLst/>
          </a:prstGeom>
          <a:gradFill rotWithShape="0">
            <a:gsLst>
              <a:gs pos="0">
                <a:srgbClr val="c1cdf1"/>
              </a:gs>
              <a:gs pos="100000">
                <a:srgbClr val="00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    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2560" y="100800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opologias de Re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29400" y="5861160"/>
            <a:ext cx="231840" cy="2347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29200" y="5016600"/>
            <a:ext cx="231840" cy="234720"/>
          </a:xfrm>
          <a:prstGeom prst="ellipse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921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nós da re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69120" y="944640"/>
            <a:ext cx="7174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3200" spc="-1" strike="noStrike">
                <a:solidFill>
                  <a:srgbClr val="cc0000"/>
                </a:solidFill>
                <a:latin typeface="Times New Roman"/>
              </a:rPr>
              <a:t>Redes com Vários Comprimentos de 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Nós Digitais com Conversão Opto-Eletr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== solução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WDM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1a. Geração =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475080"/>
            <a:ext cx="3619800" cy="1569960"/>
          </a:xfrm>
          <a:custGeom>
            <a:avLst/>
            <a:gdLst/>
            <a:ahLst/>
            <a:rect l="l" t="t" r="r" b="b"/>
            <a:pathLst>
              <a:path w="2237" h="679">
                <a:moveTo>
                  <a:pt x="1071" y="153"/>
                </a:moveTo>
                <a:lnTo>
                  <a:pt x="957" y="183"/>
                </a:lnTo>
                <a:lnTo>
                  <a:pt x="901" y="198"/>
                </a:lnTo>
                <a:lnTo>
                  <a:pt x="847" y="214"/>
                </a:lnTo>
                <a:lnTo>
                  <a:pt x="793" y="229"/>
                </a:lnTo>
                <a:lnTo>
                  <a:pt x="741" y="245"/>
                </a:lnTo>
                <a:lnTo>
                  <a:pt x="690" y="261"/>
                </a:lnTo>
                <a:lnTo>
                  <a:pt x="640" y="278"/>
                </a:lnTo>
                <a:lnTo>
                  <a:pt x="591" y="294"/>
                </a:lnTo>
                <a:lnTo>
                  <a:pt x="544" y="310"/>
                </a:lnTo>
                <a:lnTo>
                  <a:pt x="499" y="327"/>
                </a:lnTo>
                <a:lnTo>
                  <a:pt x="454" y="343"/>
                </a:lnTo>
                <a:lnTo>
                  <a:pt x="412" y="359"/>
                </a:lnTo>
                <a:lnTo>
                  <a:pt x="371" y="375"/>
                </a:lnTo>
                <a:lnTo>
                  <a:pt x="332" y="391"/>
                </a:lnTo>
                <a:lnTo>
                  <a:pt x="295" y="407"/>
                </a:lnTo>
                <a:lnTo>
                  <a:pt x="260" y="423"/>
                </a:lnTo>
                <a:lnTo>
                  <a:pt x="226" y="439"/>
                </a:lnTo>
                <a:lnTo>
                  <a:pt x="195" y="454"/>
                </a:lnTo>
                <a:lnTo>
                  <a:pt x="165" y="470"/>
                </a:lnTo>
                <a:lnTo>
                  <a:pt x="138" y="484"/>
                </a:lnTo>
                <a:lnTo>
                  <a:pt x="113" y="499"/>
                </a:lnTo>
                <a:lnTo>
                  <a:pt x="91" y="513"/>
                </a:lnTo>
                <a:lnTo>
                  <a:pt x="70" y="527"/>
                </a:lnTo>
                <a:lnTo>
                  <a:pt x="53" y="541"/>
                </a:lnTo>
                <a:lnTo>
                  <a:pt x="37" y="554"/>
                </a:lnTo>
                <a:lnTo>
                  <a:pt x="24" y="567"/>
                </a:lnTo>
                <a:lnTo>
                  <a:pt x="14" y="579"/>
                </a:lnTo>
                <a:lnTo>
                  <a:pt x="7" y="590"/>
                </a:lnTo>
                <a:lnTo>
                  <a:pt x="2" y="602"/>
                </a:lnTo>
                <a:lnTo>
                  <a:pt x="0" y="612"/>
                </a:lnTo>
                <a:lnTo>
                  <a:pt x="1" y="622"/>
                </a:lnTo>
                <a:lnTo>
                  <a:pt x="5" y="631"/>
                </a:lnTo>
                <a:lnTo>
                  <a:pt x="12" y="640"/>
                </a:lnTo>
                <a:lnTo>
                  <a:pt x="21" y="647"/>
                </a:lnTo>
                <a:lnTo>
                  <a:pt x="33" y="654"/>
                </a:lnTo>
                <a:lnTo>
                  <a:pt x="48" y="660"/>
                </a:lnTo>
                <a:lnTo>
                  <a:pt x="65" y="665"/>
                </a:lnTo>
                <a:lnTo>
                  <a:pt x="85" y="669"/>
                </a:lnTo>
                <a:lnTo>
                  <a:pt x="107" y="672"/>
                </a:lnTo>
                <a:lnTo>
                  <a:pt x="132" y="675"/>
                </a:lnTo>
                <a:lnTo>
                  <a:pt x="158" y="677"/>
                </a:lnTo>
                <a:lnTo>
                  <a:pt x="187" y="678"/>
                </a:lnTo>
                <a:lnTo>
                  <a:pt x="218" y="678"/>
                </a:lnTo>
                <a:lnTo>
                  <a:pt x="251" y="677"/>
                </a:lnTo>
                <a:lnTo>
                  <a:pt x="286" y="676"/>
                </a:lnTo>
                <a:lnTo>
                  <a:pt x="323" y="674"/>
                </a:lnTo>
                <a:lnTo>
                  <a:pt x="361" y="671"/>
                </a:lnTo>
                <a:lnTo>
                  <a:pt x="402" y="667"/>
                </a:lnTo>
                <a:lnTo>
                  <a:pt x="444" y="663"/>
                </a:lnTo>
                <a:lnTo>
                  <a:pt x="487" y="658"/>
                </a:lnTo>
                <a:lnTo>
                  <a:pt x="532" y="652"/>
                </a:lnTo>
                <a:lnTo>
                  <a:pt x="579" y="645"/>
                </a:lnTo>
                <a:lnTo>
                  <a:pt x="627" y="638"/>
                </a:lnTo>
                <a:lnTo>
                  <a:pt x="676" y="630"/>
                </a:lnTo>
                <a:lnTo>
                  <a:pt x="727" y="621"/>
                </a:lnTo>
                <a:lnTo>
                  <a:pt x="778" y="611"/>
                </a:lnTo>
                <a:lnTo>
                  <a:pt x="831" y="601"/>
                </a:lnTo>
                <a:lnTo>
                  <a:pt x="884" y="590"/>
                </a:lnTo>
                <a:lnTo>
                  <a:pt x="939" y="579"/>
                </a:lnTo>
                <a:lnTo>
                  <a:pt x="1051" y="553"/>
                </a:lnTo>
                <a:lnTo>
                  <a:pt x="1165" y="525"/>
                </a:lnTo>
                <a:lnTo>
                  <a:pt x="1279" y="495"/>
                </a:lnTo>
                <a:lnTo>
                  <a:pt x="1335" y="480"/>
                </a:lnTo>
                <a:lnTo>
                  <a:pt x="1389" y="464"/>
                </a:lnTo>
                <a:lnTo>
                  <a:pt x="1443" y="449"/>
                </a:lnTo>
                <a:lnTo>
                  <a:pt x="1495" y="433"/>
                </a:lnTo>
                <a:lnTo>
                  <a:pt x="1546" y="417"/>
                </a:lnTo>
                <a:lnTo>
                  <a:pt x="1596" y="400"/>
                </a:lnTo>
                <a:lnTo>
                  <a:pt x="1645" y="384"/>
                </a:lnTo>
                <a:lnTo>
                  <a:pt x="1692" y="368"/>
                </a:lnTo>
                <a:lnTo>
                  <a:pt x="1737" y="352"/>
                </a:lnTo>
                <a:lnTo>
                  <a:pt x="1782" y="335"/>
                </a:lnTo>
                <a:lnTo>
                  <a:pt x="1824" y="319"/>
                </a:lnTo>
                <a:lnTo>
                  <a:pt x="1865" y="303"/>
                </a:lnTo>
                <a:lnTo>
                  <a:pt x="1904" y="287"/>
                </a:lnTo>
                <a:lnTo>
                  <a:pt x="1941" y="271"/>
                </a:lnTo>
                <a:lnTo>
                  <a:pt x="1977" y="255"/>
                </a:lnTo>
                <a:lnTo>
                  <a:pt x="2010" y="239"/>
                </a:lnTo>
                <a:lnTo>
                  <a:pt x="2041" y="224"/>
                </a:lnTo>
                <a:lnTo>
                  <a:pt x="2071" y="209"/>
                </a:lnTo>
                <a:lnTo>
                  <a:pt x="2098" y="194"/>
                </a:lnTo>
                <a:lnTo>
                  <a:pt x="2123" y="179"/>
                </a:lnTo>
                <a:lnTo>
                  <a:pt x="2145" y="165"/>
                </a:lnTo>
                <a:lnTo>
                  <a:pt x="2166" y="151"/>
                </a:lnTo>
                <a:lnTo>
                  <a:pt x="2183" y="137"/>
                </a:lnTo>
                <a:lnTo>
                  <a:pt x="2199" y="124"/>
                </a:lnTo>
                <a:lnTo>
                  <a:pt x="2212" y="112"/>
                </a:lnTo>
                <a:lnTo>
                  <a:pt x="2222" y="99"/>
                </a:lnTo>
                <a:lnTo>
                  <a:pt x="2229" y="88"/>
                </a:lnTo>
                <a:lnTo>
                  <a:pt x="2234" y="77"/>
                </a:lnTo>
                <a:lnTo>
                  <a:pt x="2236" y="66"/>
                </a:lnTo>
                <a:lnTo>
                  <a:pt x="2235" y="56"/>
                </a:lnTo>
                <a:lnTo>
                  <a:pt x="2231" y="47"/>
                </a:lnTo>
                <a:lnTo>
                  <a:pt x="2224" y="38"/>
                </a:lnTo>
                <a:lnTo>
                  <a:pt x="2215" y="31"/>
                </a:lnTo>
                <a:lnTo>
                  <a:pt x="2203" y="24"/>
                </a:lnTo>
                <a:lnTo>
                  <a:pt x="2188" y="18"/>
                </a:lnTo>
                <a:lnTo>
                  <a:pt x="2171" y="13"/>
                </a:lnTo>
                <a:lnTo>
                  <a:pt x="2151" y="9"/>
                </a:lnTo>
                <a:lnTo>
                  <a:pt x="2129" y="6"/>
                </a:lnTo>
                <a:lnTo>
                  <a:pt x="2105" y="3"/>
                </a:lnTo>
                <a:lnTo>
                  <a:pt x="2078" y="1"/>
                </a:lnTo>
                <a:lnTo>
                  <a:pt x="2049" y="0"/>
                </a:lnTo>
                <a:lnTo>
                  <a:pt x="2018" y="0"/>
                </a:lnTo>
                <a:lnTo>
                  <a:pt x="1985" y="1"/>
                </a:lnTo>
                <a:lnTo>
                  <a:pt x="1950" y="2"/>
                </a:lnTo>
                <a:lnTo>
                  <a:pt x="1913" y="4"/>
                </a:lnTo>
                <a:lnTo>
                  <a:pt x="1875" y="7"/>
                </a:lnTo>
                <a:lnTo>
                  <a:pt x="1834" y="11"/>
                </a:lnTo>
                <a:lnTo>
                  <a:pt x="1792" y="15"/>
                </a:lnTo>
                <a:lnTo>
                  <a:pt x="1749" y="20"/>
                </a:lnTo>
                <a:lnTo>
                  <a:pt x="1704" y="26"/>
                </a:lnTo>
                <a:lnTo>
                  <a:pt x="1657" y="33"/>
                </a:lnTo>
                <a:lnTo>
                  <a:pt x="1609" y="40"/>
                </a:lnTo>
                <a:lnTo>
                  <a:pt x="1560" y="48"/>
                </a:lnTo>
                <a:lnTo>
                  <a:pt x="1510" y="57"/>
                </a:lnTo>
                <a:lnTo>
                  <a:pt x="1458" y="67"/>
                </a:lnTo>
                <a:lnTo>
                  <a:pt x="1405" y="77"/>
                </a:lnTo>
                <a:lnTo>
                  <a:pt x="1352" y="88"/>
                </a:lnTo>
                <a:lnTo>
                  <a:pt x="1297" y="100"/>
                </a:lnTo>
                <a:lnTo>
                  <a:pt x="1185" y="125"/>
                </a:lnTo>
                <a:lnTo>
                  <a:pt x="1071" y="153"/>
                </a:lnTo>
              </a:path>
            </a:pathLst>
          </a:custGeom>
          <a:noFill/>
          <a:ln cap="rnd" w="25560">
            <a:solidFill>
              <a:srgbClr val="0029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230640"/>
            <a:ext cx="3644640" cy="895320"/>
          </a:xfrm>
          <a:prstGeom prst="ellipse">
            <a:avLst/>
          </a:prstGeom>
          <a:noFill/>
          <a:ln w="25560">
            <a:solidFill>
              <a:srgbClr val="002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922400" y="4084560"/>
            <a:ext cx="552240" cy="217080"/>
            <a:chOff x="1922400" y="4084560"/>
            <a:chExt cx="552240" cy="217080"/>
          </a:xfrm>
        </p:grpSpPr>
        <p:sp>
          <p:nvSpPr>
            <p:cNvPr id="199" name=""/>
            <p:cNvSpPr/>
            <p:nvPr/>
          </p:nvSpPr>
          <p:spPr>
            <a:xfrm>
              <a:off x="1922400" y="4172400"/>
              <a:ext cx="403200" cy="36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d05e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24160" y="4084560"/>
              <a:ext cx="150480" cy="21708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33520" y="3848040"/>
            <a:ext cx="320040" cy="205920"/>
            <a:chOff x="533520" y="3848040"/>
            <a:chExt cx="320040" cy="205920"/>
          </a:xfrm>
        </p:grpSpPr>
        <p:sp>
          <p:nvSpPr>
            <p:cNvPr id="202" name=""/>
            <p:cNvSpPr/>
            <p:nvPr/>
          </p:nvSpPr>
          <p:spPr>
            <a:xfrm>
              <a:off x="533520" y="3852000"/>
              <a:ext cx="185760" cy="119160"/>
            </a:xfrm>
            <a:custGeom>
              <a:avLst/>
              <a:gdLst/>
              <a:ahLst/>
              <a:rect l="l" t="t" r="r" b="b"/>
              <a:pathLst>
                <a:path w="115" h="52">
                  <a:moveTo>
                    <a:pt x="5" y="0"/>
                  </a:moveTo>
                  <a:lnTo>
                    <a:pt x="0" y="17"/>
                  </a:lnTo>
                  <a:lnTo>
                    <a:pt x="109" y="51"/>
                  </a:lnTo>
                  <a:lnTo>
                    <a:pt x="114" y="34"/>
                  </a:lnTo>
                  <a:lnTo>
                    <a:pt x="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7240" y="3848040"/>
              <a:ext cx="166320" cy="205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102" y="71"/>
                  </a:lnTo>
                  <a:lnTo>
                    <a:pt x="28" y="0"/>
                  </a:lnTo>
                  <a:lnTo>
                    <a:pt x="0" y="89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397240" y="3067200"/>
            <a:ext cx="548640" cy="217080"/>
            <a:chOff x="2397240" y="3067200"/>
            <a:chExt cx="548640" cy="217080"/>
          </a:xfrm>
        </p:grpSpPr>
        <p:sp>
          <p:nvSpPr>
            <p:cNvPr id="205" name=""/>
            <p:cNvSpPr/>
            <p:nvPr/>
          </p:nvSpPr>
          <p:spPr>
            <a:xfrm>
              <a:off x="2543760" y="3157200"/>
              <a:ext cx="402120" cy="367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d05e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97240" y="3067200"/>
              <a:ext cx="150120" cy="21708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095720" y="5033880"/>
            <a:ext cx="3645000" cy="604800"/>
          </a:xfrm>
          <a:prstGeom prst="ellipse">
            <a:avLst/>
          </a:prstGeom>
          <a:noFill/>
          <a:ln w="25560">
            <a:solidFill>
              <a:srgbClr val="002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924440" y="5562720"/>
            <a:ext cx="552240" cy="218520"/>
            <a:chOff x="4924440" y="5562720"/>
            <a:chExt cx="552240" cy="218520"/>
          </a:xfrm>
        </p:grpSpPr>
        <p:sp>
          <p:nvSpPr>
            <p:cNvPr id="209" name=""/>
            <p:cNvSpPr/>
            <p:nvPr/>
          </p:nvSpPr>
          <p:spPr>
            <a:xfrm>
              <a:off x="4924440" y="5648760"/>
              <a:ext cx="405360" cy="414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26560" y="5562720"/>
              <a:ext cx="150120" cy="2185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462640" y="4927680"/>
            <a:ext cx="551880" cy="217080"/>
            <a:chOff x="5462640" y="4927680"/>
            <a:chExt cx="551880" cy="217080"/>
          </a:xfrm>
        </p:grpSpPr>
        <p:sp>
          <p:nvSpPr>
            <p:cNvPr id="212" name=""/>
            <p:cNvSpPr/>
            <p:nvPr/>
          </p:nvSpPr>
          <p:spPr>
            <a:xfrm>
              <a:off x="5608080" y="5015160"/>
              <a:ext cx="406440" cy="4176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62640" y="4927680"/>
              <a:ext cx="150840" cy="21708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173400" y="4071960"/>
            <a:ext cx="1857240" cy="1042920"/>
          </a:xfrm>
          <a:custGeom>
            <a:avLst/>
            <a:gdLst/>
            <a:ahLst/>
            <a:rect l="l" t="t" r="r" b="b"/>
            <a:pathLst>
              <a:path w="1049" h="451">
                <a:moveTo>
                  <a:pt x="571" y="89"/>
                </a:moveTo>
                <a:lnTo>
                  <a:pt x="517" y="71"/>
                </a:lnTo>
                <a:lnTo>
                  <a:pt x="465" y="56"/>
                </a:lnTo>
                <a:lnTo>
                  <a:pt x="413" y="42"/>
                </a:lnTo>
                <a:lnTo>
                  <a:pt x="364" y="30"/>
                </a:lnTo>
                <a:lnTo>
                  <a:pt x="316" y="20"/>
                </a:lnTo>
                <a:lnTo>
                  <a:pt x="271" y="12"/>
                </a:lnTo>
                <a:lnTo>
                  <a:pt x="228" y="6"/>
                </a:lnTo>
                <a:lnTo>
                  <a:pt x="188" y="2"/>
                </a:lnTo>
                <a:lnTo>
                  <a:pt x="151" y="0"/>
                </a:lnTo>
                <a:lnTo>
                  <a:pt x="117" y="1"/>
                </a:lnTo>
                <a:lnTo>
                  <a:pt x="87" y="3"/>
                </a:lnTo>
                <a:lnTo>
                  <a:pt x="74" y="5"/>
                </a:lnTo>
                <a:lnTo>
                  <a:pt x="61" y="7"/>
                </a:lnTo>
                <a:lnTo>
                  <a:pt x="50" y="10"/>
                </a:lnTo>
                <a:lnTo>
                  <a:pt x="39" y="14"/>
                </a:lnTo>
                <a:lnTo>
                  <a:pt x="30" y="18"/>
                </a:lnTo>
                <a:lnTo>
                  <a:pt x="22" y="22"/>
                </a:lnTo>
                <a:lnTo>
                  <a:pt x="15" y="27"/>
                </a:lnTo>
                <a:lnTo>
                  <a:pt x="10" y="33"/>
                </a:lnTo>
                <a:lnTo>
                  <a:pt x="5" y="39"/>
                </a:lnTo>
                <a:lnTo>
                  <a:pt x="2" y="46"/>
                </a:lnTo>
                <a:lnTo>
                  <a:pt x="0" y="53"/>
                </a:lnTo>
                <a:lnTo>
                  <a:pt x="0" y="61"/>
                </a:lnTo>
                <a:lnTo>
                  <a:pt x="1" y="69"/>
                </a:lnTo>
                <a:lnTo>
                  <a:pt x="3" y="77"/>
                </a:lnTo>
                <a:lnTo>
                  <a:pt x="7" y="86"/>
                </a:lnTo>
                <a:lnTo>
                  <a:pt x="12" y="94"/>
                </a:lnTo>
                <a:lnTo>
                  <a:pt x="18" y="104"/>
                </a:lnTo>
                <a:lnTo>
                  <a:pt x="25" y="113"/>
                </a:lnTo>
                <a:lnTo>
                  <a:pt x="33" y="123"/>
                </a:lnTo>
                <a:lnTo>
                  <a:pt x="43" y="132"/>
                </a:lnTo>
                <a:lnTo>
                  <a:pt x="53" y="142"/>
                </a:lnTo>
                <a:lnTo>
                  <a:pt x="65" y="153"/>
                </a:lnTo>
                <a:lnTo>
                  <a:pt x="78" y="163"/>
                </a:lnTo>
                <a:lnTo>
                  <a:pt x="91" y="173"/>
                </a:lnTo>
                <a:lnTo>
                  <a:pt x="122" y="195"/>
                </a:lnTo>
                <a:lnTo>
                  <a:pt x="156" y="216"/>
                </a:lnTo>
                <a:lnTo>
                  <a:pt x="193" y="238"/>
                </a:lnTo>
                <a:lnTo>
                  <a:pt x="234" y="259"/>
                </a:lnTo>
                <a:lnTo>
                  <a:pt x="278" y="281"/>
                </a:lnTo>
                <a:lnTo>
                  <a:pt x="324" y="302"/>
                </a:lnTo>
                <a:lnTo>
                  <a:pt x="373" y="322"/>
                </a:lnTo>
                <a:lnTo>
                  <a:pt x="424" y="342"/>
                </a:lnTo>
                <a:lnTo>
                  <a:pt x="477" y="361"/>
                </a:lnTo>
                <a:lnTo>
                  <a:pt x="531" y="379"/>
                </a:lnTo>
                <a:lnTo>
                  <a:pt x="583" y="394"/>
                </a:lnTo>
                <a:lnTo>
                  <a:pt x="635" y="408"/>
                </a:lnTo>
                <a:lnTo>
                  <a:pt x="684" y="420"/>
                </a:lnTo>
                <a:lnTo>
                  <a:pt x="732" y="430"/>
                </a:lnTo>
                <a:lnTo>
                  <a:pt x="777" y="438"/>
                </a:lnTo>
                <a:lnTo>
                  <a:pt x="820" y="444"/>
                </a:lnTo>
                <a:lnTo>
                  <a:pt x="860" y="448"/>
                </a:lnTo>
                <a:lnTo>
                  <a:pt x="897" y="450"/>
                </a:lnTo>
                <a:lnTo>
                  <a:pt x="931" y="449"/>
                </a:lnTo>
                <a:lnTo>
                  <a:pt x="961" y="447"/>
                </a:lnTo>
                <a:lnTo>
                  <a:pt x="974" y="445"/>
                </a:lnTo>
                <a:lnTo>
                  <a:pt x="987" y="443"/>
                </a:lnTo>
                <a:lnTo>
                  <a:pt x="998" y="440"/>
                </a:lnTo>
                <a:lnTo>
                  <a:pt x="1009" y="436"/>
                </a:lnTo>
                <a:lnTo>
                  <a:pt x="1018" y="432"/>
                </a:lnTo>
                <a:lnTo>
                  <a:pt x="1026" y="428"/>
                </a:lnTo>
                <a:lnTo>
                  <a:pt x="1033" y="423"/>
                </a:lnTo>
                <a:lnTo>
                  <a:pt x="1039" y="417"/>
                </a:lnTo>
                <a:lnTo>
                  <a:pt x="1043" y="411"/>
                </a:lnTo>
                <a:lnTo>
                  <a:pt x="1046" y="404"/>
                </a:lnTo>
                <a:lnTo>
                  <a:pt x="1048" y="397"/>
                </a:lnTo>
                <a:lnTo>
                  <a:pt x="1048" y="389"/>
                </a:lnTo>
                <a:lnTo>
                  <a:pt x="1047" y="381"/>
                </a:lnTo>
                <a:lnTo>
                  <a:pt x="1045" y="373"/>
                </a:lnTo>
                <a:lnTo>
                  <a:pt x="1041" y="364"/>
                </a:lnTo>
                <a:lnTo>
                  <a:pt x="1037" y="356"/>
                </a:lnTo>
                <a:lnTo>
                  <a:pt x="1031" y="346"/>
                </a:lnTo>
                <a:lnTo>
                  <a:pt x="1023" y="337"/>
                </a:lnTo>
                <a:lnTo>
                  <a:pt x="1015" y="327"/>
                </a:lnTo>
                <a:lnTo>
                  <a:pt x="1005" y="318"/>
                </a:lnTo>
                <a:lnTo>
                  <a:pt x="995" y="308"/>
                </a:lnTo>
                <a:lnTo>
                  <a:pt x="983" y="298"/>
                </a:lnTo>
                <a:lnTo>
                  <a:pt x="970" y="287"/>
                </a:lnTo>
                <a:lnTo>
                  <a:pt x="957" y="277"/>
                </a:lnTo>
                <a:lnTo>
                  <a:pt x="926" y="256"/>
                </a:lnTo>
                <a:lnTo>
                  <a:pt x="892" y="234"/>
                </a:lnTo>
                <a:lnTo>
                  <a:pt x="855" y="212"/>
                </a:lnTo>
                <a:lnTo>
                  <a:pt x="814" y="191"/>
                </a:lnTo>
                <a:lnTo>
                  <a:pt x="770" y="169"/>
                </a:lnTo>
                <a:lnTo>
                  <a:pt x="724" y="148"/>
                </a:lnTo>
                <a:lnTo>
                  <a:pt x="675" y="128"/>
                </a:lnTo>
                <a:lnTo>
                  <a:pt x="624" y="108"/>
                </a:lnTo>
                <a:lnTo>
                  <a:pt x="571" y="89"/>
                </a:lnTo>
              </a:path>
            </a:pathLst>
          </a:custGeom>
          <a:noFill/>
          <a:ln cap="rnd" w="25560">
            <a:solidFill>
              <a:srgbClr val="0029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484440" y="4467240"/>
            <a:ext cx="504720" cy="364680"/>
            <a:chOff x="3484440" y="4467240"/>
            <a:chExt cx="504720" cy="364680"/>
          </a:xfrm>
        </p:grpSpPr>
        <p:sp>
          <p:nvSpPr>
            <p:cNvPr id="216" name=""/>
            <p:cNvSpPr/>
            <p:nvPr/>
          </p:nvSpPr>
          <p:spPr>
            <a:xfrm>
              <a:off x="3609000" y="4545720"/>
              <a:ext cx="380160" cy="286200"/>
            </a:xfrm>
            <a:custGeom>
              <a:avLst/>
              <a:gdLst/>
              <a:ahLst/>
              <a:rect l="l" t="t" r="r" b="b"/>
              <a:pathLst>
                <a:path w="235" h="124">
                  <a:moveTo>
                    <a:pt x="8" y="0"/>
                  </a:moveTo>
                  <a:lnTo>
                    <a:pt x="0" y="16"/>
                  </a:lnTo>
                  <a:lnTo>
                    <a:pt x="226" y="123"/>
                  </a:lnTo>
                  <a:lnTo>
                    <a:pt x="234" y="107"/>
                  </a:lnTo>
                  <a:lnTo>
                    <a:pt x="8" y="0"/>
                  </a:lnTo>
                </a:path>
              </a:pathLst>
            </a:cu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84440" y="4467240"/>
              <a:ext cx="168120" cy="19404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103" y="0"/>
                  </a:moveTo>
                  <a:lnTo>
                    <a:pt x="0" y="2"/>
                  </a:lnTo>
                  <a:lnTo>
                    <a:pt x="63" y="83"/>
                  </a:lnTo>
                  <a:lnTo>
                    <a:pt x="103" y="0"/>
                  </a:lnTo>
                </a:path>
              </a:pathLst>
            </a:cu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017880" y="3879720"/>
            <a:ext cx="528120" cy="421920"/>
            <a:chOff x="3017880" y="3879720"/>
            <a:chExt cx="528120" cy="421920"/>
          </a:xfrm>
        </p:grpSpPr>
        <p:sp>
          <p:nvSpPr>
            <p:cNvPr id="219" name=""/>
            <p:cNvSpPr/>
            <p:nvPr/>
          </p:nvSpPr>
          <p:spPr>
            <a:xfrm>
              <a:off x="3483000" y="3879720"/>
              <a:ext cx="63000" cy="421920"/>
            </a:xfrm>
            <a:custGeom>
              <a:avLst/>
              <a:gdLst/>
              <a:ahLst/>
              <a:rect l="l" t="t" r="r" b="b"/>
              <a:pathLst>
                <a:path w="39" h="183">
                  <a:moveTo>
                    <a:pt x="0" y="182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38" y="137"/>
                  </a:lnTo>
                  <a:lnTo>
                    <a:pt x="0" y="182"/>
                  </a:lnTo>
                </a:path>
              </a:pathLst>
            </a:custGeom>
            <a:solidFill>
              <a:srgbClr val="dd00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17880" y="3879720"/>
              <a:ext cx="528120" cy="89640"/>
            </a:xfrm>
            <a:custGeom>
              <a:avLst/>
              <a:gdLst/>
              <a:ahLst/>
              <a:rect l="l" t="t" r="r" b="b"/>
              <a:pathLst>
                <a:path w="327" h="39">
                  <a:moveTo>
                    <a:pt x="288" y="38"/>
                  </a:moveTo>
                  <a:lnTo>
                    <a:pt x="0" y="38"/>
                  </a:lnTo>
                  <a:lnTo>
                    <a:pt x="52" y="0"/>
                  </a:lnTo>
                  <a:lnTo>
                    <a:pt x="326" y="0"/>
                  </a:lnTo>
                  <a:lnTo>
                    <a:pt x="288" y="38"/>
                  </a:lnTo>
                </a:path>
              </a:pathLst>
            </a:custGeom>
            <a:solidFill>
              <a:srgbClr val="95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17880" y="3966840"/>
              <a:ext cx="465120" cy="331920"/>
            </a:xfrm>
            <a:prstGeom prst="rect">
              <a:avLst/>
            </a:prstGeom>
            <a:solidFill>
              <a:srgbClr val="c000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406680" y="4632480"/>
            <a:ext cx="464760" cy="327600"/>
            <a:chOff x="3406680" y="4632480"/>
            <a:chExt cx="464760" cy="327600"/>
          </a:xfrm>
        </p:grpSpPr>
        <p:sp>
          <p:nvSpPr>
            <p:cNvPr id="223" name=""/>
            <p:cNvSpPr/>
            <p:nvPr/>
          </p:nvSpPr>
          <p:spPr>
            <a:xfrm>
              <a:off x="3406680" y="4632480"/>
              <a:ext cx="301680" cy="227880"/>
            </a:xfrm>
            <a:custGeom>
              <a:avLst/>
              <a:gdLst/>
              <a:ahLst/>
              <a:rect l="l" t="t" r="r" b="b"/>
              <a:pathLst>
                <a:path w="143" h="78">
                  <a:moveTo>
                    <a:pt x="7" y="0"/>
                  </a:moveTo>
                  <a:lnTo>
                    <a:pt x="0" y="16"/>
                  </a:lnTo>
                  <a:lnTo>
                    <a:pt x="135" y="77"/>
                  </a:lnTo>
                  <a:lnTo>
                    <a:pt x="142" y="61"/>
                  </a:lnTo>
                  <a:lnTo>
                    <a:pt x="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1480" y="4711320"/>
              <a:ext cx="219960" cy="24876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0" y="84"/>
                  </a:moveTo>
                  <a:lnTo>
                    <a:pt x="103" y="81"/>
                  </a:lnTo>
                  <a:lnTo>
                    <a:pt x="39" y="0"/>
                  </a:lnTo>
                  <a:lnTo>
                    <a:pt x="0" y="8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940120" y="3879720"/>
            <a:ext cx="605880" cy="421920"/>
            <a:chOff x="2940120" y="3879720"/>
            <a:chExt cx="605880" cy="421920"/>
          </a:xfrm>
        </p:grpSpPr>
        <p:sp>
          <p:nvSpPr>
            <p:cNvPr id="226" name=""/>
            <p:cNvSpPr/>
            <p:nvPr/>
          </p:nvSpPr>
          <p:spPr>
            <a:xfrm>
              <a:off x="3473640" y="3879720"/>
              <a:ext cx="72000" cy="421920"/>
            </a:xfrm>
            <a:custGeom>
              <a:avLst/>
              <a:gdLst/>
              <a:ahLst/>
              <a:rect l="l" t="t" r="r" b="b"/>
              <a:pathLst>
                <a:path w="39" h="183">
                  <a:moveTo>
                    <a:pt x="0" y="182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38" y="137"/>
                  </a:lnTo>
                  <a:lnTo>
                    <a:pt x="0" y="182"/>
                  </a:lnTo>
                </a:path>
              </a:pathLst>
            </a:custGeom>
            <a:solidFill>
              <a:srgbClr val="d05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40120" y="3879720"/>
              <a:ext cx="605880" cy="89640"/>
            </a:xfrm>
            <a:custGeom>
              <a:avLst/>
              <a:gdLst/>
              <a:ahLst/>
              <a:rect l="l" t="t" r="r" b="b"/>
              <a:pathLst>
                <a:path w="327" h="39">
                  <a:moveTo>
                    <a:pt x="288" y="38"/>
                  </a:moveTo>
                  <a:lnTo>
                    <a:pt x="0" y="38"/>
                  </a:lnTo>
                  <a:lnTo>
                    <a:pt x="52" y="0"/>
                  </a:lnTo>
                  <a:lnTo>
                    <a:pt x="326" y="0"/>
                  </a:lnTo>
                  <a:lnTo>
                    <a:pt x="288" y="38"/>
                  </a:lnTo>
                </a:path>
              </a:pathLst>
            </a:custGeom>
            <a:solidFill>
              <a:srgbClr val="d05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40120" y="3966840"/>
              <a:ext cx="533520" cy="331920"/>
            </a:xfrm>
            <a:prstGeom prst="rect">
              <a:avLst/>
            </a:prstGeom>
            <a:solidFill>
              <a:srgbClr val="d05e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17520" y="402264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DX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580000" y="4137120"/>
            <a:ext cx="472680" cy="275760"/>
            <a:chOff x="5580000" y="4137120"/>
            <a:chExt cx="472680" cy="275760"/>
          </a:xfrm>
        </p:grpSpPr>
        <p:sp>
          <p:nvSpPr>
            <p:cNvPr id="231" name=""/>
            <p:cNvSpPr/>
            <p:nvPr/>
          </p:nvSpPr>
          <p:spPr>
            <a:xfrm>
              <a:off x="5712840" y="4137120"/>
              <a:ext cx="339840" cy="195480"/>
            </a:xfrm>
            <a:custGeom>
              <a:avLst/>
              <a:gdLst/>
              <a:ahLst/>
              <a:rect l="l" t="t" r="r" b="b"/>
              <a:pathLst>
                <a:path w="210" h="85">
                  <a:moveTo>
                    <a:pt x="209" y="17"/>
                  </a:moveTo>
                  <a:lnTo>
                    <a:pt x="203" y="0"/>
                  </a:lnTo>
                  <a:lnTo>
                    <a:pt x="0" y="67"/>
                  </a:lnTo>
                  <a:lnTo>
                    <a:pt x="6" y="84"/>
                  </a:lnTo>
                  <a:lnTo>
                    <a:pt x="209" y="17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80000" y="4205880"/>
              <a:ext cx="167040" cy="20700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72" y="0"/>
                  </a:moveTo>
                  <a:lnTo>
                    <a:pt x="0" y="74"/>
                  </a:lnTo>
                  <a:lnTo>
                    <a:pt x="102" y="89"/>
                  </a:lnTo>
                  <a:lnTo>
                    <a:pt x="72" y="0"/>
                  </a:lnTo>
                </a:path>
              </a:pathLst>
            </a:custGeom>
            <a:solidFill>
              <a:srgbClr val="ff33cc"/>
            </a:solidFill>
            <a:ln cap="rnd"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512040" y="3726000"/>
            <a:ext cx="543960" cy="297720"/>
            <a:chOff x="6512040" y="3726000"/>
            <a:chExt cx="543960" cy="297720"/>
          </a:xfrm>
        </p:grpSpPr>
        <p:sp>
          <p:nvSpPr>
            <p:cNvPr id="234" name=""/>
            <p:cNvSpPr/>
            <p:nvPr/>
          </p:nvSpPr>
          <p:spPr>
            <a:xfrm>
              <a:off x="6664680" y="3726000"/>
              <a:ext cx="391320" cy="211320"/>
            </a:xfrm>
            <a:custGeom>
              <a:avLst/>
              <a:gdLst/>
              <a:ahLst/>
              <a:rect l="l" t="t" r="r" b="b"/>
              <a:pathLst>
                <a:path w="210" h="85">
                  <a:moveTo>
                    <a:pt x="209" y="17"/>
                  </a:moveTo>
                  <a:lnTo>
                    <a:pt x="203" y="0"/>
                  </a:lnTo>
                  <a:lnTo>
                    <a:pt x="0" y="67"/>
                  </a:lnTo>
                  <a:lnTo>
                    <a:pt x="6" y="84"/>
                  </a:lnTo>
                  <a:lnTo>
                    <a:pt x="209" y="17"/>
                  </a:lnTo>
                </a:path>
              </a:pathLst>
            </a:cu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12040" y="3800160"/>
              <a:ext cx="191880" cy="22356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72" y="0"/>
                  </a:moveTo>
                  <a:lnTo>
                    <a:pt x="0" y="74"/>
                  </a:lnTo>
                  <a:lnTo>
                    <a:pt x="102" y="89"/>
                  </a:lnTo>
                  <a:lnTo>
                    <a:pt x="72" y="0"/>
                  </a:lnTo>
                </a:path>
              </a:pathLst>
            </a:cu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004080" y="2984400"/>
            <a:ext cx="1868400" cy="612720"/>
          </a:xfrm>
          <a:prstGeom prst="ellipse">
            <a:avLst/>
          </a:prstGeom>
          <a:noFill/>
          <a:ln w="25560">
            <a:solidFill>
              <a:srgbClr val="002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745680" y="2819520"/>
            <a:ext cx="543960" cy="217080"/>
            <a:chOff x="6745680" y="2819520"/>
            <a:chExt cx="543960" cy="217080"/>
          </a:xfrm>
        </p:grpSpPr>
        <p:sp>
          <p:nvSpPr>
            <p:cNvPr id="238" name=""/>
            <p:cNvSpPr/>
            <p:nvPr/>
          </p:nvSpPr>
          <p:spPr>
            <a:xfrm flipH="1">
              <a:off x="6745680" y="2907360"/>
              <a:ext cx="339840" cy="41040"/>
            </a:xfrm>
            <a:prstGeom prst="rect">
              <a:avLst/>
            </a:pr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078680" y="2819520"/>
              <a:ext cx="210600" cy="21708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326360" y="3394080"/>
            <a:ext cx="528120" cy="421920"/>
            <a:chOff x="7326360" y="3394080"/>
            <a:chExt cx="528120" cy="421920"/>
          </a:xfrm>
        </p:grpSpPr>
        <p:sp>
          <p:nvSpPr>
            <p:cNvPr id="241" name=""/>
            <p:cNvSpPr/>
            <p:nvPr/>
          </p:nvSpPr>
          <p:spPr>
            <a:xfrm>
              <a:off x="7791480" y="3394080"/>
              <a:ext cx="63000" cy="421920"/>
            </a:xfrm>
            <a:custGeom>
              <a:avLst/>
              <a:gdLst/>
              <a:ahLst/>
              <a:rect l="l" t="t" r="r" b="b"/>
              <a:pathLst>
                <a:path w="39" h="183">
                  <a:moveTo>
                    <a:pt x="0" y="182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38" y="137"/>
                  </a:lnTo>
                  <a:lnTo>
                    <a:pt x="0" y="182"/>
                  </a:lnTo>
                </a:path>
              </a:pathLst>
            </a:custGeom>
            <a:solidFill>
              <a:srgbClr val="e02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26360" y="3394080"/>
              <a:ext cx="528120" cy="89640"/>
            </a:xfrm>
            <a:custGeom>
              <a:avLst/>
              <a:gdLst/>
              <a:ahLst/>
              <a:rect l="l" t="t" r="r" b="b"/>
              <a:pathLst>
                <a:path w="327" h="39">
                  <a:moveTo>
                    <a:pt x="288" y="38"/>
                  </a:moveTo>
                  <a:lnTo>
                    <a:pt x="0" y="38"/>
                  </a:lnTo>
                  <a:lnTo>
                    <a:pt x="52" y="0"/>
                  </a:lnTo>
                  <a:lnTo>
                    <a:pt x="326" y="0"/>
                  </a:lnTo>
                  <a:lnTo>
                    <a:pt x="288" y="38"/>
                  </a:lnTo>
                </a:path>
              </a:pathLst>
            </a:custGeom>
            <a:solidFill>
              <a:srgbClr val="971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26360" y="3481920"/>
              <a:ext cx="465120" cy="331920"/>
            </a:xfrm>
            <a:prstGeom prst="rect">
              <a:avLst/>
            </a:prstGeom>
            <a:solidFill>
              <a:srgbClr val="c327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92600" y="352584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DX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326360" y="3060720"/>
            <a:ext cx="528120" cy="421920"/>
            <a:chOff x="7326360" y="3060720"/>
            <a:chExt cx="528120" cy="421920"/>
          </a:xfrm>
        </p:grpSpPr>
        <p:sp>
          <p:nvSpPr>
            <p:cNvPr id="246" name=""/>
            <p:cNvSpPr/>
            <p:nvPr/>
          </p:nvSpPr>
          <p:spPr>
            <a:xfrm>
              <a:off x="7791480" y="3060720"/>
              <a:ext cx="63000" cy="421920"/>
            </a:xfrm>
            <a:custGeom>
              <a:avLst/>
              <a:gdLst/>
              <a:ahLst/>
              <a:rect l="l" t="t" r="r" b="b"/>
              <a:pathLst>
                <a:path w="39" h="183">
                  <a:moveTo>
                    <a:pt x="0" y="182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38" y="137"/>
                  </a:lnTo>
                  <a:lnTo>
                    <a:pt x="0" y="182"/>
                  </a:lnTo>
                </a:path>
              </a:pathLst>
            </a:custGeom>
            <a:solidFill>
              <a:srgbClr val="10a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26360" y="3060720"/>
              <a:ext cx="528120" cy="89640"/>
            </a:xfrm>
            <a:custGeom>
              <a:avLst/>
              <a:gdLst/>
              <a:ahLst/>
              <a:rect l="l" t="t" r="r" b="b"/>
              <a:pathLst>
                <a:path w="327" h="39">
                  <a:moveTo>
                    <a:pt x="288" y="38"/>
                  </a:moveTo>
                  <a:lnTo>
                    <a:pt x="0" y="38"/>
                  </a:lnTo>
                  <a:lnTo>
                    <a:pt x="52" y="0"/>
                  </a:lnTo>
                  <a:lnTo>
                    <a:pt x="326" y="0"/>
                  </a:lnTo>
                  <a:lnTo>
                    <a:pt x="288" y="38"/>
                  </a:lnTo>
                </a:path>
              </a:pathLst>
            </a:custGeom>
            <a:solidFill>
              <a:srgbClr val="0b75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26360" y="3148560"/>
              <a:ext cx="465120" cy="331920"/>
            </a:xfrm>
            <a:prstGeom prst="rect">
              <a:avLst/>
            </a:prstGeom>
            <a:solidFill>
              <a:srgbClr val="0e97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7392600" y="319392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DX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4114800" y="5360760"/>
            <a:ext cx="671400" cy="254880"/>
            <a:chOff x="4114800" y="5360760"/>
            <a:chExt cx="671400" cy="254880"/>
          </a:xfrm>
        </p:grpSpPr>
        <p:sp>
          <p:nvSpPr>
            <p:cNvPr id="251" name=""/>
            <p:cNvSpPr/>
            <p:nvPr/>
          </p:nvSpPr>
          <p:spPr>
            <a:xfrm rot="579000">
              <a:off x="4114800" y="5409000"/>
              <a:ext cx="483480" cy="43560"/>
            </a:xfrm>
            <a:prstGeom prst="rect">
              <a:avLst/>
            </a:pr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79000">
              <a:off x="4589280" y="5374080"/>
              <a:ext cx="178920" cy="2282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940120" y="3560760"/>
            <a:ext cx="605880" cy="421920"/>
            <a:chOff x="2940120" y="3560760"/>
            <a:chExt cx="605880" cy="421920"/>
          </a:xfrm>
        </p:grpSpPr>
        <p:sp>
          <p:nvSpPr>
            <p:cNvPr id="254" name=""/>
            <p:cNvSpPr/>
            <p:nvPr/>
          </p:nvSpPr>
          <p:spPr>
            <a:xfrm>
              <a:off x="3473640" y="3560760"/>
              <a:ext cx="72000" cy="421920"/>
            </a:xfrm>
            <a:custGeom>
              <a:avLst/>
              <a:gdLst/>
              <a:ahLst/>
              <a:rect l="l" t="t" r="r" b="b"/>
              <a:pathLst>
                <a:path w="39" h="183">
                  <a:moveTo>
                    <a:pt x="0" y="182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38" y="137"/>
                  </a:lnTo>
                  <a:lnTo>
                    <a:pt x="0" y="182"/>
                  </a:lnTo>
                </a:path>
              </a:pathLst>
            </a:custGeom>
            <a:solidFill>
              <a:srgbClr val="802d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40120" y="3560760"/>
              <a:ext cx="605880" cy="89640"/>
            </a:xfrm>
            <a:custGeom>
              <a:avLst/>
              <a:gdLst/>
              <a:ahLst/>
              <a:rect l="l" t="t" r="r" b="b"/>
              <a:pathLst>
                <a:path w="327" h="39">
                  <a:moveTo>
                    <a:pt x="288" y="38"/>
                  </a:moveTo>
                  <a:lnTo>
                    <a:pt x="0" y="38"/>
                  </a:lnTo>
                  <a:lnTo>
                    <a:pt x="52" y="0"/>
                  </a:lnTo>
                  <a:lnTo>
                    <a:pt x="326" y="0"/>
                  </a:lnTo>
                  <a:lnTo>
                    <a:pt x="288" y="38"/>
                  </a:lnTo>
                </a:path>
              </a:pathLst>
            </a:custGeom>
            <a:solidFill>
              <a:srgbClr val="561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40120" y="3647880"/>
              <a:ext cx="533520" cy="331920"/>
            </a:xfrm>
            <a:prstGeom prst="rect">
              <a:avLst/>
            </a:prstGeom>
            <a:solidFill>
              <a:srgbClr val="6f2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017520" y="372600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DX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357960" y="4941720"/>
            <a:ext cx="549000" cy="217440"/>
            <a:chOff x="6357960" y="4941720"/>
            <a:chExt cx="549000" cy="217440"/>
          </a:xfrm>
        </p:grpSpPr>
        <p:sp>
          <p:nvSpPr>
            <p:cNvPr id="259" name=""/>
            <p:cNvSpPr/>
            <p:nvPr/>
          </p:nvSpPr>
          <p:spPr>
            <a:xfrm>
              <a:off x="6503400" y="5029560"/>
              <a:ext cx="403560" cy="414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57960" y="4941720"/>
              <a:ext cx="150120" cy="2174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961320" y="4915080"/>
            <a:ext cx="560520" cy="231120"/>
            <a:chOff x="6961320" y="4915080"/>
            <a:chExt cx="560520" cy="231120"/>
          </a:xfrm>
        </p:grpSpPr>
        <p:sp>
          <p:nvSpPr>
            <p:cNvPr id="262" name=""/>
            <p:cNvSpPr/>
            <p:nvPr/>
          </p:nvSpPr>
          <p:spPr>
            <a:xfrm rot="338400">
              <a:off x="7115040" y="5036760"/>
              <a:ext cx="405360" cy="4140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338400">
              <a:off x="6971400" y="4921920"/>
              <a:ext cx="150120" cy="2174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990480" y="5461920"/>
            <a:ext cx="564840" cy="235080"/>
            <a:chOff x="6990480" y="5461920"/>
            <a:chExt cx="564840" cy="235080"/>
          </a:xfrm>
        </p:grpSpPr>
        <p:sp>
          <p:nvSpPr>
            <p:cNvPr id="265" name=""/>
            <p:cNvSpPr/>
            <p:nvPr/>
          </p:nvSpPr>
          <p:spPr>
            <a:xfrm rot="21144600">
              <a:off x="6991200" y="5592600"/>
              <a:ext cx="405360" cy="4140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1144600">
              <a:off x="7391160" y="5470560"/>
              <a:ext cx="150120" cy="21708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724280" y="3327480"/>
            <a:ext cx="651960" cy="1929240"/>
            <a:chOff x="4724280" y="3327480"/>
            <a:chExt cx="651960" cy="1929240"/>
          </a:xfrm>
        </p:grpSpPr>
        <p:grpSp>
          <p:nvGrpSpPr>
            <p:cNvPr id="268" name=""/>
            <p:cNvGrpSpPr/>
            <p:nvPr/>
          </p:nvGrpSpPr>
          <p:grpSpPr>
            <a:xfrm>
              <a:off x="4724280" y="4658760"/>
              <a:ext cx="651960" cy="597960"/>
              <a:chOff x="4724280" y="4658760"/>
              <a:chExt cx="651960" cy="597960"/>
            </a:xfrm>
          </p:grpSpPr>
          <p:pic>
            <p:nvPicPr>
              <p:cNvPr id="26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4280" y="4658760"/>
                <a:ext cx="651960" cy="59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4825800" y="4905720"/>
                <a:ext cx="265680" cy="1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X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724280" y="4325760"/>
              <a:ext cx="651960" cy="597960"/>
              <a:chOff x="4724280" y="4325760"/>
              <a:chExt cx="651960" cy="597960"/>
            </a:xfrm>
          </p:grpSpPr>
          <p:pic>
            <p:nvPicPr>
              <p:cNvPr id="2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24280" y="4325760"/>
                <a:ext cx="651960" cy="59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4825800" y="4572720"/>
                <a:ext cx="265680" cy="1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cc00"/>
                    </a:solidFill>
                    <a:latin typeface="Times New Roman"/>
                  </a:rPr>
                  <a:t>DX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724280" y="3993120"/>
              <a:ext cx="651960" cy="597960"/>
              <a:chOff x="4724280" y="3993120"/>
              <a:chExt cx="651960" cy="597960"/>
            </a:xfrm>
          </p:grpSpPr>
          <p:pic>
            <p:nvPicPr>
              <p:cNvPr id="2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4280" y="3993120"/>
                <a:ext cx="651960" cy="59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825800" y="4240080"/>
                <a:ext cx="265680" cy="1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cc00"/>
                    </a:solidFill>
                    <a:latin typeface="Times New Roman"/>
                  </a:rPr>
                  <a:t>DX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724280" y="3660120"/>
              <a:ext cx="651960" cy="597960"/>
              <a:chOff x="4724280" y="3660120"/>
              <a:chExt cx="651960" cy="597960"/>
            </a:xfrm>
          </p:grpSpPr>
          <p:pic>
            <p:nvPicPr>
              <p:cNvPr id="27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24280" y="3660120"/>
                <a:ext cx="651960" cy="59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825800" y="3907080"/>
                <a:ext cx="265680" cy="1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cc00"/>
                    </a:solidFill>
                    <a:latin typeface="Times New Roman"/>
                  </a:rPr>
                  <a:t>DX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724280" y="3327480"/>
              <a:ext cx="651960" cy="597960"/>
              <a:chOff x="4724280" y="3327480"/>
              <a:chExt cx="651960" cy="597960"/>
            </a:xfrm>
          </p:grpSpPr>
          <p:pic>
            <p:nvPicPr>
              <p:cNvPr id="2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24280" y="3327480"/>
                <a:ext cx="651960" cy="59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825800" y="3574440"/>
                <a:ext cx="265680" cy="18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ffcc00"/>
                    </a:solidFill>
                    <a:latin typeface="Times New Roman"/>
                  </a:rPr>
                  <a:t>DX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5500800" y="5421240"/>
            <a:ext cx="651960" cy="598320"/>
            <a:chOff x="5500800" y="5421240"/>
            <a:chExt cx="651960" cy="598320"/>
          </a:xfrm>
        </p:grpSpPr>
        <p:pic>
          <p:nvPicPr>
            <p:cNvPr id="284" name="" descr=""/>
            <p:cNvPicPr/>
            <p:nvPr/>
          </p:nvPicPr>
          <p:blipFill>
            <a:blip r:embed="rId7"/>
            <a:stretch/>
          </p:blipFill>
          <p:spPr>
            <a:xfrm>
              <a:off x="5500800" y="5421240"/>
              <a:ext cx="6519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602680" y="5668560"/>
              <a:ext cx="26532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X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597800" y="4960800"/>
            <a:ext cx="699840" cy="658440"/>
            <a:chOff x="7597800" y="4960800"/>
            <a:chExt cx="699840" cy="658440"/>
          </a:xfrm>
        </p:grpSpPr>
        <p:pic>
          <p:nvPicPr>
            <p:cNvPr id="287" name="" descr=""/>
            <p:cNvPicPr/>
            <p:nvPr/>
          </p:nvPicPr>
          <p:blipFill>
            <a:blip r:embed="rId8"/>
            <a:stretch/>
          </p:blipFill>
          <p:spPr>
            <a:xfrm>
              <a:off x="7597800" y="4960800"/>
              <a:ext cx="699840" cy="65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707240" y="5232960"/>
              <a:ext cx="284760" cy="1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X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229440" y="5562720"/>
            <a:ext cx="551880" cy="218520"/>
            <a:chOff x="6229440" y="5562720"/>
            <a:chExt cx="551880" cy="218520"/>
          </a:xfrm>
        </p:grpSpPr>
        <p:sp>
          <p:nvSpPr>
            <p:cNvPr id="290" name=""/>
            <p:cNvSpPr/>
            <p:nvPr/>
          </p:nvSpPr>
          <p:spPr>
            <a:xfrm>
              <a:off x="6229440" y="5648760"/>
              <a:ext cx="405360" cy="41400"/>
            </a:xfrm>
            <a:prstGeom prst="rect">
              <a:avLst/>
            </a:pr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31200" y="5562720"/>
              <a:ext cx="150120" cy="2185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998640" y="2984400"/>
            <a:ext cx="651960" cy="598320"/>
            <a:chOff x="998640" y="2984400"/>
            <a:chExt cx="651960" cy="598320"/>
          </a:xfrm>
        </p:grpSpPr>
        <p:pic>
          <p:nvPicPr>
            <p:cNvPr id="293" name="" descr=""/>
            <p:cNvPicPr/>
            <p:nvPr/>
          </p:nvPicPr>
          <p:blipFill>
            <a:blip r:embed="rId9"/>
            <a:stretch/>
          </p:blipFill>
          <p:spPr>
            <a:xfrm>
              <a:off x="998640" y="2984400"/>
              <a:ext cx="65196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1100520" y="3231720"/>
              <a:ext cx="26532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cc00"/>
                  </a:solidFill>
                  <a:latin typeface="Times New Roman"/>
                </a:rPr>
                <a:t>DX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716280" y="3127320"/>
            <a:ext cx="652320" cy="598320"/>
            <a:chOff x="3716280" y="3127320"/>
            <a:chExt cx="652320" cy="598320"/>
          </a:xfrm>
        </p:grpSpPr>
        <p:pic>
          <p:nvPicPr>
            <p:cNvPr id="296" name="" descr=""/>
            <p:cNvPicPr/>
            <p:nvPr/>
          </p:nvPicPr>
          <p:blipFill>
            <a:blip r:embed="rId10"/>
            <a:stretch/>
          </p:blipFill>
          <p:spPr>
            <a:xfrm>
              <a:off x="3716280" y="3127320"/>
              <a:ext cx="65232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817800" y="3374640"/>
              <a:ext cx="2656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fcc00"/>
                  </a:solidFill>
                  <a:latin typeface="Times New Roman"/>
                </a:rPr>
                <a:t>DX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933640" y="3220200"/>
            <a:ext cx="1143000" cy="72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56" y="14186"/>
                </a:moveTo>
                <a:arcTo wR="10800" hR="10800" stAng="1096126" swAng="3689322"/>
                <a:lnTo>
                  <a:pt x="10800" y="10800"/>
                </a:lnTo>
                <a:close/>
              </a:path>
              <a:path fill="none" w="21600" h="21600">
                <a:moveTo>
                  <a:pt x="21056" y="14186"/>
                </a:moveTo>
                <a:arcTo wR="10800" hR="10800" stAng="1096126" swAng="3689322"/>
              </a:path>
            </a:pathLst>
          </a:custGeom>
          <a:noFill/>
          <a:ln cap="rnd"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909560" y="3397320"/>
            <a:ext cx="776880" cy="445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52418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524189"/>
              </a:path>
            </a:pathLst>
          </a:custGeom>
          <a:noFill/>
          <a:ln cap="rnd" w="38160">
            <a:solidFill>
              <a:srgbClr val="33cc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21060000">
            <a:off x="6352200" y="3396600"/>
            <a:ext cx="2060640" cy="110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46" y="14764"/>
                </a:moveTo>
                <a:arcTo wR="10800" hR="10800" stAng="1291868" swAng="3138259"/>
                <a:lnTo>
                  <a:pt x="10800" y="10800"/>
                </a:lnTo>
                <a:close/>
              </a:path>
              <a:path fill="none" w="21600" h="21600">
                <a:moveTo>
                  <a:pt x="20846" y="14764"/>
                </a:moveTo>
                <a:arcTo wR="10800" hR="10800" stAng="1291868" swAng="3138259"/>
              </a:path>
            </a:pathLst>
          </a:custGeom>
          <a:noFill/>
          <a:ln cap="rnd" w="38160">
            <a:solidFill>
              <a:srgbClr val="ff66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21060000">
            <a:off x="5319360" y="4484880"/>
            <a:ext cx="2059200" cy="39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854" y="14745"/>
                </a:moveTo>
                <a:arcTo wR="10800" hR="10800" stAng="1285587" swAng="2830494"/>
                <a:lnTo>
                  <a:pt x="10800" y="10800"/>
                </a:lnTo>
                <a:close/>
              </a:path>
              <a:path fill="none" w="21600" h="21600">
                <a:moveTo>
                  <a:pt x="20854" y="14745"/>
                </a:moveTo>
                <a:arcTo wR="10800" hR="10800" stAng="1285587" swAng="2830494"/>
              </a:path>
            </a:pathLst>
          </a:custGeom>
          <a:noFill/>
          <a:ln cap="rnd" w="38160">
            <a:solidFill>
              <a:srgbClr val="33cccc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91040" y="2955240"/>
            <a:ext cx="1086120" cy="68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40" y="18972"/>
                </a:moveTo>
                <a:arcTo wR="10800" hR="10800" stAng="7849485" swAng="6919404"/>
                <a:lnTo>
                  <a:pt x="10800" y="10800"/>
                </a:lnTo>
                <a:close/>
              </a:path>
              <a:path fill="none" w="21600" h="21600">
                <a:moveTo>
                  <a:pt x="3740" y="18972"/>
                </a:moveTo>
                <a:arcTo wR="10800" hR="10800" stAng="7849485" swAng="6919404"/>
              </a:path>
            </a:pathLst>
          </a:custGeom>
          <a:noFill/>
          <a:ln cap="rnd" w="38160">
            <a:solidFill>
              <a:srgbClr val="33cc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27320" y="4302720"/>
            <a:ext cx="388800" cy="246960"/>
            <a:chOff x="4027320" y="4302720"/>
            <a:chExt cx="388800" cy="246960"/>
          </a:xfrm>
        </p:grpSpPr>
        <p:sp>
          <p:nvSpPr>
            <p:cNvPr id="304" name=""/>
            <p:cNvSpPr/>
            <p:nvPr/>
          </p:nvSpPr>
          <p:spPr>
            <a:xfrm flipH="1" flipV="1">
              <a:off x="4163400" y="4377600"/>
              <a:ext cx="252720" cy="172080"/>
            </a:xfrm>
            <a:custGeom>
              <a:avLst/>
              <a:gdLst/>
              <a:ahLst/>
              <a:rect l="l" t="t" r="r" b="b"/>
              <a:pathLst>
                <a:path w="143" h="78">
                  <a:moveTo>
                    <a:pt x="7" y="0"/>
                  </a:moveTo>
                  <a:lnTo>
                    <a:pt x="0" y="16"/>
                  </a:lnTo>
                  <a:lnTo>
                    <a:pt x="135" y="77"/>
                  </a:lnTo>
                  <a:lnTo>
                    <a:pt x="142" y="61"/>
                  </a:lnTo>
                  <a:lnTo>
                    <a:pt x="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026960" y="4302360"/>
              <a:ext cx="183960" cy="18756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0" y="84"/>
                  </a:moveTo>
                  <a:lnTo>
                    <a:pt x="103" y="81"/>
                  </a:lnTo>
                  <a:lnTo>
                    <a:pt x="39" y="0"/>
                  </a:lnTo>
                  <a:lnTo>
                    <a:pt x="0" y="8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098960" y="4043160"/>
            <a:ext cx="534960" cy="369000"/>
            <a:chOff x="4098960" y="4043160"/>
            <a:chExt cx="534960" cy="369000"/>
          </a:xfrm>
        </p:grpSpPr>
        <p:sp>
          <p:nvSpPr>
            <p:cNvPr id="307" name=""/>
            <p:cNvSpPr/>
            <p:nvPr/>
          </p:nvSpPr>
          <p:spPr>
            <a:xfrm rot="10480800">
              <a:off x="4111560" y="4060080"/>
              <a:ext cx="378720" cy="287640"/>
            </a:xfrm>
            <a:custGeom>
              <a:avLst/>
              <a:gdLst/>
              <a:ahLst/>
              <a:rect l="l" t="t" r="r" b="b"/>
              <a:pathLst>
                <a:path w="235" h="124">
                  <a:moveTo>
                    <a:pt x="8" y="0"/>
                  </a:moveTo>
                  <a:lnTo>
                    <a:pt x="0" y="16"/>
                  </a:lnTo>
                  <a:lnTo>
                    <a:pt x="226" y="123"/>
                  </a:lnTo>
                  <a:lnTo>
                    <a:pt x="234" y="107"/>
                  </a:lnTo>
                  <a:lnTo>
                    <a:pt x="8" y="0"/>
                  </a:lnTo>
                </a:path>
              </a:pathLst>
            </a:cu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0480800">
              <a:off x="4457160" y="4209480"/>
              <a:ext cx="167760" cy="19512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103" y="0"/>
                  </a:moveTo>
                  <a:lnTo>
                    <a:pt x="0" y="2"/>
                  </a:lnTo>
                  <a:lnTo>
                    <a:pt x="63" y="83"/>
                  </a:lnTo>
                  <a:lnTo>
                    <a:pt x="103" y="0"/>
                  </a:lnTo>
                </a:path>
              </a:pathLst>
            </a:cu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7599240" y="4648320"/>
            <a:ext cx="622080" cy="493200"/>
            <a:chOff x="7599240" y="4648320"/>
            <a:chExt cx="622080" cy="493200"/>
          </a:xfrm>
        </p:grpSpPr>
        <p:sp>
          <p:nvSpPr>
            <p:cNvPr id="310" name=""/>
            <p:cNvSpPr/>
            <p:nvPr/>
          </p:nvSpPr>
          <p:spPr>
            <a:xfrm>
              <a:off x="8147160" y="4648320"/>
              <a:ext cx="74160" cy="493200"/>
            </a:xfrm>
            <a:custGeom>
              <a:avLst/>
              <a:gdLst/>
              <a:ahLst/>
              <a:rect l="l" t="t" r="r" b="b"/>
              <a:pathLst>
                <a:path w="39" h="183">
                  <a:moveTo>
                    <a:pt x="0" y="182"/>
                  </a:moveTo>
                  <a:lnTo>
                    <a:pt x="0" y="38"/>
                  </a:lnTo>
                  <a:lnTo>
                    <a:pt x="38" y="0"/>
                  </a:lnTo>
                  <a:lnTo>
                    <a:pt x="38" y="137"/>
                  </a:lnTo>
                  <a:lnTo>
                    <a:pt x="0" y="182"/>
                  </a:lnTo>
                </a:path>
              </a:pathLst>
            </a:custGeom>
            <a:solidFill>
              <a:srgbClr val="802d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99240" y="4648320"/>
              <a:ext cx="622080" cy="105120"/>
            </a:xfrm>
            <a:custGeom>
              <a:avLst/>
              <a:gdLst/>
              <a:ahLst/>
              <a:rect l="l" t="t" r="r" b="b"/>
              <a:pathLst>
                <a:path w="327" h="39">
                  <a:moveTo>
                    <a:pt x="288" y="38"/>
                  </a:moveTo>
                  <a:lnTo>
                    <a:pt x="0" y="38"/>
                  </a:lnTo>
                  <a:lnTo>
                    <a:pt x="52" y="0"/>
                  </a:lnTo>
                  <a:lnTo>
                    <a:pt x="326" y="0"/>
                  </a:lnTo>
                  <a:lnTo>
                    <a:pt x="288" y="38"/>
                  </a:lnTo>
                </a:path>
              </a:pathLst>
            </a:custGeom>
            <a:solidFill>
              <a:srgbClr val="561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99240" y="4750200"/>
              <a:ext cx="547920" cy="388080"/>
            </a:xfrm>
            <a:prstGeom prst="rect">
              <a:avLst/>
            </a:prstGeom>
            <a:solidFill>
              <a:srgbClr val="6f2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676640" y="479592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Times New Roman"/>
              </a:rPr>
              <a:t>DX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flipH="1" flipV="1">
            <a:off x="5146200" y="3158640"/>
            <a:ext cx="692280" cy="11772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8880" y="944640"/>
            <a:ext cx="7594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des com Vários Comprimentos de 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ós Óptico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versão Opto-Elétr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= solução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WD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a. Geração =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9800" y="3610080"/>
            <a:ext cx="3551400" cy="1590480"/>
          </a:xfrm>
          <a:custGeom>
            <a:avLst/>
            <a:gdLst/>
            <a:ahLst/>
            <a:rect l="l" t="t" r="r" b="b"/>
            <a:pathLst>
              <a:path w="2237" h="679">
                <a:moveTo>
                  <a:pt x="1071" y="153"/>
                </a:moveTo>
                <a:lnTo>
                  <a:pt x="957" y="183"/>
                </a:lnTo>
                <a:lnTo>
                  <a:pt x="901" y="198"/>
                </a:lnTo>
                <a:lnTo>
                  <a:pt x="847" y="214"/>
                </a:lnTo>
                <a:lnTo>
                  <a:pt x="793" y="229"/>
                </a:lnTo>
                <a:lnTo>
                  <a:pt x="741" y="245"/>
                </a:lnTo>
                <a:lnTo>
                  <a:pt x="690" y="261"/>
                </a:lnTo>
                <a:lnTo>
                  <a:pt x="640" y="278"/>
                </a:lnTo>
                <a:lnTo>
                  <a:pt x="591" y="294"/>
                </a:lnTo>
                <a:lnTo>
                  <a:pt x="544" y="310"/>
                </a:lnTo>
                <a:lnTo>
                  <a:pt x="499" y="327"/>
                </a:lnTo>
                <a:lnTo>
                  <a:pt x="454" y="343"/>
                </a:lnTo>
                <a:lnTo>
                  <a:pt x="412" y="359"/>
                </a:lnTo>
                <a:lnTo>
                  <a:pt x="371" y="375"/>
                </a:lnTo>
                <a:lnTo>
                  <a:pt x="332" y="391"/>
                </a:lnTo>
                <a:lnTo>
                  <a:pt x="295" y="407"/>
                </a:lnTo>
                <a:lnTo>
                  <a:pt x="260" y="423"/>
                </a:lnTo>
                <a:lnTo>
                  <a:pt x="226" y="439"/>
                </a:lnTo>
                <a:lnTo>
                  <a:pt x="195" y="454"/>
                </a:lnTo>
                <a:lnTo>
                  <a:pt x="165" y="470"/>
                </a:lnTo>
                <a:lnTo>
                  <a:pt x="138" y="484"/>
                </a:lnTo>
                <a:lnTo>
                  <a:pt x="113" y="499"/>
                </a:lnTo>
                <a:lnTo>
                  <a:pt x="91" y="513"/>
                </a:lnTo>
                <a:lnTo>
                  <a:pt x="70" y="527"/>
                </a:lnTo>
                <a:lnTo>
                  <a:pt x="53" y="541"/>
                </a:lnTo>
                <a:lnTo>
                  <a:pt x="37" y="554"/>
                </a:lnTo>
                <a:lnTo>
                  <a:pt x="24" y="567"/>
                </a:lnTo>
                <a:lnTo>
                  <a:pt x="14" y="579"/>
                </a:lnTo>
                <a:lnTo>
                  <a:pt x="7" y="590"/>
                </a:lnTo>
                <a:lnTo>
                  <a:pt x="2" y="602"/>
                </a:lnTo>
                <a:lnTo>
                  <a:pt x="0" y="612"/>
                </a:lnTo>
                <a:lnTo>
                  <a:pt x="1" y="622"/>
                </a:lnTo>
                <a:lnTo>
                  <a:pt x="5" y="631"/>
                </a:lnTo>
                <a:lnTo>
                  <a:pt x="12" y="640"/>
                </a:lnTo>
                <a:lnTo>
                  <a:pt x="21" y="647"/>
                </a:lnTo>
                <a:lnTo>
                  <a:pt x="33" y="654"/>
                </a:lnTo>
                <a:lnTo>
                  <a:pt x="48" y="660"/>
                </a:lnTo>
                <a:lnTo>
                  <a:pt x="65" y="665"/>
                </a:lnTo>
                <a:lnTo>
                  <a:pt x="85" y="669"/>
                </a:lnTo>
                <a:lnTo>
                  <a:pt x="107" y="672"/>
                </a:lnTo>
                <a:lnTo>
                  <a:pt x="132" y="675"/>
                </a:lnTo>
                <a:lnTo>
                  <a:pt x="158" y="677"/>
                </a:lnTo>
                <a:lnTo>
                  <a:pt x="187" y="678"/>
                </a:lnTo>
                <a:lnTo>
                  <a:pt x="218" y="678"/>
                </a:lnTo>
                <a:lnTo>
                  <a:pt x="251" y="677"/>
                </a:lnTo>
                <a:lnTo>
                  <a:pt x="286" y="676"/>
                </a:lnTo>
                <a:lnTo>
                  <a:pt x="323" y="674"/>
                </a:lnTo>
                <a:lnTo>
                  <a:pt x="361" y="671"/>
                </a:lnTo>
                <a:lnTo>
                  <a:pt x="402" y="667"/>
                </a:lnTo>
                <a:lnTo>
                  <a:pt x="444" y="663"/>
                </a:lnTo>
                <a:lnTo>
                  <a:pt x="487" y="658"/>
                </a:lnTo>
                <a:lnTo>
                  <a:pt x="532" y="652"/>
                </a:lnTo>
                <a:lnTo>
                  <a:pt x="579" y="645"/>
                </a:lnTo>
                <a:lnTo>
                  <a:pt x="627" y="638"/>
                </a:lnTo>
                <a:lnTo>
                  <a:pt x="676" y="630"/>
                </a:lnTo>
                <a:lnTo>
                  <a:pt x="727" y="621"/>
                </a:lnTo>
                <a:lnTo>
                  <a:pt x="778" y="611"/>
                </a:lnTo>
                <a:lnTo>
                  <a:pt x="831" y="601"/>
                </a:lnTo>
                <a:lnTo>
                  <a:pt x="884" y="590"/>
                </a:lnTo>
                <a:lnTo>
                  <a:pt x="939" y="579"/>
                </a:lnTo>
                <a:lnTo>
                  <a:pt x="1051" y="553"/>
                </a:lnTo>
                <a:lnTo>
                  <a:pt x="1165" y="525"/>
                </a:lnTo>
                <a:lnTo>
                  <a:pt x="1279" y="495"/>
                </a:lnTo>
                <a:lnTo>
                  <a:pt x="1335" y="480"/>
                </a:lnTo>
                <a:lnTo>
                  <a:pt x="1389" y="464"/>
                </a:lnTo>
                <a:lnTo>
                  <a:pt x="1443" y="449"/>
                </a:lnTo>
                <a:lnTo>
                  <a:pt x="1495" y="433"/>
                </a:lnTo>
                <a:lnTo>
                  <a:pt x="1546" y="417"/>
                </a:lnTo>
                <a:lnTo>
                  <a:pt x="1596" y="400"/>
                </a:lnTo>
                <a:lnTo>
                  <a:pt x="1645" y="384"/>
                </a:lnTo>
                <a:lnTo>
                  <a:pt x="1692" y="368"/>
                </a:lnTo>
                <a:lnTo>
                  <a:pt x="1737" y="352"/>
                </a:lnTo>
                <a:lnTo>
                  <a:pt x="1782" y="335"/>
                </a:lnTo>
                <a:lnTo>
                  <a:pt x="1824" y="319"/>
                </a:lnTo>
                <a:lnTo>
                  <a:pt x="1865" y="303"/>
                </a:lnTo>
                <a:lnTo>
                  <a:pt x="1904" y="287"/>
                </a:lnTo>
                <a:lnTo>
                  <a:pt x="1941" y="271"/>
                </a:lnTo>
                <a:lnTo>
                  <a:pt x="1977" y="255"/>
                </a:lnTo>
                <a:lnTo>
                  <a:pt x="2010" y="239"/>
                </a:lnTo>
                <a:lnTo>
                  <a:pt x="2041" y="224"/>
                </a:lnTo>
                <a:lnTo>
                  <a:pt x="2071" y="209"/>
                </a:lnTo>
                <a:lnTo>
                  <a:pt x="2098" y="194"/>
                </a:lnTo>
                <a:lnTo>
                  <a:pt x="2123" y="179"/>
                </a:lnTo>
                <a:lnTo>
                  <a:pt x="2145" y="165"/>
                </a:lnTo>
                <a:lnTo>
                  <a:pt x="2166" y="151"/>
                </a:lnTo>
                <a:lnTo>
                  <a:pt x="2183" y="137"/>
                </a:lnTo>
                <a:lnTo>
                  <a:pt x="2199" y="124"/>
                </a:lnTo>
                <a:lnTo>
                  <a:pt x="2212" y="112"/>
                </a:lnTo>
                <a:lnTo>
                  <a:pt x="2222" y="99"/>
                </a:lnTo>
                <a:lnTo>
                  <a:pt x="2229" y="88"/>
                </a:lnTo>
                <a:lnTo>
                  <a:pt x="2234" y="77"/>
                </a:lnTo>
                <a:lnTo>
                  <a:pt x="2236" y="66"/>
                </a:lnTo>
                <a:lnTo>
                  <a:pt x="2235" y="56"/>
                </a:lnTo>
                <a:lnTo>
                  <a:pt x="2231" y="47"/>
                </a:lnTo>
                <a:lnTo>
                  <a:pt x="2224" y="38"/>
                </a:lnTo>
                <a:lnTo>
                  <a:pt x="2215" y="31"/>
                </a:lnTo>
                <a:lnTo>
                  <a:pt x="2203" y="24"/>
                </a:lnTo>
                <a:lnTo>
                  <a:pt x="2188" y="18"/>
                </a:lnTo>
                <a:lnTo>
                  <a:pt x="2171" y="13"/>
                </a:lnTo>
                <a:lnTo>
                  <a:pt x="2151" y="9"/>
                </a:lnTo>
                <a:lnTo>
                  <a:pt x="2129" y="6"/>
                </a:lnTo>
                <a:lnTo>
                  <a:pt x="2105" y="3"/>
                </a:lnTo>
                <a:lnTo>
                  <a:pt x="2078" y="1"/>
                </a:lnTo>
                <a:lnTo>
                  <a:pt x="2049" y="0"/>
                </a:lnTo>
                <a:lnTo>
                  <a:pt x="2018" y="0"/>
                </a:lnTo>
                <a:lnTo>
                  <a:pt x="1985" y="1"/>
                </a:lnTo>
                <a:lnTo>
                  <a:pt x="1950" y="2"/>
                </a:lnTo>
                <a:lnTo>
                  <a:pt x="1913" y="4"/>
                </a:lnTo>
                <a:lnTo>
                  <a:pt x="1875" y="7"/>
                </a:lnTo>
                <a:lnTo>
                  <a:pt x="1834" y="11"/>
                </a:lnTo>
                <a:lnTo>
                  <a:pt x="1792" y="15"/>
                </a:lnTo>
                <a:lnTo>
                  <a:pt x="1749" y="20"/>
                </a:lnTo>
                <a:lnTo>
                  <a:pt x="1704" y="26"/>
                </a:lnTo>
                <a:lnTo>
                  <a:pt x="1657" y="33"/>
                </a:lnTo>
                <a:lnTo>
                  <a:pt x="1609" y="40"/>
                </a:lnTo>
                <a:lnTo>
                  <a:pt x="1560" y="48"/>
                </a:lnTo>
                <a:lnTo>
                  <a:pt x="1510" y="57"/>
                </a:lnTo>
                <a:lnTo>
                  <a:pt x="1458" y="67"/>
                </a:lnTo>
                <a:lnTo>
                  <a:pt x="1405" y="77"/>
                </a:lnTo>
                <a:lnTo>
                  <a:pt x="1352" y="88"/>
                </a:lnTo>
                <a:lnTo>
                  <a:pt x="1297" y="100"/>
                </a:lnTo>
                <a:lnTo>
                  <a:pt x="1185" y="125"/>
                </a:lnTo>
                <a:lnTo>
                  <a:pt x="1071" y="153"/>
                </a:lnTo>
              </a:path>
            </a:pathLst>
          </a:custGeom>
          <a:noFill/>
          <a:ln cap="rnd" w="25560">
            <a:solidFill>
              <a:srgbClr val="0029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3502080"/>
            <a:ext cx="3576600" cy="747720"/>
          </a:xfrm>
          <a:prstGeom prst="ellipse">
            <a:avLst/>
          </a:prstGeom>
          <a:noFill/>
          <a:ln w="25560">
            <a:solidFill>
              <a:srgbClr val="002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699000" y="3924360"/>
            <a:ext cx="532800" cy="251640"/>
            <a:chOff x="3699000" y="3924360"/>
            <a:chExt cx="532800" cy="251640"/>
          </a:xfrm>
        </p:grpSpPr>
        <p:sp>
          <p:nvSpPr>
            <p:cNvPr id="320" name=""/>
            <p:cNvSpPr/>
            <p:nvPr/>
          </p:nvSpPr>
          <p:spPr>
            <a:xfrm>
              <a:off x="3699000" y="4010760"/>
              <a:ext cx="396720" cy="165240"/>
            </a:xfrm>
            <a:custGeom>
              <a:avLst/>
              <a:gdLst/>
              <a:ahLst/>
              <a:rect l="l" t="t" r="r" b="b"/>
              <a:pathLst>
                <a:path w="250" h="71">
                  <a:moveTo>
                    <a:pt x="0" y="53"/>
                  </a:moveTo>
                  <a:lnTo>
                    <a:pt x="4" y="70"/>
                  </a:lnTo>
                  <a:lnTo>
                    <a:pt x="249" y="17"/>
                  </a:lnTo>
                  <a:lnTo>
                    <a:pt x="245" y="0"/>
                  </a:lnTo>
                  <a:lnTo>
                    <a:pt x="0" y="53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71600" y="3924360"/>
              <a:ext cx="160200" cy="214560"/>
            </a:xfrm>
            <a:custGeom>
              <a:avLst/>
              <a:gdLst/>
              <a:ahLst/>
              <a:rect l="l" t="t" r="r" b="b"/>
              <a:pathLst>
                <a:path w="101" h="92">
                  <a:moveTo>
                    <a:pt x="20" y="91"/>
                  </a:moveTo>
                  <a:lnTo>
                    <a:pt x="100" y="25"/>
                  </a:lnTo>
                  <a:lnTo>
                    <a:pt x="0" y="0"/>
                  </a:lnTo>
                  <a:lnTo>
                    <a:pt x="20" y="9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2357280" y="3352680"/>
            <a:ext cx="538200" cy="220320"/>
            <a:chOff x="2357280" y="3352680"/>
            <a:chExt cx="538200" cy="220320"/>
          </a:xfrm>
        </p:grpSpPr>
        <p:sp>
          <p:nvSpPr>
            <p:cNvPr id="323" name=""/>
            <p:cNvSpPr/>
            <p:nvPr/>
          </p:nvSpPr>
          <p:spPr>
            <a:xfrm>
              <a:off x="2502000" y="3443760"/>
              <a:ext cx="393480" cy="37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d05e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57280" y="335268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87240" y="3886200"/>
            <a:ext cx="314280" cy="210600"/>
            <a:chOff x="687240" y="3886200"/>
            <a:chExt cx="314280" cy="210600"/>
          </a:xfrm>
        </p:grpSpPr>
        <p:sp>
          <p:nvSpPr>
            <p:cNvPr id="326" name=""/>
            <p:cNvSpPr/>
            <p:nvPr/>
          </p:nvSpPr>
          <p:spPr>
            <a:xfrm>
              <a:off x="687240" y="3890880"/>
              <a:ext cx="182520" cy="122040"/>
            </a:xfrm>
            <a:custGeom>
              <a:avLst/>
              <a:gdLst/>
              <a:ahLst/>
              <a:rect l="l" t="t" r="r" b="b"/>
              <a:pathLst>
                <a:path w="115" h="52">
                  <a:moveTo>
                    <a:pt x="5" y="0"/>
                  </a:moveTo>
                  <a:lnTo>
                    <a:pt x="0" y="17"/>
                  </a:lnTo>
                  <a:lnTo>
                    <a:pt x="109" y="51"/>
                  </a:lnTo>
                  <a:lnTo>
                    <a:pt x="114" y="34"/>
                  </a:lnTo>
                  <a:lnTo>
                    <a:pt x="5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38080" y="3886200"/>
              <a:ext cx="163440" cy="21060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102" y="71"/>
                  </a:lnTo>
                  <a:lnTo>
                    <a:pt x="28" y="0"/>
                  </a:lnTo>
                  <a:lnTo>
                    <a:pt x="0" y="89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038480" y="5189400"/>
            <a:ext cx="3576600" cy="677880"/>
          </a:xfrm>
          <a:prstGeom prst="ellipse">
            <a:avLst/>
          </a:prstGeom>
          <a:noFill/>
          <a:ln w="25560">
            <a:solidFill>
              <a:srgbClr val="002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47440" y="5618520"/>
            <a:ext cx="552960" cy="233280"/>
            <a:chOff x="6247440" y="5618520"/>
            <a:chExt cx="552960" cy="233280"/>
          </a:xfrm>
        </p:grpSpPr>
        <p:sp>
          <p:nvSpPr>
            <p:cNvPr id="330" name=""/>
            <p:cNvSpPr/>
            <p:nvPr/>
          </p:nvSpPr>
          <p:spPr>
            <a:xfrm rot="21274200">
              <a:off x="6248520" y="5736960"/>
              <a:ext cx="398520" cy="42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21274200">
              <a:off x="6642720" y="562500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327640" y="5105520"/>
            <a:ext cx="539640" cy="220320"/>
            <a:chOff x="5327640" y="5105520"/>
            <a:chExt cx="539640" cy="220320"/>
          </a:xfrm>
        </p:grpSpPr>
        <p:sp>
          <p:nvSpPr>
            <p:cNvPr id="333" name=""/>
            <p:cNvSpPr/>
            <p:nvPr/>
          </p:nvSpPr>
          <p:spPr>
            <a:xfrm>
              <a:off x="5470560" y="5194440"/>
              <a:ext cx="396720" cy="42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27640" y="510552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083120" y="5491080"/>
            <a:ext cx="380160" cy="214200"/>
            <a:chOff x="4083120" y="5491080"/>
            <a:chExt cx="380160" cy="214200"/>
          </a:xfrm>
        </p:grpSpPr>
        <p:sp>
          <p:nvSpPr>
            <p:cNvPr id="336" name=""/>
            <p:cNvSpPr/>
            <p:nvPr/>
          </p:nvSpPr>
          <p:spPr>
            <a:xfrm>
              <a:off x="4083120" y="5491080"/>
              <a:ext cx="223200" cy="130320"/>
            </a:xfrm>
            <a:custGeom>
              <a:avLst/>
              <a:gdLst/>
              <a:ahLst/>
              <a:rect l="l" t="t" r="r" b="b"/>
              <a:pathLst>
                <a:path w="115" h="56">
                  <a:moveTo>
                    <a:pt x="6" y="0"/>
                  </a:moveTo>
                  <a:lnTo>
                    <a:pt x="0" y="16"/>
                  </a:lnTo>
                  <a:lnTo>
                    <a:pt x="108" y="55"/>
                  </a:lnTo>
                  <a:lnTo>
                    <a:pt x="114" y="39"/>
                  </a:lnTo>
                  <a:lnTo>
                    <a:pt x="6" y="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61320" y="5500440"/>
              <a:ext cx="201960" cy="204840"/>
            </a:xfrm>
            <a:custGeom>
              <a:avLst/>
              <a:gdLst/>
              <a:ahLst/>
              <a:rect l="l" t="t" r="r" b="b"/>
              <a:pathLst>
                <a:path w="104" h="88">
                  <a:moveTo>
                    <a:pt x="0" y="87"/>
                  </a:moveTo>
                  <a:lnTo>
                    <a:pt x="103" y="74"/>
                  </a:lnTo>
                  <a:lnTo>
                    <a:pt x="32" y="0"/>
                  </a:lnTo>
                  <a:lnTo>
                    <a:pt x="0" y="87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392880" y="5037120"/>
            <a:ext cx="541440" cy="220320"/>
            <a:chOff x="6392880" y="5037120"/>
            <a:chExt cx="541440" cy="220320"/>
          </a:xfrm>
        </p:grpSpPr>
        <p:sp>
          <p:nvSpPr>
            <p:cNvPr id="339" name=""/>
            <p:cNvSpPr/>
            <p:nvPr/>
          </p:nvSpPr>
          <p:spPr>
            <a:xfrm flipH="1">
              <a:off x="6392520" y="5126040"/>
              <a:ext cx="398520" cy="42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6786720" y="503712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fcc66"/>
            </a:solidFill>
            <a:ln cap="rnd"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3290760" y="4214880"/>
            <a:ext cx="1665360" cy="1055520"/>
          </a:xfrm>
          <a:custGeom>
            <a:avLst/>
            <a:gdLst/>
            <a:ahLst/>
            <a:rect l="l" t="t" r="r" b="b"/>
            <a:pathLst>
              <a:path w="1049" h="451">
                <a:moveTo>
                  <a:pt x="571" y="89"/>
                </a:moveTo>
                <a:lnTo>
                  <a:pt x="517" y="71"/>
                </a:lnTo>
                <a:lnTo>
                  <a:pt x="465" y="56"/>
                </a:lnTo>
                <a:lnTo>
                  <a:pt x="413" y="42"/>
                </a:lnTo>
                <a:lnTo>
                  <a:pt x="364" y="30"/>
                </a:lnTo>
                <a:lnTo>
                  <a:pt x="316" y="20"/>
                </a:lnTo>
                <a:lnTo>
                  <a:pt x="271" y="12"/>
                </a:lnTo>
                <a:lnTo>
                  <a:pt x="228" y="6"/>
                </a:lnTo>
                <a:lnTo>
                  <a:pt x="188" y="2"/>
                </a:lnTo>
                <a:lnTo>
                  <a:pt x="151" y="0"/>
                </a:lnTo>
                <a:lnTo>
                  <a:pt x="117" y="1"/>
                </a:lnTo>
                <a:lnTo>
                  <a:pt x="87" y="3"/>
                </a:lnTo>
                <a:lnTo>
                  <a:pt x="74" y="5"/>
                </a:lnTo>
                <a:lnTo>
                  <a:pt x="61" y="7"/>
                </a:lnTo>
                <a:lnTo>
                  <a:pt x="50" y="10"/>
                </a:lnTo>
                <a:lnTo>
                  <a:pt x="39" y="14"/>
                </a:lnTo>
                <a:lnTo>
                  <a:pt x="30" y="18"/>
                </a:lnTo>
                <a:lnTo>
                  <a:pt x="22" y="22"/>
                </a:lnTo>
                <a:lnTo>
                  <a:pt x="15" y="27"/>
                </a:lnTo>
                <a:lnTo>
                  <a:pt x="10" y="33"/>
                </a:lnTo>
                <a:lnTo>
                  <a:pt x="5" y="39"/>
                </a:lnTo>
                <a:lnTo>
                  <a:pt x="2" y="46"/>
                </a:lnTo>
                <a:lnTo>
                  <a:pt x="0" y="53"/>
                </a:lnTo>
                <a:lnTo>
                  <a:pt x="0" y="61"/>
                </a:lnTo>
                <a:lnTo>
                  <a:pt x="1" y="69"/>
                </a:lnTo>
                <a:lnTo>
                  <a:pt x="3" y="77"/>
                </a:lnTo>
                <a:lnTo>
                  <a:pt x="7" y="86"/>
                </a:lnTo>
                <a:lnTo>
                  <a:pt x="12" y="94"/>
                </a:lnTo>
                <a:lnTo>
                  <a:pt x="18" y="104"/>
                </a:lnTo>
                <a:lnTo>
                  <a:pt x="25" y="113"/>
                </a:lnTo>
                <a:lnTo>
                  <a:pt x="33" y="123"/>
                </a:lnTo>
                <a:lnTo>
                  <a:pt x="43" y="132"/>
                </a:lnTo>
                <a:lnTo>
                  <a:pt x="53" y="142"/>
                </a:lnTo>
                <a:lnTo>
                  <a:pt x="65" y="153"/>
                </a:lnTo>
                <a:lnTo>
                  <a:pt x="78" y="163"/>
                </a:lnTo>
                <a:lnTo>
                  <a:pt x="91" y="173"/>
                </a:lnTo>
                <a:lnTo>
                  <a:pt x="122" y="195"/>
                </a:lnTo>
                <a:lnTo>
                  <a:pt x="156" y="216"/>
                </a:lnTo>
                <a:lnTo>
                  <a:pt x="193" y="238"/>
                </a:lnTo>
                <a:lnTo>
                  <a:pt x="234" y="259"/>
                </a:lnTo>
                <a:lnTo>
                  <a:pt x="278" y="281"/>
                </a:lnTo>
                <a:lnTo>
                  <a:pt x="324" y="302"/>
                </a:lnTo>
                <a:lnTo>
                  <a:pt x="373" y="322"/>
                </a:lnTo>
                <a:lnTo>
                  <a:pt x="424" y="342"/>
                </a:lnTo>
                <a:lnTo>
                  <a:pt x="477" y="361"/>
                </a:lnTo>
                <a:lnTo>
                  <a:pt x="531" y="379"/>
                </a:lnTo>
                <a:lnTo>
                  <a:pt x="583" y="394"/>
                </a:lnTo>
                <a:lnTo>
                  <a:pt x="635" y="408"/>
                </a:lnTo>
                <a:lnTo>
                  <a:pt x="684" y="420"/>
                </a:lnTo>
                <a:lnTo>
                  <a:pt x="732" y="430"/>
                </a:lnTo>
                <a:lnTo>
                  <a:pt x="777" y="438"/>
                </a:lnTo>
                <a:lnTo>
                  <a:pt x="820" y="444"/>
                </a:lnTo>
                <a:lnTo>
                  <a:pt x="860" y="448"/>
                </a:lnTo>
                <a:lnTo>
                  <a:pt x="897" y="450"/>
                </a:lnTo>
                <a:lnTo>
                  <a:pt x="931" y="449"/>
                </a:lnTo>
                <a:lnTo>
                  <a:pt x="961" y="447"/>
                </a:lnTo>
                <a:lnTo>
                  <a:pt x="974" y="445"/>
                </a:lnTo>
                <a:lnTo>
                  <a:pt x="987" y="443"/>
                </a:lnTo>
                <a:lnTo>
                  <a:pt x="998" y="440"/>
                </a:lnTo>
                <a:lnTo>
                  <a:pt x="1009" y="436"/>
                </a:lnTo>
                <a:lnTo>
                  <a:pt x="1018" y="432"/>
                </a:lnTo>
                <a:lnTo>
                  <a:pt x="1026" y="428"/>
                </a:lnTo>
                <a:lnTo>
                  <a:pt x="1033" y="423"/>
                </a:lnTo>
                <a:lnTo>
                  <a:pt x="1039" y="417"/>
                </a:lnTo>
                <a:lnTo>
                  <a:pt x="1043" y="411"/>
                </a:lnTo>
                <a:lnTo>
                  <a:pt x="1046" y="404"/>
                </a:lnTo>
                <a:lnTo>
                  <a:pt x="1048" y="397"/>
                </a:lnTo>
                <a:lnTo>
                  <a:pt x="1048" y="389"/>
                </a:lnTo>
                <a:lnTo>
                  <a:pt x="1047" y="381"/>
                </a:lnTo>
                <a:lnTo>
                  <a:pt x="1045" y="373"/>
                </a:lnTo>
                <a:lnTo>
                  <a:pt x="1041" y="364"/>
                </a:lnTo>
                <a:lnTo>
                  <a:pt x="1037" y="356"/>
                </a:lnTo>
                <a:lnTo>
                  <a:pt x="1031" y="346"/>
                </a:lnTo>
                <a:lnTo>
                  <a:pt x="1023" y="337"/>
                </a:lnTo>
                <a:lnTo>
                  <a:pt x="1015" y="327"/>
                </a:lnTo>
                <a:lnTo>
                  <a:pt x="1005" y="318"/>
                </a:lnTo>
                <a:lnTo>
                  <a:pt x="995" y="308"/>
                </a:lnTo>
                <a:lnTo>
                  <a:pt x="983" y="298"/>
                </a:lnTo>
                <a:lnTo>
                  <a:pt x="970" y="287"/>
                </a:lnTo>
                <a:lnTo>
                  <a:pt x="957" y="277"/>
                </a:lnTo>
                <a:lnTo>
                  <a:pt x="926" y="256"/>
                </a:lnTo>
                <a:lnTo>
                  <a:pt x="892" y="234"/>
                </a:lnTo>
                <a:lnTo>
                  <a:pt x="855" y="212"/>
                </a:lnTo>
                <a:lnTo>
                  <a:pt x="814" y="191"/>
                </a:lnTo>
                <a:lnTo>
                  <a:pt x="770" y="169"/>
                </a:lnTo>
                <a:lnTo>
                  <a:pt x="724" y="148"/>
                </a:lnTo>
                <a:lnTo>
                  <a:pt x="675" y="128"/>
                </a:lnTo>
                <a:lnTo>
                  <a:pt x="624" y="108"/>
                </a:lnTo>
                <a:lnTo>
                  <a:pt x="571" y="89"/>
                </a:lnTo>
              </a:path>
            </a:pathLst>
          </a:custGeom>
          <a:noFill/>
          <a:ln cap="rnd" w="25560">
            <a:solidFill>
              <a:srgbClr val="0029a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619440" y="4678200"/>
            <a:ext cx="495360" cy="369720"/>
            <a:chOff x="3619440" y="4678200"/>
            <a:chExt cx="495360" cy="369720"/>
          </a:xfrm>
        </p:grpSpPr>
        <p:sp>
          <p:nvSpPr>
            <p:cNvPr id="343" name=""/>
            <p:cNvSpPr/>
            <p:nvPr/>
          </p:nvSpPr>
          <p:spPr>
            <a:xfrm>
              <a:off x="3741840" y="4757760"/>
              <a:ext cx="372960" cy="290160"/>
            </a:xfrm>
            <a:custGeom>
              <a:avLst/>
              <a:gdLst/>
              <a:ahLst/>
              <a:rect l="l" t="t" r="r" b="b"/>
              <a:pathLst>
                <a:path w="235" h="124">
                  <a:moveTo>
                    <a:pt x="8" y="0"/>
                  </a:moveTo>
                  <a:lnTo>
                    <a:pt x="0" y="16"/>
                  </a:lnTo>
                  <a:lnTo>
                    <a:pt x="226" y="123"/>
                  </a:lnTo>
                  <a:lnTo>
                    <a:pt x="234" y="107"/>
                  </a:lnTo>
                  <a:lnTo>
                    <a:pt x="8" y="0"/>
                  </a:lnTo>
                </a:path>
              </a:pathLst>
            </a:cu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19440" y="4678200"/>
              <a:ext cx="165240" cy="196560"/>
            </a:xfrm>
            <a:custGeom>
              <a:avLst/>
              <a:gdLst/>
              <a:ahLst/>
              <a:rect l="l" t="t" r="r" b="b"/>
              <a:pathLst>
                <a:path w="104" h="84">
                  <a:moveTo>
                    <a:pt x="103" y="0"/>
                  </a:moveTo>
                  <a:lnTo>
                    <a:pt x="0" y="2"/>
                  </a:lnTo>
                  <a:lnTo>
                    <a:pt x="63" y="83"/>
                  </a:lnTo>
                  <a:lnTo>
                    <a:pt x="103" y="0"/>
                  </a:lnTo>
                </a:path>
              </a:pathLst>
            </a:custGeom>
            <a:solidFill>
              <a:srgbClr val="923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209680" y="4083120"/>
            <a:ext cx="536400" cy="221760"/>
            <a:chOff x="2209680" y="4083120"/>
            <a:chExt cx="536400" cy="221760"/>
          </a:xfrm>
        </p:grpSpPr>
        <p:sp>
          <p:nvSpPr>
            <p:cNvPr id="346" name=""/>
            <p:cNvSpPr/>
            <p:nvPr/>
          </p:nvSpPr>
          <p:spPr>
            <a:xfrm>
              <a:off x="2209680" y="4172040"/>
              <a:ext cx="393840" cy="46440"/>
            </a:xfrm>
            <a:custGeom>
              <a:avLst/>
              <a:gdLst/>
              <a:ahLst/>
              <a:rect l="l" t="t" r="r" b="b"/>
              <a:pathLst>
                <a:path w="248" h="20">
                  <a:moveTo>
                    <a:pt x="0" y="1"/>
                  </a:moveTo>
                  <a:lnTo>
                    <a:pt x="0" y="19"/>
                  </a:lnTo>
                  <a:lnTo>
                    <a:pt x="247" y="18"/>
                  </a:lnTo>
                  <a:lnTo>
                    <a:pt x="247" y="0"/>
                  </a:lnTo>
                  <a:lnTo>
                    <a:pt x="0" y="1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8480" y="4083120"/>
              <a:ext cx="147600" cy="22176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94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114800" y="4462560"/>
            <a:ext cx="349200" cy="261360"/>
            <a:chOff x="4114800" y="4462560"/>
            <a:chExt cx="349200" cy="261360"/>
          </a:xfrm>
        </p:grpSpPr>
        <p:sp>
          <p:nvSpPr>
            <p:cNvPr id="349" name=""/>
            <p:cNvSpPr/>
            <p:nvPr/>
          </p:nvSpPr>
          <p:spPr>
            <a:xfrm>
              <a:off x="4114800" y="4462560"/>
              <a:ext cx="227160" cy="181800"/>
            </a:xfrm>
            <a:custGeom>
              <a:avLst/>
              <a:gdLst/>
              <a:ahLst/>
              <a:rect l="l" t="t" r="r" b="b"/>
              <a:pathLst>
                <a:path w="143" h="78">
                  <a:moveTo>
                    <a:pt x="7" y="0"/>
                  </a:moveTo>
                  <a:lnTo>
                    <a:pt x="0" y="16"/>
                  </a:lnTo>
                  <a:lnTo>
                    <a:pt x="135" y="77"/>
                  </a:lnTo>
                  <a:lnTo>
                    <a:pt x="142" y="61"/>
                  </a:lnTo>
                  <a:lnTo>
                    <a:pt x="7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99120" y="4525560"/>
              <a:ext cx="164880" cy="19836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0" y="84"/>
                  </a:moveTo>
                  <a:lnTo>
                    <a:pt x="103" y="81"/>
                  </a:lnTo>
                  <a:lnTo>
                    <a:pt x="39" y="0"/>
                  </a:lnTo>
                  <a:lnTo>
                    <a:pt x="0" y="84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d05e1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403960" y="4352760"/>
            <a:ext cx="462960" cy="280440"/>
            <a:chOff x="5403960" y="4352760"/>
            <a:chExt cx="462960" cy="280440"/>
          </a:xfrm>
        </p:grpSpPr>
        <p:sp>
          <p:nvSpPr>
            <p:cNvPr id="352" name=""/>
            <p:cNvSpPr/>
            <p:nvPr/>
          </p:nvSpPr>
          <p:spPr>
            <a:xfrm>
              <a:off x="5533920" y="4352760"/>
              <a:ext cx="333000" cy="199080"/>
            </a:xfrm>
            <a:custGeom>
              <a:avLst/>
              <a:gdLst/>
              <a:ahLst/>
              <a:rect l="l" t="t" r="r" b="b"/>
              <a:pathLst>
                <a:path w="210" h="85">
                  <a:moveTo>
                    <a:pt x="209" y="17"/>
                  </a:moveTo>
                  <a:lnTo>
                    <a:pt x="203" y="0"/>
                  </a:lnTo>
                  <a:lnTo>
                    <a:pt x="0" y="67"/>
                  </a:lnTo>
                  <a:lnTo>
                    <a:pt x="6" y="84"/>
                  </a:lnTo>
                  <a:lnTo>
                    <a:pt x="209" y="17"/>
                  </a:lnTo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03960" y="4422600"/>
              <a:ext cx="163440" cy="21060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72" y="0"/>
                  </a:moveTo>
                  <a:lnTo>
                    <a:pt x="0" y="74"/>
                  </a:lnTo>
                  <a:lnTo>
                    <a:pt x="102" y="89"/>
                  </a:lnTo>
                  <a:lnTo>
                    <a:pt x="72" y="0"/>
                  </a:lnTo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6400800" y="3886200"/>
            <a:ext cx="533160" cy="304560"/>
            <a:chOff x="6400800" y="3886200"/>
            <a:chExt cx="533160" cy="304560"/>
          </a:xfrm>
        </p:grpSpPr>
        <p:sp>
          <p:nvSpPr>
            <p:cNvPr id="355" name=""/>
            <p:cNvSpPr/>
            <p:nvPr/>
          </p:nvSpPr>
          <p:spPr>
            <a:xfrm>
              <a:off x="6550560" y="3886200"/>
              <a:ext cx="383400" cy="216000"/>
            </a:xfrm>
            <a:custGeom>
              <a:avLst/>
              <a:gdLst/>
              <a:ahLst/>
              <a:rect l="l" t="t" r="r" b="b"/>
              <a:pathLst>
                <a:path w="210" h="85">
                  <a:moveTo>
                    <a:pt x="209" y="17"/>
                  </a:moveTo>
                  <a:lnTo>
                    <a:pt x="203" y="0"/>
                  </a:lnTo>
                  <a:lnTo>
                    <a:pt x="0" y="67"/>
                  </a:lnTo>
                  <a:lnTo>
                    <a:pt x="6" y="84"/>
                  </a:lnTo>
                  <a:lnTo>
                    <a:pt x="209" y="17"/>
                  </a:lnTo>
                </a:path>
              </a:pathLst>
            </a:cu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00800" y="3962160"/>
              <a:ext cx="188280" cy="22860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72" y="0"/>
                  </a:moveTo>
                  <a:lnTo>
                    <a:pt x="0" y="74"/>
                  </a:lnTo>
                  <a:lnTo>
                    <a:pt x="102" y="89"/>
                  </a:lnTo>
                  <a:lnTo>
                    <a:pt x="72" y="0"/>
                  </a:lnTo>
                </a:path>
              </a:pathLst>
            </a:cu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911920" y="3124080"/>
            <a:ext cx="1936800" cy="609840"/>
          </a:xfrm>
          <a:prstGeom prst="ellipse">
            <a:avLst/>
          </a:prstGeom>
          <a:noFill/>
          <a:ln w="25560">
            <a:solidFill>
              <a:srgbClr val="0029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332400" y="3521160"/>
            <a:ext cx="468000" cy="145800"/>
            <a:chOff x="6332400" y="3521160"/>
            <a:chExt cx="468000" cy="145800"/>
          </a:xfrm>
        </p:grpSpPr>
        <p:sp>
          <p:nvSpPr>
            <p:cNvPr id="359" name=""/>
            <p:cNvSpPr/>
            <p:nvPr/>
          </p:nvSpPr>
          <p:spPr>
            <a:xfrm>
              <a:off x="6507720" y="3579840"/>
              <a:ext cx="292680" cy="27720"/>
            </a:xfrm>
            <a:prstGeom prst="rect">
              <a:avLst/>
            </a:pr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2400" y="3521160"/>
              <a:ext cx="181440" cy="14580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13c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13120" y="5784120"/>
            <a:ext cx="552960" cy="236160"/>
            <a:chOff x="4713120" y="5784120"/>
            <a:chExt cx="552960" cy="236160"/>
          </a:xfrm>
        </p:grpSpPr>
        <p:sp>
          <p:nvSpPr>
            <p:cNvPr id="362" name=""/>
            <p:cNvSpPr/>
            <p:nvPr/>
          </p:nvSpPr>
          <p:spPr>
            <a:xfrm rot="402600">
              <a:off x="4866480" y="5912280"/>
              <a:ext cx="398520" cy="42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402600">
              <a:off x="4725360" y="579168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fcc66"/>
            </a:solidFill>
            <a:ln cap="rnd"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713640" y="3200400"/>
            <a:ext cx="525240" cy="0"/>
          </a:xfrm>
          <a:prstGeom prst="line">
            <a:avLst/>
          </a:prstGeom>
          <a:ln w="5724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6927840" y="4420080"/>
            <a:ext cx="463680" cy="280440"/>
            <a:chOff x="6927840" y="4420080"/>
            <a:chExt cx="463680" cy="280440"/>
          </a:xfrm>
        </p:grpSpPr>
        <p:sp>
          <p:nvSpPr>
            <p:cNvPr id="366" name=""/>
            <p:cNvSpPr/>
            <p:nvPr/>
          </p:nvSpPr>
          <p:spPr>
            <a:xfrm flipH="1" flipV="1">
              <a:off x="6927840" y="4501800"/>
              <a:ext cx="333360" cy="198720"/>
            </a:xfrm>
            <a:custGeom>
              <a:avLst/>
              <a:gdLst/>
              <a:ahLst/>
              <a:rect l="l" t="t" r="r" b="b"/>
              <a:pathLst>
                <a:path w="210" h="85">
                  <a:moveTo>
                    <a:pt x="209" y="17"/>
                  </a:moveTo>
                  <a:lnTo>
                    <a:pt x="203" y="0"/>
                  </a:lnTo>
                  <a:lnTo>
                    <a:pt x="0" y="67"/>
                  </a:lnTo>
                  <a:lnTo>
                    <a:pt x="6" y="84"/>
                  </a:lnTo>
                  <a:lnTo>
                    <a:pt x="209" y="17"/>
                  </a:lnTo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flipV="1">
              <a:off x="7227360" y="4419720"/>
              <a:ext cx="163800" cy="21060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72" y="0"/>
                  </a:moveTo>
                  <a:lnTo>
                    <a:pt x="0" y="74"/>
                  </a:lnTo>
                  <a:lnTo>
                    <a:pt x="102" y="89"/>
                  </a:lnTo>
                  <a:lnTo>
                    <a:pt x="72" y="0"/>
                  </a:lnTo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V="1">
            <a:off x="7810560" y="3809880"/>
            <a:ext cx="571320" cy="4096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687240" y="3016080"/>
            <a:ext cx="495360" cy="317520"/>
          </a:xfrm>
          <a:prstGeom prst="line">
            <a:avLst/>
          </a:prstGeom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598840" y="4343400"/>
            <a:ext cx="582480" cy="387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5327280" y="3006720"/>
            <a:ext cx="692280" cy="1173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7702560" y="5664240"/>
            <a:ext cx="582480" cy="271440"/>
          </a:xfrm>
          <a:prstGeom prst="line">
            <a:avLst/>
          </a:prstGeom>
          <a:ln w="28440">
            <a:solidFill>
              <a:srgbClr val="00b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5960" y="2849400"/>
            <a:ext cx="492120" cy="16668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871880" y="2886120"/>
            <a:ext cx="492120" cy="16668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82960" y="4699080"/>
            <a:ext cx="663480" cy="28584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28160" y="5867280"/>
            <a:ext cx="645840" cy="25884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883120" y="4800600"/>
            <a:ext cx="667080" cy="2253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6823800" y="5780160"/>
            <a:ext cx="556920" cy="255960"/>
            <a:chOff x="6823800" y="5780160"/>
            <a:chExt cx="556920" cy="255960"/>
          </a:xfrm>
        </p:grpSpPr>
        <p:sp>
          <p:nvSpPr>
            <p:cNvPr id="379" name=""/>
            <p:cNvSpPr/>
            <p:nvPr/>
          </p:nvSpPr>
          <p:spPr>
            <a:xfrm rot="20778000">
              <a:off x="6982920" y="5826600"/>
              <a:ext cx="398520" cy="42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20778000">
              <a:off x="6847560" y="580104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fcc66"/>
            </a:solidFill>
            <a:ln cap="rnd"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665720" y="3484800"/>
            <a:ext cx="552960" cy="233280"/>
            <a:chOff x="1665720" y="3484800"/>
            <a:chExt cx="552960" cy="233280"/>
          </a:xfrm>
        </p:grpSpPr>
        <p:sp>
          <p:nvSpPr>
            <p:cNvPr id="382" name=""/>
            <p:cNvSpPr/>
            <p:nvPr/>
          </p:nvSpPr>
          <p:spPr>
            <a:xfrm rot="21274200">
              <a:off x="1666800" y="3603240"/>
              <a:ext cx="398520" cy="4248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21274200">
              <a:off x="2061000" y="349128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458000" y="4172040"/>
            <a:ext cx="552960" cy="233280"/>
            <a:chOff x="1458000" y="4172040"/>
            <a:chExt cx="552960" cy="233280"/>
          </a:xfrm>
        </p:grpSpPr>
        <p:sp>
          <p:nvSpPr>
            <p:cNvPr id="385" name=""/>
            <p:cNvSpPr/>
            <p:nvPr/>
          </p:nvSpPr>
          <p:spPr>
            <a:xfrm flipH="1" rot="325800">
              <a:off x="1611000" y="4290480"/>
              <a:ext cx="398520" cy="428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rot="325800">
              <a:off x="1468080" y="417852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058200" y="3522240"/>
            <a:ext cx="552960" cy="233280"/>
            <a:chOff x="3058200" y="3522240"/>
            <a:chExt cx="552960" cy="233280"/>
          </a:xfrm>
        </p:grpSpPr>
        <p:sp>
          <p:nvSpPr>
            <p:cNvPr id="388" name=""/>
            <p:cNvSpPr/>
            <p:nvPr/>
          </p:nvSpPr>
          <p:spPr>
            <a:xfrm flipV="1" rot="325800">
              <a:off x="3059280" y="3593880"/>
              <a:ext cx="398520" cy="42840"/>
            </a:xfrm>
            <a:prstGeom prst="rect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 rot="325800">
              <a:off x="3453480" y="352872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0" y="93"/>
                  </a:moveTo>
                  <a:lnTo>
                    <a:pt x="92" y="46"/>
                  </a:lnTo>
                  <a:lnTo>
                    <a:pt x="0" y="0"/>
                  </a:lnTo>
                  <a:lnTo>
                    <a:pt x="0" y="93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7095960" y="3319560"/>
            <a:ext cx="636840" cy="67932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50000">
                <a:srgbClr val="ccecff"/>
              </a:gs>
              <a:gs pos="100000">
                <a:srgbClr val="0033cc"/>
              </a:gs>
            </a:gsLst>
            <a:lin ang="5400000"/>
          </a:gra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68760" y="4699080"/>
            <a:ext cx="677880" cy="6984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50000">
                <a:srgbClr val="ccecff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036960" y="3808440"/>
            <a:ext cx="677880" cy="81288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50000">
                <a:srgbClr val="ccecff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X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52560" y="3319560"/>
            <a:ext cx="704880" cy="44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a9edfe"/>
              </a:gs>
              <a:gs pos="100000">
                <a:srgbClr val="00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2965320"/>
            <a:ext cx="734760" cy="460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a9edfe"/>
              </a:gs>
              <a:gs pos="100000">
                <a:srgbClr val="00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75680" y="5214960"/>
            <a:ext cx="6746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a9edfe"/>
              </a:gs>
              <a:gs pos="100000">
                <a:srgbClr val="00cc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A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2040" y="3102120"/>
            <a:ext cx="492120" cy="166680"/>
          </a:xfrm>
          <a:prstGeom prst="donut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8312040" y="5807160"/>
            <a:ext cx="428760" cy="339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849920" y="3100320"/>
            <a:ext cx="428400" cy="3398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4967280" y="2736720"/>
            <a:ext cx="428760" cy="33984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6613920" y="4358880"/>
            <a:ext cx="534240" cy="385200"/>
            <a:chOff x="6613920" y="4358880"/>
            <a:chExt cx="534240" cy="385200"/>
          </a:xfrm>
        </p:grpSpPr>
        <p:sp>
          <p:nvSpPr>
            <p:cNvPr id="401" name=""/>
            <p:cNvSpPr/>
            <p:nvPr/>
          </p:nvSpPr>
          <p:spPr>
            <a:xfrm flipH="1" rot="19794600">
              <a:off x="6597000" y="4604400"/>
              <a:ext cx="398520" cy="42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 rot="19794600">
              <a:off x="6954840" y="4380840"/>
              <a:ext cx="147600" cy="22032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fcc66"/>
            </a:solidFill>
            <a:ln cap="rnd"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882760" y="4214880"/>
            <a:ext cx="550440" cy="231120"/>
            <a:chOff x="5882760" y="4214880"/>
            <a:chExt cx="550440" cy="231120"/>
          </a:xfrm>
        </p:grpSpPr>
        <p:sp>
          <p:nvSpPr>
            <p:cNvPr id="404" name=""/>
            <p:cNvSpPr/>
            <p:nvPr/>
          </p:nvSpPr>
          <p:spPr>
            <a:xfrm rot="20778000">
              <a:off x="6036480" y="4261320"/>
              <a:ext cx="398160" cy="34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0778000">
              <a:off x="5901480" y="4253400"/>
              <a:ext cx="147240" cy="17748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fcc66"/>
            </a:solidFill>
            <a:ln cap="rnd"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992920" y="3658680"/>
            <a:ext cx="542880" cy="119160"/>
            <a:chOff x="5992920" y="3658680"/>
            <a:chExt cx="542880" cy="119160"/>
          </a:xfrm>
        </p:grpSpPr>
        <p:sp>
          <p:nvSpPr>
            <p:cNvPr id="407" name=""/>
            <p:cNvSpPr/>
            <p:nvPr/>
          </p:nvSpPr>
          <p:spPr>
            <a:xfrm rot="437400">
              <a:off x="6138000" y="3735720"/>
              <a:ext cx="398160" cy="165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437400">
              <a:off x="5997600" y="3667320"/>
              <a:ext cx="147240" cy="8568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fcc66"/>
            </a:solidFill>
            <a:ln cap="rnd"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861240" y="2969640"/>
            <a:ext cx="542880" cy="127440"/>
            <a:chOff x="6861240" y="2969640"/>
            <a:chExt cx="542880" cy="127440"/>
          </a:xfrm>
        </p:grpSpPr>
        <p:sp>
          <p:nvSpPr>
            <p:cNvPr id="410" name=""/>
            <p:cNvSpPr/>
            <p:nvPr/>
          </p:nvSpPr>
          <p:spPr>
            <a:xfrm flipH="1" rot="486600">
              <a:off x="6860160" y="2997360"/>
              <a:ext cx="398520" cy="16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rot="486600">
              <a:off x="7250760" y="3000600"/>
              <a:ext cx="147600" cy="860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2" y="0"/>
                  </a:moveTo>
                  <a:lnTo>
                    <a:pt x="0" y="47"/>
                  </a:lnTo>
                  <a:lnTo>
                    <a:pt x="92" y="93"/>
                  </a:lnTo>
                  <a:lnTo>
                    <a:pt x="92" y="0"/>
                  </a:lnTo>
                </a:path>
              </a:pathLst>
            </a:custGeom>
            <a:solidFill>
              <a:srgbClr val="ffcc66"/>
            </a:solidFill>
            <a:ln cap="rnd"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2214720" y="4675320"/>
            <a:ext cx="428400" cy="3394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6"/>
          <a:stretch/>
        </p:blipFill>
        <p:spPr>
          <a:xfrm>
            <a:off x="387360" y="2817720"/>
            <a:ext cx="428760" cy="33984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884160" y="1265400"/>
            <a:ext cx="14209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6400800"/>
            <a:ext cx="1265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pt-BR" sz="2400" spc="-1" strike="noStrike">
                <a:solidFill>
                  <a:srgbClr val="00cc99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37240" y="824040"/>
            <a:ext cx="790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279f"/>
                </a:solidFill>
                <a:latin typeface="Times New Roman"/>
              </a:rPr>
              <a:t>Rede Omega-CPqD – Longa Dist./Metro (tronco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RedeOmega" descr=""/>
          <p:cNvPicPr/>
          <p:nvPr/>
        </p:nvPicPr>
        <p:blipFill>
          <a:blip r:embed="rId2"/>
          <a:stretch/>
        </p:blipFill>
        <p:spPr>
          <a:xfrm>
            <a:off x="2000160" y="1676520"/>
            <a:ext cx="6083280" cy="4513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30040" y="2252520"/>
            <a:ext cx="2395800" cy="106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WDM</a:t>
            </a:r>
            <a:r>
              <a:rPr b="0" i="1" lang="pt-BR" sz="2000" spc="-1" strike="noStrike">
                <a:solidFill>
                  <a:srgbClr val="3333cc"/>
                </a:solidFill>
                <a:latin typeface="Arial"/>
              </a:rPr>
              <a:t>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Arial"/>
              </a:rPr>
              <a:t>Roteamento Óp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3333cc"/>
                </a:solidFill>
                <a:latin typeface="Arial"/>
              </a:rPr>
              <a:t>e Proteção Óptic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8960" y="5797440"/>
            <a:ext cx="2538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808080"/>
                </a:solidFill>
                <a:latin typeface="Arial"/>
              </a:rPr>
              <a:t>e a Rede Giga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7080" y="1587600"/>
            <a:ext cx="8885160" cy="5060880"/>
          </a:xfrm>
          <a:prstGeom prst="rect">
            <a:avLst/>
          </a:prstGeom>
          <a:solidFill>
            <a:srgbClr val="d9f1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786800" y="2371320"/>
            <a:ext cx="0" cy="1197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1960" y="3649680"/>
            <a:ext cx="992160" cy="291960"/>
          </a:xfrm>
          <a:custGeom>
            <a:avLst/>
            <a:gdLst/>
            <a:ahLst/>
            <a:rect l="l" t="t" r="r" b="b"/>
            <a:pathLst>
              <a:path w="625" h="181">
                <a:moveTo>
                  <a:pt x="0" y="0"/>
                </a:moveTo>
                <a:lnTo>
                  <a:pt x="0" y="180"/>
                </a:lnTo>
                <a:lnTo>
                  <a:pt x="624" y="180"/>
                </a:lnTo>
              </a:path>
            </a:pathLst>
          </a:custGeom>
          <a:noFill/>
          <a:ln cap="rnd" w="25560">
            <a:solidFill>
              <a:srgbClr val="8901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11800" y="4789440"/>
            <a:ext cx="1901880" cy="374760"/>
          </a:xfrm>
          <a:custGeom>
            <a:avLst/>
            <a:gdLst/>
            <a:ahLst/>
            <a:rect l="l" t="t" r="r" b="b"/>
            <a:pathLst>
              <a:path w="865" h="225">
                <a:moveTo>
                  <a:pt x="864" y="224"/>
                </a:moveTo>
                <a:lnTo>
                  <a:pt x="266" y="224"/>
                </a:lnTo>
                <a:lnTo>
                  <a:pt x="26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8901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86240" y="3936960"/>
            <a:ext cx="1654200" cy="762120"/>
          </a:xfrm>
          <a:custGeom>
            <a:avLst/>
            <a:gdLst/>
            <a:ahLst/>
            <a:rect l="l" t="t" r="r" b="b"/>
            <a:pathLst>
              <a:path w="961" h="449">
                <a:moveTo>
                  <a:pt x="0" y="448"/>
                </a:moveTo>
                <a:lnTo>
                  <a:pt x="665" y="448"/>
                </a:lnTo>
                <a:lnTo>
                  <a:pt x="665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8901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15360" y="3727440"/>
            <a:ext cx="1687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TTC/ FTTC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58720" y="4815000"/>
            <a:ext cx="157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TH/ FT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116080" y="1855800"/>
            <a:ext cx="771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17600" y="3170160"/>
            <a:ext cx="1152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400" spc="-1" strike="noStrike">
                <a:solidFill>
                  <a:srgbClr val="c0fef9"/>
                </a:solidFill>
                <a:latin typeface="Times New Roman"/>
              </a:rPr>
              <a:t>Host Di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49480" y="2362320"/>
            <a:ext cx="1447920" cy="0"/>
          </a:xfrm>
          <a:prstGeom prst="line">
            <a:avLst/>
          </a:prstGeom>
          <a:ln w="2844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455560" y="2171880"/>
            <a:ext cx="369720" cy="31572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544480" y="2171880"/>
            <a:ext cx="368280" cy="31572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49480" y="3524400"/>
            <a:ext cx="1523880" cy="0"/>
          </a:xfrm>
          <a:prstGeom prst="line">
            <a:avLst/>
          </a:prstGeom>
          <a:ln w="2844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2476080" y="3328920"/>
            <a:ext cx="389160" cy="32076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569680" y="3328920"/>
            <a:ext cx="389160" cy="32076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72040" y="3540240"/>
            <a:ext cx="1677960" cy="290520"/>
          </a:xfrm>
          <a:custGeom>
            <a:avLst/>
            <a:gdLst/>
            <a:ahLst/>
            <a:rect l="l" t="t" r="r" b="b"/>
            <a:pathLst>
              <a:path w="1057" h="180">
                <a:moveTo>
                  <a:pt x="0" y="0"/>
                </a:moveTo>
                <a:lnTo>
                  <a:pt x="731" y="0"/>
                </a:lnTo>
                <a:lnTo>
                  <a:pt x="731" y="179"/>
                </a:lnTo>
                <a:lnTo>
                  <a:pt x="1056" y="179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72040" y="2179800"/>
            <a:ext cx="803520" cy="1225440"/>
          </a:xfrm>
          <a:custGeom>
            <a:avLst/>
            <a:gdLst/>
            <a:ahLst/>
            <a:rect l="l" t="t" r="r" b="b"/>
            <a:pathLst>
              <a:path w="506" h="673">
                <a:moveTo>
                  <a:pt x="0" y="672"/>
                </a:moveTo>
                <a:lnTo>
                  <a:pt x="350" y="672"/>
                </a:lnTo>
                <a:lnTo>
                  <a:pt x="350" y="0"/>
                </a:lnTo>
                <a:lnTo>
                  <a:pt x="505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96080" y="2889360"/>
            <a:ext cx="1220760" cy="579240"/>
          </a:xfrm>
          <a:custGeom>
            <a:avLst/>
            <a:gdLst/>
            <a:ahLst/>
            <a:rect l="l" t="t" r="r" b="b"/>
            <a:pathLst>
              <a:path w="769" h="359">
                <a:moveTo>
                  <a:pt x="0" y="358"/>
                </a:moveTo>
                <a:lnTo>
                  <a:pt x="532" y="358"/>
                </a:lnTo>
                <a:lnTo>
                  <a:pt x="532" y="0"/>
                </a:lnTo>
                <a:lnTo>
                  <a:pt x="768" y="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468600" y="3406680"/>
            <a:ext cx="584280" cy="311400"/>
          </a:xfrm>
          <a:prstGeom prst="rect">
            <a:avLst/>
          </a:prstGeom>
          <a:solidFill>
            <a:srgbClr val="fcfeb9"/>
          </a:solidFill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1440" y="336384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044960" y="3540240"/>
            <a:ext cx="1349280" cy="0"/>
          </a:xfrm>
          <a:prstGeom prst="line">
            <a:avLst/>
          </a:prstGeom>
          <a:ln w="2844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422600" y="3328920"/>
            <a:ext cx="346320" cy="34776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505040" y="3328920"/>
            <a:ext cx="345960" cy="34776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88120" y="3373560"/>
            <a:ext cx="606240" cy="287280"/>
          </a:xfrm>
          <a:prstGeom prst="rect">
            <a:avLst/>
          </a:prstGeom>
          <a:solidFill>
            <a:srgbClr val="fcfeb9"/>
          </a:solidFill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66160" y="334152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O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13200" y="3105000"/>
            <a:ext cx="993600" cy="290520"/>
          </a:xfrm>
          <a:custGeom>
            <a:avLst/>
            <a:gdLst/>
            <a:ahLst/>
            <a:rect l="l" t="t" r="r" b="b"/>
            <a:pathLst>
              <a:path w="626" h="180">
                <a:moveTo>
                  <a:pt x="0" y="179"/>
                </a:moveTo>
                <a:lnTo>
                  <a:pt x="0" y="0"/>
                </a:lnTo>
                <a:lnTo>
                  <a:pt x="625" y="0"/>
                </a:lnTo>
              </a:path>
            </a:pathLst>
          </a:custGeom>
          <a:noFill/>
          <a:ln cap="rnd" w="28440">
            <a:solidFill>
              <a:srgbClr val="8901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135320" y="2932200"/>
            <a:ext cx="393840" cy="347040"/>
            <a:chOff x="4135320" y="2932200"/>
            <a:chExt cx="393840" cy="347040"/>
          </a:xfrm>
        </p:grpSpPr>
        <p:sp>
          <p:nvSpPr>
            <p:cNvPr id="449" name=""/>
            <p:cNvSpPr/>
            <p:nvPr/>
          </p:nvSpPr>
          <p:spPr>
            <a:xfrm flipH="1">
              <a:off x="4135320" y="2932200"/>
              <a:ext cx="317520" cy="347040"/>
            </a:xfrm>
            <a:prstGeom prst="line">
              <a:avLst/>
            </a:prstGeom>
            <a:ln w="1260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4211640" y="2932200"/>
              <a:ext cx="317520" cy="347040"/>
            </a:xfrm>
            <a:prstGeom prst="line">
              <a:avLst/>
            </a:prstGeom>
            <a:ln w="1260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906720" y="3798720"/>
            <a:ext cx="393840" cy="349200"/>
            <a:chOff x="3906720" y="3798720"/>
            <a:chExt cx="393840" cy="349200"/>
          </a:xfrm>
        </p:grpSpPr>
        <p:sp>
          <p:nvSpPr>
            <p:cNvPr id="452" name=""/>
            <p:cNvSpPr/>
            <p:nvPr/>
          </p:nvSpPr>
          <p:spPr>
            <a:xfrm flipH="1">
              <a:off x="3906720" y="3798720"/>
              <a:ext cx="317520" cy="349200"/>
            </a:xfrm>
            <a:prstGeom prst="line">
              <a:avLst/>
            </a:prstGeom>
            <a:ln w="1260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3983040" y="3798720"/>
              <a:ext cx="317520" cy="349200"/>
            </a:xfrm>
            <a:prstGeom prst="line">
              <a:avLst/>
            </a:prstGeom>
            <a:ln w="1260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6746760" y="2994120"/>
            <a:ext cx="14223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72040" y="3611520"/>
            <a:ext cx="1373400" cy="1521000"/>
          </a:xfrm>
          <a:custGeom>
            <a:avLst/>
            <a:gdLst/>
            <a:ahLst/>
            <a:rect l="l" t="t" r="r" b="b"/>
            <a:pathLst>
              <a:path w="865" h="942">
                <a:moveTo>
                  <a:pt x="0" y="0"/>
                </a:moveTo>
                <a:lnTo>
                  <a:pt x="598" y="0"/>
                </a:lnTo>
                <a:lnTo>
                  <a:pt x="598" y="941"/>
                </a:lnTo>
                <a:lnTo>
                  <a:pt x="864" y="941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8960" y="2436840"/>
            <a:ext cx="72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8901f3"/>
                </a:solidFill>
                <a:latin typeface="Times New Roman"/>
              </a:rPr>
              <a:t>Fi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88720" y="2868480"/>
            <a:ext cx="75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49760" y="3878280"/>
            <a:ext cx="339840" cy="214200"/>
          </a:xfrm>
          <a:prstGeom prst="rect">
            <a:avLst/>
          </a:prstGeom>
          <a:solidFill>
            <a:srgbClr val="fcfeb9"/>
          </a:solidFill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69000" y="3019320"/>
            <a:ext cx="303120" cy="203400"/>
          </a:xfrm>
          <a:prstGeom prst="rect">
            <a:avLst/>
          </a:prstGeom>
          <a:solidFill>
            <a:srgbClr val="fcfeb9"/>
          </a:solidFill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7520" y="2100240"/>
            <a:ext cx="2820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356080" y="4594320"/>
            <a:ext cx="393840" cy="348840"/>
            <a:chOff x="5356080" y="4594320"/>
            <a:chExt cx="393840" cy="348840"/>
          </a:xfrm>
        </p:grpSpPr>
        <p:sp>
          <p:nvSpPr>
            <p:cNvPr id="462" name=""/>
            <p:cNvSpPr/>
            <p:nvPr/>
          </p:nvSpPr>
          <p:spPr>
            <a:xfrm flipH="1">
              <a:off x="5356080" y="4594320"/>
              <a:ext cx="317520" cy="348840"/>
            </a:xfrm>
            <a:prstGeom prst="line">
              <a:avLst/>
            </a:prstGeom>
            <a:ln w="1260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432400" y="4594320"/>
              <a:ext cx="317520" cy="348840"/>
            </a:xfrm>
            <a:prstGeom prst="line">
              <a:avLst/>
            </a:prstGeom>
            <a:ln w="12600">
              <a:solidFill>
                <a:srgbClr val="8901f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6670800" y="3938760"/>
            <a:ext cx="1233360" cy="0"/>
          </a:xfrm>
          <a:prstGeom prst="line">
            <a:avLst/>
          </a:prstGeom>
          <a:ln w="2556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08880" y="2975040"/>
            <a:ext cx="43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594680" y="3830760"/>
            <a:ext cx="437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91920" y="2390760"/>
            <a:ext cx="577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Times New Roman"/>
              </a:rPr>
              <a:t>co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13280" y="3070080"/>
            <a:ext cx="884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1600" spc="-1" strike="noStrike">
                <a:solidFill>
                  <a:srgbClr val="ff3300"/>
                </a:solidFill>
                <a:latin typeface="Times New Roman"/>
              </a:rPr>
              <a:t>par trç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35080" y="4741560"/>
            <a:ext cx="2718000" cy="12600"/>
          </a:xfrm>
          <a:prstGeom prst="line">
            <a:avLst/>
          </a:prstGeom>
          <a:ln w="28440">
            <a:solidFill>
              <a:srgbClr val="8901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14320" y="2198520"/>
            <a:ext cx="1254240" cy="317520"/>
          </a:xfrm>
          <a:prstGeom prst="rect">
            <a:avLst/>
          </a:prstGeom>
          <a:solidFill>
            <a:srgbClr val="ccffcc"/>
          </a:solid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990099"/>
                </a:solidFill>
                <a:latin typeface="Times New Roman"/>
              </a:rPr>
              <a:t>Prov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25400" y="2066760"/>
            <a:ext cx="1413000" cy="2789280"/>
          </a:xfrm>
          <a:prstGeom prst="rect">
            <a:avLst/>
          </a:prstGeom>
          <a:noFill/>
          <a:ln w="1908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74440" y="4795920"/>
            <a:ext cx="10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imes New Roman"/>
              </a:rPr>
              <a:t>Cent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Times New Roman"/>
              </a:rPr>
              <a:t>FL 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3057120" y="4564080"/>
            <a:ext cx="389160" cy="32076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150720" y="4564080"/>
            <a:ext cx="389160" cy="32076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68600" y="2254320"/>
            <a:ext cx="666720" cy="287280"/>
          </a:xfrm>
          <a:prstGeom prst="rect">
            <a:avLst/>
          </a:prstGeom>
          <a:solidFill>
            <a:srgbClr val="fcfeb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38360" y="2206800"/>
            <a:ext cx="76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ó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6240" y="4879800"/>
            <a:ext cx="1090800" cy="925560"/>
          </a:xfrm>
          <a:custGeom>
            <a:avLst/>
            <a:gdLst/>
            <a:ahLst/>
            <a:rect l="l" t="t" r="r" b="b"/>
            <a:pathLst>
              <a:path w="865" h="225">
                <a:moveTo>
                  <a:pt x="864" y="224"/>
                </a:moveTo>
                <a:lnTo>
                  <a:pt x="266" y="224"/>
                </a:lnTo>
                <a:lnTo>
                  <a:pt x="26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8901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83400" y="2181240"/>
            <a:ext cx="88884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5320" y="2303640"/>
            <a:ext cx="582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24280" y="2081160"/>
            <a:ext cx="6480" cy="2476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7246800" y="1835280"/>
          <a:ext cx="1335240" cy="40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46800" y="1835280"/>
                    <a:ext cx="13352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"/>
          <p:cNvSpPr/>
          <p:nvPr/>
        </p:nvSpPr>
        <p:spPr>
          <a:xfrm>
            <a:off x="4110120" y="2479680"/>
            <a:ext cx="77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890960" y="2478240"/>
            <a:ext cx="0" cy="3045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92760" y="2771640"/>
            <a:ext cx="3309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7077240" y="2529000"/>
          <a:ext cx="788760" cy="38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7240" y="2529000"/>
                    <a:ext cx="78876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8086680" y="2689200"/>
          <a:ext cx="779400" cy="344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086680" y="2689200"/>
                    <a:ext cx="779400" cy="3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1432080" y="2565360"/>
            <a:ext cx="0" cy="627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50920" y="4073400"/>
            <a:ext cx="0" cy="67644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36520" y="4135320"/>
            <a:ext cx="240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8901f3"/>
                </a:solidFill>
                <a:latin typeface="Times New Roman"/>
              </a:rPr>
              <a:t>Fibras e mais fibr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4114800" y="2382840"/>
            <a:ext cx="3675240" cy="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0360" y="40892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OL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518880" y="5156280"/>
            <a:ext cx="57528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ON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47960" y="578628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(O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974960" y="4102200"/>
            <a:ext cx="0" cy="154944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65040" y="5610240"/>
            <a:ext cx="81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25840" y="5916600"/>
            <a:ext cx="492120" cy="50184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19360" y="5415120"/>
            <a:ext cx="507960" cy="501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09960" y="5667480"/>
            <a:ext cx="568440" cy="5302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973160" y="5630760"/>
            <a:ext cx="1765440" cy="64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08360" y="5607000"/>
            <a:ext cx="777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06880" y="5886360"/>
            <a:ext cx="777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706920" y="6134040"/>
            <a:ext cx="777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55880" y="5634000"/>
            <a:ext cx="0" cy="55260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3739680" y="5883120"/>
            <a:ext cx="444600" cy="31752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770280" y="5632560"/>
            <a:ext cx="399960" cy="301680"/>
          </a:xfrm>
          <a:prstGeom prst="line">
            <a:avLst/>
          </a:prstGeom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8">
            <a:alphaModFix amt="50000"/>
          </a:blip>
          <a:stretch/>
        </p:blipFill>
        <p:spPr>
          <a:xfrm>
            <a:off x="4167360" y="5057640"/>
            <a:ext cx="8143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510" name=""/>
          <p:cNvSpPr/>
          <p:nvPr/>
        </p:nvSpPr>
        <p:spPr>
          <a:xfrm flipH="1">
            <a:off x="2874600" y="5473800"/>
            <a:ext cx="312840" cy="27468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947680" y="5500800"/>
            <a:ext cx="312840" cy="274680"/>
          </a:xfrm>
          <a:prstGeom prst="line">
            <a:avLst/>
          </a:prstGeom>
          <a:ln w="12600">
            <a:solidFill>
              <a:srgbClr val="8901f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79760" y="5925960"/>
            <a:ext cx="478080" cy="47016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9"/>
          <a:stretch/>
        </p:blipFill>
        <p:spPr>
          <a:xfrm>
            <a:off x="297000" y="1922400"/>
            <a:ext cx="515880" cy="5382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766800" y="3295800"/>
            <a:ext cx="1317600" cy="816480"/>
          </a:xfrm>
          <a:prstGeom prst="rect">
            <a:avLst/>
          </a:prstGeom>
          <a:solidFill>
            <a:srgbClr val="ccffff"/>
          </a:solidFill>
          <a:ln w="190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Times New Roman"/>
              </a:rPr>
              <a:t>Central Com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Times New Roman"/>
              </a:rPr>
              <a:t>e Rote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5760" y="3325680"/>
            <a:ext cx="622440" cy="785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Publ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erv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54680" y="30052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imes New Roman"/>
              </a:rPr>
              <a:t>(OD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6226200" y="5630760"/>
          <a:ext cx="1857240" cy="547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26200" y="5630760"/>
                    <a:ext cx="185724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"/>
          <p:cNvSpPr/>
          <p:nvPr/>
        </p:nvSpPr>
        <p:spPr>
          <a:xfrm>
            <a:off x="4264200" y="5519880"/>
            <a:ext cx="90360" cy="4712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4168440" y="5521320"/>
            <a:ext cx="57240" cy="4604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704480" y="4524480"/>
            <a:ext cx="630360" cy="450720"/>
            <a:chOff x="4704480" y="4524480"/>
            <a:chExt cx="630360" cy="450720"/>
          </a:xfrm>
        </p:grpSpPr>
        <p:sp>
          <p:nvSpPr>
            <p:cNvPr id="522" name=""/>
            <p:cNvSpPr/>
            <p:nvPr/>
          </p:nvSpPr>
          <p:spPr>
            <a:xfrm rot="5400000">
              <a:off x="4793760" y="4469040"/>
              <a:ext cx="450720" cy="561600"/>
            </a:xfrm>
            <a:custGeom>
              <a:avLst/>
              <a:gdLst>
                <a:gd name="textAreaLeft" fmla="*/ 99000 w 450720"/>
                <a:gd name="textAreaRight" fmla="*/ 351720 w 450720"/>
                <a:gd name="textAreaTop" fmla="*/ 123480 h 561600"/>
                <a:gd name="textAreaBottom" fmla="*/ 438120 h 56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00400" y="457380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04480" y="458640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OD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25" name=""/>
          <p:cNvGraphicFramePr/>
          <p:nvPr/>
        </p:nvGraphicFramePr>
        <p:xfrm>
          <a:off x="7527960" y="3319560"/>
          <a:ext cx="1042920" cy="6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27960" y="3319560"/>
                    <a:ext cx="104292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7122960" y="4211640"/>
          <a:ext cx="1739880" cy="1095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122960" y="4211640"/>
                    <a:ext cx="17398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711360" y="900000"/>
            <a:ext cx="72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3200" spc="-1" strike="noStrike">
                <a:solidFill>
                  <a:srgbClr val="cc0000"/>
                </a:solidFill>
                <a:latin typeface="Times New Roman"/>
              </a:rPr>
              <a:t>Rede Óptica Acesso (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híbrida</a:t>
            </a:r>
            <a:r>
              <a:rPr b="1" i="1" lang="pt-BR" sz="3200" spc="-1" strike="noStrike">
                <a:solidFill>
                  <a:srgbClr val="cc0000"/>
                </a:solidFill>
                <a:latin typeface="Times New Roman"/>
              </a:rPr>
              <a:t> - 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topol. estrela)</a:t>
            </a:r>
            <a:r>
              <a:rPr b="1" i="1" lang="pt-BR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22800" y="5413320"/>
            <a:ext cx="4284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17760" y="6232680"/>
            <a:ext cx="208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OLT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ODN </a:t>
            </a:r>
            <a:r>
              <a:rPr b="1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ON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0880" y="228600"/>
            <a:ext cx="765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9900"/>
                </a:solidFill>
                <a:latin typeface="Arial"/>
              </a:rPr>
              <a:t>Optical Communications 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 – Redes Ópticas Acesso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58040" y="3251160"/>
            <a:ext cx="1424160" cy="857160"/>
          </a:xfrm>
          <a:prstGeom prst="ellipse">
            <a:avLst/>
          </a:pr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18:43:23Z</dcterms:created>
  <dc:creator>CPqD</dc:creator>
  <dc:description/>
  <dc:language>en-US</dc:language>
  <cp:lastModifiedBy>rudge</cp:lastModifiedBy>
  <dcterms:modified xsi:type="dcterms:W3CDTF">2004-08-27T23:29:49Z</dcterms:modified>
  <cp:revision>75</cp:revision>
  <dc:subject/>
  <dc:title>Apresentação do PowerPoint</dc:title>
</cp:coreProperties>
</file>