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9.wmf" ContentType="image/x-wmf"/>
  <Override PartName="/ppt/media/image34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0.png" ContentType="image/png"/>
  <Override PartName="/ppt/media/image27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13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36.wmf" ContentType="image/x-wmf"/>
  <Override PartName="/ppt/media/image35.wmf" ContentType="image/x-wmf"/>
  <Override PartName="/ppt/media/image16.jpeg" ContentType="image/jpeg"/>
  <Override PartName="/ppt/media/image6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10061575" cy="1450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8280" y="6553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8FD7-5DD5-479F-9C0D-95F314BC5EDC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54040" y="1093680"/>
            <a:ext cx="695340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Optical Communic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Systems &amp; Network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280360" y="662940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ês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08400" y="3490920"/>
            <a:ext cx="3129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cc"/>
                </a:solidFill>
                <a:latin typeface="Arial"/>
              </a:rPr>
              <a:t>Felipe Rudge Barbo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2320" y="3813120"/>
            <a:ext cx="32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Fundação CPq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ampinas 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BRAS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obe" descr=""/>
          <p:cNvPicPr/>
          <p:nvPr/>
        </p:nvPicPr>
        <p:blipFill>
          <a:blip r:embed="rId2"/>
          <a:stretch/>
        </p:blipFill>
        <p:spPr>
          <a:xfrm>
            <a:off x="0" y="3394080"/>
            <a:ext cx="1447920" cy="15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07320" y="3986280"/>
            <a:ext cx="31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2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ses Tecnológ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30200" y="2787480"/>
            <a:ext cx="239868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04840" y="91584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aser Semicon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9240" y="2824200"/>
            <a:ext cx="163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odo Las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039400">
            <a:off x="2087280" y="2107800"/>
            <a:ext cx="1984320" cy="889200"/>
          </a:xfrm>
          <a:prstGeom prst="parallelogram">
            <a:avLst>
              <a:gd name="adj" fmla="val 5578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41800" y="3184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60880" y="273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113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11320" y="2666880"/>
            <a:ext cx="1230480" cy="8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241800" y="3035160"/>
            <a:ext cx="91908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11320" y="2514600"/>
            <a:ext cx="123048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241800" y="2882520"/>
            <a:ext cx="91908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9757400">
            <a:off x="3571560" y="3071520"/>
            <a:ext cx="235080" cy="95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2205000">
            <a:off x="3657240" y="3137040"/>
            <a:ext cx="515880" cy="269640"/>
          </a:xfrm>
          <a:custGeom>
            <a:avLst/>
            <a:gdLst>
              <a:gd name="textAreaLeft" fmla="*/ 80640 w 515880"/>
              <a:gd name="textAreaRight" fmla="*/ 451440 w 51588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 rot="2209200">
            <a:off x="1973160" y="1837440"/>
            <a:ext cx="515880" cy="269640"/>
          </a:xfrm>
          <a:custGeom>
            <a:avLst/>
            <a:gdLst>
              <a:gd name="textAreaLeft" fmla="*/ 80280 w 515880"/>
              <a:gd name="textAreaRight" fmla="*/ 451080 w 51588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0840" y="33433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33600" y="1494000"/>
            <a:ext cx="5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81320" y="1722600"/>
            <a:ext cx="523800" cy="650880"/>
          </a:xfrm>
          <a:custGeom>
            <a:avLst/>
            <a:gdLst/>
            <a:ahLst/>
            <a:rect l="l" t="t" r="r" b="b"/>
            <a:pathLst>
              <a:path w="330" h="410">
                <a:moveTo>
                  <a:pt x="0" y="410"/>
                </a:moveTo>
                <a:cubicBezTo>
                  <a:pt x="32" y="279"/>
                  <a:pt x="65" y="148"/>
                  <a:pt x="120" y="80"/>
                </a:cubicBezTo>
                <a:cubicBezTo>
                  <a:pt x="175" y="12"/>
                  <a:pt x="297" y="13"/>
                  <a:pt x="3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00320" y="2282760"/>
            <a:ext cx="193680" cy="127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71920" y="1639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69880" y="3524400"/>
            <a:ext cx="79236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19440" y="33321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204800" y="2544840"/>
            <a:ext cx="561960" cy="306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24760" y="2157480"/>
            <a:ext cx="12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ção p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42120" y="3673440"/>
            <a:ext cx="0" cy="168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442120" y="5345280"/>
            <a:ext cx="2022480" cy="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42120" y="3738600"/>
            <a:ext cx="1530360" cy="1595520"/>
          </a:xfrm>
          <a:custGeom>
            <a:avLst/>
            <a:gdLst/>
            <a:ahLst/>
            <a:rect l="l" t="t" r="r" b="b"/>
            <a:pathLst>
              <a:path w="1408" h="1232">
                <a:moveTo>
                  <a:pt x="0" y="1232"/>
                </a:moveTo>
                <a:lnTo>
                  <a:pt x="528" y="1224"/>
                </a:lnTo>
                <a:lnTo>
                  <a:pt x="1408" y="0"/>
                </a:lnTo>
              </a:path>
            </a:pathLst>
          </a:custGeom>
          <a:noFill/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89640" y="4719600"/>
            <a:ext cx="0" cy="159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24720" y="434664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637320" y="432288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386400" y="471636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454360" y="4524480"/>
            <a:ext cx="2444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02320" y="451476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96320" y="530856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nte (mA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07800" y="3665520"/>
            <a:ext cx="78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o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Óp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(mW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772320" y="4325760"/>
            <a:ext cx="674640" cy="390240"/>
            <a:chOff x="6772320" y="4325760"/>
            <a:chExt cx="674640" cy="390240"/>
          </a:xfrm>
        </p:grpSpPr>
        <p:sp>
          <p:nvSpPr>
            <p:cNvPr id="339" name=""/>
            <p:cNvSpPr/>
            <p:nvPr/>
          </p:nvSpPr>
          <p:spPr>
            <a:xfrm>
              <a:off x="7106760" y="4325760"/>
              <a:ext cx="340200" cy="38016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72320" y="4335840"/>
              <a:ext cx="340200" cy="38016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386400" y="5439960"/>
            <a:ext cx="247680" cy="873000"/>
            <a:chOff x="6386400" y="5439960"/>
            <a:chExt cx="247680" cy="873000"/>
          </a:xfrm>
        </p:grpSpPr>
        <p:sp>
          <p:nvSpPr>
            <p:cNvPr id="342" name=""/>
            <p:cNvSpPr/>
            <p:nvPr/>
          </p:nvSpPr>
          <p:spPr>
            <a:xfrm rot="16200000">
              <a:off x="6286680" y="5539320"/>
              <a:ext cx="440280" cy="24120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6293160" y="5972040"/>
              <a:ext cx="440280" cy="24120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6024600" y="5380200"/>
            <a:ext cx="0" cy="31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61000" y="545616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62680" y="426564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93040" y="4033800"/>
            <a:ext cx="0" cy="28404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93040" y="4719600"/>
            <a:ext cx="0" cy="28584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48400" y="38908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m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60720" y="5872320"/>
            <a:ext cx="179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odulação elét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nalógica ou dig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41960" y="523404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632640" y="523728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61240" y="5052960"/>
            <a:ext cx="4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45720" y="5497560"/>
            <a:ext cx="311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m - corrente de mod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th - corrente limiar do l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m - potencia de modul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c - potencia DC sem sinal (alar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9840" y="2178000"/>
            <a:ext cx="123012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92280" y="2138400"/>
            <a:ext cx="12304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34680" y="4560840"/>
            <a:ext cx="1221840" cy="510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649840" y="1736640"/>
            <a:ext cx="2820960" cy="1077840"/>
            <a:chOff x="5649840" y="1736640"/>
            <a:chExt cx="2820960" cy="1077840"/>
          </a:xfrm>
        </p:grpSpPr>
        <p:sp>
          <p:nvSpPr>
            <p:cNvPr id="359" name=""/>
            <p:cNvSpPr/>
            <p:nvPr/>
          </p:nvSpPr>
          <p:spPr>
            <a:xfrm>
              <a:off x="6346440" y="2070000"/>
              <a:ext cx="1381680" cy="169920"/>
            </a:xfrm>
            <a:custGeom>
              <a:avLst/>
              <a:gdLst/>
              <a:ahLst/>
              <a:rect l="l" t="t" r="r" b="b"/>
              <a:pathLst>
                <a:path w="920" h="97">
                  <a:moveTo>
                    <a:pt x="0" y="0"/>
                  </a:moveTo>
                  <a:lnTo>
                    <a:pt x="358" y="0"/>
                  </a:lnTo>
                  <a:lnTo>
                    <a:pt x="503" y="97"/>
                  </a:lnTo>
                  <a:lnTo>
                    <a:pt x="920" y="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25560" y="2301840"/>
              <a:ext cx="1381680" cy="231840"/>
            </a:xfrm>
            <a:custGeom>
              <a:avLst/>
              <a:gdLst/>
              <a:ahLst/>
              <a:rect l="l" t="t" r="r" b="b"/>
              <a:pathLst>
                <a:path w="920" h="97">
                  <a:moveTo>
                    <a:pt x="0" y="0"/>
                  </a:moveTo>
                  <a:lnTo>
                    <a:pt x="358" y="0"/>
                  </a:lnTo>
                  <a:lnTo>
                    <a:pt x="503" y="97"/>
                  </a:lnTo>
                  <a:lnTo>
                    <a:pt x="920" y="9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69960" y="2063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23800" y="20271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09800" y="23652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405120" y="2390760"/>
              <a:ext cx="3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62640" y="2098800"/>
              <a:ext cx="348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44280" y="173664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49840" y="1784160"/>
              <a:ext cx="2820960" cy="1030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53200" y="2263680"/>
            <a:ext cx="141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96080" y="2125800"/>
            <a:ext cx="257040" cy="30780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4" y="0"/>
                </a:moveTo>
                <a:cubicBezTo>
                  <a:pt x="80" y="18"/>
                  <a:pt x="36" y="36"/>
                  <a:pt x="18" y="68"/>
                </a:cubicBezTo>
                <a:cubicBezTo>
                  <a:pt x="0" y="100"/>
                  <a:pt x="9" y="147"/>
                  <a:pt x="18" y="194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3218040" y="1660680"/>
            <a:ext cx="226800" cy="183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54040" y="1382760"/>
            <a:ext cx="2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88080" y="4460760"/>
            <a:ext cx="15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Luz Modul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272880" y="1625760"/>
          <a:ext cx="4257720" cy="304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2880" y="1625760"/>
                    <a:ext cx="4257720" cy="3049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4653000" y="1919160"/>
          <a:ext cx="4206960" cy="302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53000" y="1919160"/>
                    <a:ext cx="4206960" cy="302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1307880" y="4829040"/>
            <a:ext cx="2418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 D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o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=&gt; sistemas WDM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47240" y="5121360"/>
            <a:ext cx="2480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ser F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ulti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=&gt; sistemas simples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60480" y="258480"/>
            <a:ext cx="615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ser Semicondutor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60480" y="258480"/>
            <a:ext cx="615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D Semicondutor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1440" y="2297160"/>
            <a:ext cx="170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micondu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10320" y="1984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nção p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53040" y="3900600"/>
            <a:ext cx="0" cy="1326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53040" y="5218200"/>
            <a:ext cx="20224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07600" y="52135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nte (mA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43920" y="3724200"/>
            <a:ext cx="73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Po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Óp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W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6305040" y="4765680"/>
            <a:ext cx="1911600" cy="244440"/>
            <a:chOff x="6305040" y="4765680"/>
            <a:chExt cx="1911600" cy="244440"/>
          </a:xfrm>
        </p:grpSpPr>
        <p:sp>
          <p:nvSpPr>
            <p:cNvPr id="388" name=""/>
            <p:cNvSpPr/>
            <p:nvPr/>
          </p:nvSpPr>
          <p:spPr>
            <a:xfrm flipH="1">
              <a:off x="6605280" y="4765680"/>
              <a:ext cx="1611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305040" y="5010120"/>
              <a:ext cx="1609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6766200" y="4767480"/>
              <a:ext cx="924120" cy="241920"/>
              <a:chOff x="6766200" y="4767480"/>
              <a:chExt cx="924120" cy="241920"/>
            </a:xfrm>
          </p:grpSpPr>
          <p:sp>
            <p:nvSpPr>
              <p:cNvPr id="391" name=""/>
              <p:cNvSpPr/>
              <p:nvPr/>
            </p:nvSpPr>
            <p:spPr>
              <a:xfrm>
                <a:off x="7224120" y="4767480"/>
                <a:ext cx="466200" cy="235800"/>
              </a:xfrm>
              <a:custGeom>
                <a:avLst/>
                <a:gdLst/>
                <a:ahLst/>
                <a:rect l="l" t="t" r="r" b="b"/>
                <a:pathLst>
                  <a:path w="520" h="381">
                    <a:moveTo>
                      <a:pt x="0" y="185"/>
                    </a:moveTo>
                    <a:cubicBezTo>
                      <a:pt x="46" y="93"/>
                      <a:pt x="92" y="2"/>
                      <a:pt x="136" y="1"/>
                    </a:cubicBezTo>
                    <a:cubicBezTo>
                      <a:pt x="180" y="0"/>
                      <a:pt x="221" y="114"/>
                      <a:pt x="264" y="177"/>
                    </a:cubicBezTo>
                    <a:cubicBezTo>
                      <a:pt x="307" y="240"/>
                      <a:pt x="349" y="381"/>
                      <a:pt x="392" y="377"/>
                    </a:cubicBezTo>
                    <a:cubicBezTo>
                      <a:pt x="435" y="373"/>
                      <a:pt x="497" y="193"/>
                      <a:pt x="520" y="153"/>
                    </a:cubicBezTo>
                  </a:path>
                </a:pathLst>
              </a:cu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66200" y="4773600"/>
                <a:ext cx="466200" cy="235800"/>
              </a:xfrm>
              <a:custGeom>
                <a:avLst/>
                <a:gdLst/>
                <a:ahLst/>
                <a:rect l="l" t="t" r="r" b="b"/>
                <a:pathLst>
                  <a:path w="520" h="381">
                    <a:moveTo>
                      <a:pt x="0" y="185"/>
                    </a:moveTo>
                    <a:cubicBezTo>
                      <a:pt x="46" y="93"/>
                      <a:pt x="92" y="2"/>
                      <a:pt x="136" y="1"/>
                    </a:cubicBezTo>
                    <a:cubicBezTo>
                      <a:pt x="180" y="0"/>
                      <a:pt x="221" y="114"/>
                      <a:pt x="264" y="177"/>
                    </a:cubicBezTo>
                    <a:cubicBezTo>
                      <a:pt x="307" y="240"/>
                      <a:pt x="349" y="381"/>
                      <a:pt x="392" y="377"/>
                    </a:cubicBezTo>
                    <a:cubicBezTo>
                      <a:pt x="435" y="373"/>
                      <a:pt x="497" y="193"/>
                      <a:pt x="520" y="153"/>
                    </a:cubicBezTo>
                  </a:path>
                </a:pathLst>
              </a:cu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7680240" y="4468680"/>
            <a:ext cx="0" cy="28440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0240" y="4995720"/>
            <a:ext cx="0" cy="28584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87880" y="4341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66120" y="3675240"/>
            <a:ext cx="197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ção RF ou dig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205680" y="4319640"/>
            <a:ext cx="531000" cy="2171520"/>
            <a:chOff x="6205680" y="4319640"/>
            <a:chExt cx="531000" cy="2171520"/>
          </a:xfrm>
        </p:grpSpPr>
        <p:sp>
          <p:nvSpPr>
            <p:cNvPr id="398" name=""/>
            <p:cNvSpPr/>
            <p:nvPr/>
          </p:nvSpPr>
          <p:spPr>
            <a:xfrm>
              <a:off x="6212520" y="4692600"/>
              <a:ext cx="0" cy="1592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6160" y="4319640"/>
              <a:ext cx="0" cy="2003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54440" y="4487760"/>
              <a:ext cx="0" cy="2003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6205680" y="5412960"/>
              <a:ext cx="531000" cy="873000"/>
              <a:chOff x="6205680" y="5412960"/>
              <a:chExt cx="531000" cy="873000"/>
            </a:xfrm>
          </p:grpSpPr>
          <p:sp>
            <p:nvSpPr>
              <p:cNvPr id="402" name=""/>
              <p:cNvSpPr/>
              <p:nvPr/>
            </p:nvSpPr>
            <p:spPr>
              <a:xfrm rot="16200000">
                <a:off x="6244200" y="5374440"/>
                <a:ext cx="440280" cy="517320"/>
              </a:xfrm>
              <a:custGeom>
                <a:avLst/>
                <a:gdLst/>
                <a:ahLst/>
                <a:rect l="l" t="t" r="r" b="b"/>
                <a:pathLst>
                  <a:path w="520" h="381">
                    <a:moveTo>
                      <a:pt x="0" y="185"/>
                    </a:moveTo>
                    <a:cubicBezTo>
                      <a:pt x="46" y="93"/>
                      <a:pt x="92" y="2"/>
                      <a:pt x="136" y="1"/>
                    </a:cubicBezTo>
                    <a:cubicBezTo>
                      <a:pt x="180" y="0"/>
                      <a:pt x="221" y="114"/>
                      <a:pt x="264" y="177"/>
                    </a:cubicBezTo>
                    <a:cubicBezTo>
                      <a:pt x="307" y="240"/>
                      <a:pt x="349" y="381"/>
                      <a:pt x="392" y="377"/>
                    </a:cubicBezTo>
                    <a:cubicBezTo>
                      <a:pt x="435" y="373"/>
                      <a:pt x="497" y="193"/>
                      <a:pt x="520" y="153"/>
                    </a:cubicBezTo>
                  </a:path>
                </a:pathLst>
              </a:cu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6200000">
                <a:off x="6257880" y="5807160"/>
                <a:ext cx="440280" cy="517320"/>
              </a:xfrm>
              <a:custGeom>
                <a:avLst/>
                <a:gdLst/>
                <a:ahLst/>
                <a:rect l="l" t="t" r="r" b="b"/>
                <a:pathLst>
                  <a:path w="520" h="381">
                    <a:moveTo>
                      <a:pt x="0" y="185"/>
                    </a:moveTo>
                    <a:cubicBezTo>
                      <a:pt x="46" y="93"/>
                      <a:pt x="92" y="2"/>
                      <a:pt x="136" y="1"/>
                    </a:cubicBezTo>
                    <a:cubicBezTo>
                      <a:pt x="180" y="0"/>
                      <a:pt x="221" y="114"/>
                      <a:pt x="264" y="177"/>
                    </a:cubicBezTo>
                    <a:cubicBezTo>
                      <a:pt x="307" y="240"/>
                      <a:pt x="349" y="381"/>
                      <a:pt x="392" y="377"/>
                    </a:cubicBezTo>
                    <a:cubicBezTo>
                      <a:pt x="435" y="373"/>
                      <a:pt x="497" y="193"/>
                      <a:pt x="520" y="153"/>
                    </a:cubicBezTo>
                  </a:path>
                </a:pathLst>
              </a:cu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"/>
          <p:cNvSpPr/>
          <p:nvPr/>
        </p:nvSpPr>
        <p:spPr>
          <a:xfrm>
            <a:off x="5597640" y="565776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759720" y="5656320"/>
            <a:ext cx="56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2520" y="571644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12000" y="5346720"/>
            <a:ext cx="28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m - corrente de modu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m - potencia de modulaçã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950840" y="2612880"/>
            <a:ext cx="239868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2039400">
            <a:off x="1807920" y="1933200"/>
            <a:ext cx="1984320" cy="888840"/>
          </a:xfrm>
          <a:prstGeom prst="parallelogram">
            <a:avLst>
              <a:gd name="adj" fmla="val 55812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62440" y="3009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1520" y="2556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31960" y="2187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1960" y="2492280"/>
            <a:ext cx="1230480" cy="82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2962440" y="2860560"/>
            <a:ext cx="91908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31960" y="2340000"/>
            <a:ext cx="1230480" cy="82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2962440" y="2707920"/>
            <a:ext cx="919080" cy="45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9757400">
            <a:off x="3292200" y="2897280"/>
            <a:ext cx="234720" cy="95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2205000">
            <a:off x="3377880" y="2962440"/>
            <a:ext cx="515880" cy="269640"/>
          </a:xfrm>
          <a:custGeom>
            <a:avLst/>
            <a:gdLst>
              <a:gd name="textAreaLeft" fmla="*/ 80640 w 515880"/>
              <a:gd name="textAreaRight" fmla="*/ 451440 w 51588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 rot="2209200">
            <a:off x="1788840" y="1855080"/>
            <a:ext cx="328680" cy="95400"/>
          </a:xfrm>
          <a:custGeom>
            <a:avLst/>
            <a:gdLst>
              <a:gd name="textAreaLeft" fmla="*/ 51120 w 328680"/>
              <a:gd name="textAreaRight" fmla="*/ 287640 w 328680"/>
              <a:gd name="textAreaTop" fmla="*/ 23760 h 95400"/>
              <a:gd name="textAreaBottom" fmla="*/ 71640 h 95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31840" y="316872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10480" y="14446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38600" y="1547640"/>
            <a:ext cx="523800" cy="650880"/>
          </a:xfrm>
          <a:custGeom>
            <a:avLst/>
            <a:gdLst/>
            <a:ahLst/>
            <a:rect l="l" t="t" r="r" b="b"/>
            <a:pathLst>
              <a:path w="330" h="410">
                <a:moveTo>
                  <a:pt x="0" y="410"/>
                </a:moveTo>
                <a:cubicBezTo>
                  <a:pt x="32" y="279"/>
                  <a:pt x="65" y="148"/>
                  <a:pt x="120" y="80"/>
                </a:cubicBezTo>
                <a:cubicBezTo>
                  <a:pt x="175" y="12"/>
                  <a:pt x="297" y="13"/>
                  <a:pt x="3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25560" y="2092320"/>
            <a:ext cx="193680" cy="127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84760" y="167796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174680" y="3333600"/>
            <a:ext cx="79236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25840" y="30798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909960" y="2340000"/>
            <a:ext cx="43992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68600" y="2187720"/>
            <a:ext cx="87480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59160" y="2235240"/>
            <a:ext cx="874440" cy="59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2471760" y="2195280"/>
            <a:ext cx="9828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78600" y="4284720"/>
            <a:ext cx="2081160" cy="900000"/>
          </a:xfrm>
          <a:custGeom>
            <a:avLst/>
            <a:gdLst/>
            <a:ahLst/>
            <a:rect l="l" t="t" r="r" b="b"/>
            <a:pathLst>
              <a:path w="1311" h="515">
                <a:moveTo>
                  <a:pt x="0" y="515"/>
                </a:moveTo>
                <a:cubicBezTo>
                  <a:pt x="166" y="508"/>
                  <a:pt x="332" y="502"/>
                  <a:pt x="488" y="463"/>
                </a:cubicBezTo>
                <a:cubicBezTo>
                  <a:pt x="644" y="424"/>
                  <a:pt x="797" y="360"/>
                  <a:pt x="934" y="283"/>
                </a:cubicBezTo>
                <a:cubicBezTo>
                  <a:pt x="1071" y="206"/>
                  <a:pt x="1248" y="47"/>
                  <a:pt x="1311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6513120" y="2370240"/>
            <a:ext cx="1978200" cy="9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2039400">
            <a:off x="6330600" y="1802880"/>
            <a:ext cx="1530360" cy="814680"/>
          </a:xfrm>
          <a:prstGeom prst="parallelogram">
            <a:avLst>
              <a:gd name="adj" fmla="val 5468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32680" y="273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964640" y="231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9960" y="21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69040" y="2449440"/>
            <a:ext cx="86364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132680" y="2588760"/>
            <a:ext cx="91908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53200" y="2281320"/>
            <a:ext cx="86508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7132680" y="2460600"/>
            <a:ext cx="83340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1760" y="1211400"/>
            <a:ext cx="5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985720" y="1517760"/>
            <a:ext cx="523800" cy="650880"/>
          </a:xfrm>
          <a:custGeom>
            <a:avLst/>
            <a:gdLst/>
            <a:ahLst/>
            <a:rect l="l" t="t" r="r" b="b"/>
            <a:pathLst>
              <a:path w="330" h="410">
                <a:moveTo>
                  <a:pt x="0" y="410"/>
                </a:moveTo>
                <a:cubicBezTo>
                  <a:pt x="32" y="279"/>
                  <a:pt x="65" y="148"/>
                  <a:pt x="120" y="80"/>
                </a:cubicBezTo>
                <a:cubicBezTo>
                  <a:pt x="175" y="12"/>
                  <a:pt x="297" y="13"/>
                  <a:pt x="3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27800" y="2116080"/>
            <a:ext cx="193680" cy="127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93240" y="174636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to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42000" y="2889360"/>
            <a:ext cx="7920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2360" y="28242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to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86440" y="2048040"/>
            <a:ext cx="520920" cy="3124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rot="5438400">
            <a:off x="6854400" y="1806120"/>
            <a:ext cx="571680" cy="285840"/>
          </a:xfrm>
          <a:custGeom>
            <a:avLst/>
            <a:gdLst>
              <a:gd name="textAreaLeft" fmla="*/ 89280 w 571680"/>
              <a:gd name="textAreaRight" fmla="*/ 500400 w 57168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232680" y="2317680"/>
            <a:ext cx="907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128000" y="2498760"/>
            <a:ext cx="83340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53920" y="34862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15160" y="2809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rot="2039400">
            <a:off x="1282320" y="2779200"/>
            <a:ext cx="1604880" cy="755640"/>
          </a:xfrm>
          <a:prstGeom prst="parallelogram">
            <a:avLst>
              <a:gd name="adj" fmla="val 5309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16160" y="36957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960640" y="330840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20760" y="299556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20760" y="3254400"/>
            <a:ext cx="99540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216160" y="3568680"/>
            <a:ext cx="74448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20760" y="3125880"/>
            <a:ext cx="995400" cy="69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216160" y="3438360"/>
            <a:ext cx="744480" cy="38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9757400">
            <a:off x="2482920" y="3598920"/>
            <a:ext cx="190440" cy="81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0640" y="2525760"/>
            <a:ext cx="422280" cy="554040"/>
          </a:xfrm>
          <a:custGeom>
            <a:avLst/>
            <a:gdLst/>
            <a:ahLst/>
            <a:rect l="l" t="t" r="r" b="b"/>
            <a:pathLst>
              <a:path w="330" h="410">
                <a:moveTo>
                  <a:pt x="0" y="410"/>
                </a:moveTo>
                <a:cubicBezTo>
                  <a:pt x="32" y="279"/>
                  <a:pt x="65" y="148"/>
                  <a:pt x="120" y="80"/>
                </a:cubicBezTo>
                <a:cubicBezTo>
                  <a:pt x="175" y="12"/>
                  <a:pt x="297" y="13"/>
                  <a:pt x="3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982880" y="3003480"/>
            <a:ext cx="156960" cy="108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36600" y="863640"/>
            <a:ext cx="64231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71680"/>
                <a:tab algn="l" pos="1333440"/>
                <a:tab algn="l" pos="2095560"/>
                <a:tab algn="l" pos="2666880"/>
                <a:tab algn="l" pos="2762280"/>
                <a:tab algn="l" pos="285768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aser Semicondutor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71680"/>
                <a:tab algn="l" pos="1333440"/>
                <a:tab algn="l" pos="2095560"/>
                <a:tab algn="l" pos="2666880"/>
                <a:tab algn="l" pos="2762280"/>
                <a:tab algn="l" pos="285768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Emission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71680"/>
                <a:tab algn="l" pos="1333440"/>
                <a:tab algn="l" pos="2095560"/>
                <a:tab algn="l" pos="2666880"/>
                <a:tab algn="l" pos="2762280"/>
                <a:tab algn="l" pos="285768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Coupling with Fibre Op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370400" y="54705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49720" y="5465880"/>
            <a:ext cx="0" cy="25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6720" y="5226120"/>
            <a:ext cx="596880" cy="216000"/>
          </a:xfrm>
          <a:prstGeom prst="rect">
            <a:avLst/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65800" y="5470560"/>
            <a:ext cx="55872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42000" y="5172120"/>
            <a:ext cx="1863720" cy="216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32520" y="5172120"/>
            <a:ext cx="1054080" cy="21600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7960" y="5470560"/>
            <a:ext cx="229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488360" y="5477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13400" y="5172120"/>
            <a:ext cx="1739880" cy="291960"/>
          </a:xfrm>
          <a:prstGeom prst="rect">
            <a:avLst/>
          </a:prstGeom>
          <a:solidFill>
            <a:srgbClr val="b2b2b2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338720" y="493236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13880" y="5181480"/>
            <a:ext cx="63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So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71360" y="5573880"/>
            <a:ext cx="1533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Bloco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suporte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Si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34200" y="4707000"/>
            <a:ext cx="175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Fibra c/ Microl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272200" y="4829040"/>
            <a:ext cx="164880" cy="33048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57640" y="5699160"/>
            <a:ext cx="1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63920" y="54770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287960" y="54770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305240" y="5535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215960" y="54817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211640" y="5477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18120" y="5851440"/>
            <a:ext cx="32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4960" y="5973840"/>
            <a:ext cx="63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Arial"/>
              </a:rPr>
              <a:t>Sol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527360" y="5522760"/>
            <a:ext cx="317160" cy="59688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09400" y="3235320"/>
            <a:ext cx="239868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592360" y="3619800"/>
            <a:ext cx="1343880" cy="1208880"/>
            <a:chOff x="2592360" y="3619800"/>
            <a:chExt cx="1343880" cy="1208880"/>
          </a:xfrm>
        </p:grpSpPr>
        <p:sp>
          <p:nvSpPr>
            <p:cNvPr id="493" name=""/>
            <p:cNvSpPr/>
            <p:nvPr/>
          </p:nvSpPr>
          <p:spPr>
            <a:xfrm rot="105000">
              <a:off x="3476520" y="3830400"/>
              <a:ext cx="320040" cy="957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44560" y="3619800"/>
              <a:ext cx="1018800" cy="218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2360" y="3636720"/>
              <a:ext cx="1047600" cy="1138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3640320" y="3723120"/>
              <a:ext cx="33840" cy="11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454200" y="4164120"/>
              <a:ext cx="43596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44920" y="3637800"/>
              <a:ext cx="1291320" cy="86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459160" y="24130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49440" y="3954600"/>
            <a:ext cx="7920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068480" y="36925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84720" y="547848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fiblsr2" descr=""/>
          <p:cNvPicPr/>
          <p:nvPr/>
        </p:nvPicPr>
        <p:blipFill>
          <a:blip r:embed="rId2"/>
          <a:stretch/>
        </p:blipFill>
        <p:spPr>
          <a:xfrm>
            <a:off x="4975200" y="2443320"/>
            <a:ext cx="2711520" cy="20332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1139400" y="5059440"/>
            <a:ext cx="1870920" cy="8240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Laser F-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Laser DF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Laser Ext. Ca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760400" y="4278240"/>
            <a:ext cx="4957920" cy="155520"/>
          </a:xfrm>
          <a:prstGeom prst="rect">
            <a:avLst/>
          </a:prstGeom>
          <a:solidFill>
            <a:srgbClr val="618ffd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70160" y="3233880"/>
            <a:ext cx="3708360" cy="1035000"/>
          </a:xfrm>
          <a:prstGeom prst="rect">
            <a:avLst/>
          </a:prstGeom>
          <a:solidFill>
            <a:srgbClr val="00cc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89280" y="4278240"/>
            <a:ext cx="242640" cy="155520"/>
          </a:xfrm>
          <a:prstGeom prst="rect">
            <a:avLst/>
          </a:prstGeom>
          <a:solidFill>
            <a:srgbClr val="618ffd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46800" y="4278240"/>
            <a:ext cx="244440" cy="155520"/>
          </a:xfrm>
          <a:prstGeom prst="rect">
            <a:avLst/>
          </a:prstGeom>
          <a:solidFill>
            <a:srgbClr val="618ffd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0360" y="4168800"/>
            <a:ext cx="145404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70360" y="3782880"/>
            <a:ext cx="1199880" cy="10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87680" y="3487680"/>
            <a:ext cx="166680" cy="155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98880" y="3454560"/>
            <a:ext cx="1792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43640" y="3487680"/>
            <a:ext cx="180720" cy="1555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27440" y="3487680"/>
            <a:ext cx="1810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8040" y="3487680"/>
            <a:ext cx="1810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110200" y="3487680"/>
            <a:ext cx="18108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392200" y="3233880"/>
            <a:ext cx="0" cy="1035000"/>
          </a:xfrm>
          <a:prstGeom prst="line">
            <a:avLst/>
          </a:prstGeom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67280" y="3246480"/>
            <a:ext cx="0" cy="1035000"/>
          </a:xfrm>
          <a:prstGeom prst="line">
            <a:avLst/>
          </a:prstGeom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52840" y="3508200"/>
            <a:ext cx="5220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181400" y="3508200"/>
            <a:ext cx="5256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72000" y="3508200"/>
            <a:ext cx="5220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62240" y="3508200"/>
            <a:ext cx="5256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9360" y="3508200"/>
            <a:ext cx="5400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708520" y="3508200"/>
            <a:ext cx="5400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99120" y="3508200"/>
            <a:ext cx="55440" cy="46080"/>
          </a:xfrm>
          <a:prstGeom prst="rect">
            <a:avLst/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44720" y="3673440"/>
            <a:ext cx="1454400" cy="10152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33720" y="3564000"/>
            <a:ext cx="1200240" cy="100080"/>
          </a:xfrm>
          <a:prstGeom prst="rect">
            <a:avLst/>
          </a:prstGeom>
          <a:solidFill>
            <a:srgbClr val="00279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25640" y="3352680"/>
            <a:ext cx="10008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654280" y="3510000"/>
            <a:ext cx="371160" cy="10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75445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7544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01960" y="3402000"/>
            <a:ext cx="0" cy="20304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2400" y="3568680"/>
            <a:ext cx="0" cy="36360"/>
          </a:xfrm>
          <a:prstGeom prst="line">
            <a:avLst/>
          </a:prstGeom>
          <a:ln w="255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84640" y="3576600"/>
            <a:ext cx="0" cy="19080"/>
          </a:xfrm>
          <a:prstGeom prst="line">
            <a:avLst/>
          </a:prstGeom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89320" y="3508200"/>
            <a:ext cx="43488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79760" y="3508200"/>
            <a:ext cx="627120" cy="460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06760" y="3503520"/>
            <a:ext cx="573120" cy="0"/>
          </a:xfrm>
          <a:prstGeom prst="line">
            <a:avLst/>
          </a:prstGeom>
          <a:ln w="7632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11480" y="3457440"/>
            <a:ext cx="141480" cy="9684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009960" y="3067560"/>
            <a:ext cx="2587320" cy="1091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70520" y="3589200"/>
            <a:ext cx="179280" cy="74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76480" y="4273560"/>
            <a:ext cx="14446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6480" y="3780000"/>
            <a:ext cx="118764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040200" y="3668760"/>
            <a:ext cx="106020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49520" y="5653080"/>
            <a:ext cx="5194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Monotype Sorts"/>
                <a:ea typeface="Monotype Sorts"/>
              </a:rPr>
              <a:t>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todas as interfaces de montagem com </a:t>
            </a:r>
            <a:r>
              <a:rPr b="0" lang="en-US" sz="1600" spc="-1" strike="noStrike" u="sng">
                <a:solidFill>
                  <a:srgbClr val="808080"/>
                </a:solidFill>
                <a:uFillTx/>
                <a:latin typeface="Arial"/>
              </a:rPr>
              <a:t>solda metá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30840" y="229716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3220920" y="2685600"/>
            <a:ext cx="127080" cy="6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4720" y="2509920"/>
            <a:ext cx="121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Fotodet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22600" y="2817720"/>
            <a:ext cx="237960" cy="52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10240" y="2496960"/>
            <a:ext cx="1851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Fibra c/ Micro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3449520" y="2795760"/>
            <a:ext cx="596880" cy="622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92120" y="4878360"/>
            <a:ext cx="2188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Refriger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ermoelétrico (Pelti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463560" y="4205160"/>
            <a:ext cx="165240" cy="696960"/>
          </a:xfrm>
          <a:prstGeom prst="line">
            <a:avLst/>
          </a:prstGeom>
          <a:ln w="1908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65080" y="4741920"/>
            <a:ext cx="131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lacas de 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95040" y="4680000"/>
            <a:ext cx="1037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Term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62400" y="3678120"/>
            <a:ext cx="609480" cy="1027080"/>
          </a:xfrm>
          <a:prstGeom prst="line">
            <a:avLst/>
          </a:prstGeom>
          <a:ln w="1908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57000" y="3741840"/>
            <a:ext cx="444600" cy="1028520"/>
          </a:xfrm>
          <a:prstGeom prst="line">
            <a:avLst/>
          </a:prstGeom>
          <a:ln w="1908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5600" y="4484520"/>
            <a:ext cx="241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Cápsula Butterfly (kov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402000" y="3892680"/>
            <a:ext cx="277560" cy="253800"/>
            <a:chOff x="3402000" y="3892680"/>
            <a:chExt cx="277560" cy="253800"/>
          </a:xfrm>
        </p:grpSpPr>
        <p:sp>
          <p:nvSpPr>
            <p:cNvPr id="557" name=""/>
            <p:cNvSpPr/>
            <p:nvPr/>
          </p:nvSpPr>
          <p:spPr>
            <a:xfrm>
              <a:off x="3402000" y="3892680"/>
              <a:ext cx="9108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88120" y="3892680"/>
              <a:ext cx="9144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3795840" y="3892680"/>
            <a:ext cx="277200" cy="253800"/>
            <a:chOff x="3795840" y="3892680"/>
            <a:chExt cx="277200" cy="253800"/>
          </a:xfrm>
        </p:grpSpPr>
        <p:sp>
          <p:nvSpPr>
            <p:cNvPr id="560" name=""/>
            <p:cNvSpPr/>
            <p:nvPr/>
          </p:nvSpPr>
          <p:spPr>
            <a:xfrm>
              <a:off x="3795840" y="3892680"/>
              <a:ext cx="9072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81600" y="3892680"/>
              <a:ext cx="9144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021120" y="3892680"/>
            <a:ext cx="277200" cy="253800"/>
            <a:chOff x="3021120" y="3892680"/>
            <a:chExt cx="277200" cy="253800"/>
          </a:xfrm>
        </p:grpSpPr>
        <p:sp>
          <p:nvSpPr>
            <p:cNvPr id="563" name=""/>
            <p:cNvSpPr/>
            <p:nvPr/>
          </p:nvSpPr>
          <p:spPr>
            <a:xfrm>
              <a:off x="3021120" y="3892680"/>
              <a:ext cx="9072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206880" y="3892680"/>
              <a:ext cx="91440" cy="253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5861160" y="3233880"/>
            <a:ext cx="137880" cy="104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86280" y="3406680"/>
            <a:ext cx="1263960" cy="247680"/>
          </a:xfrm>
          <a:prstGeom prst="rect">
            <a:avLst/>
          </a:prstGeom>
          <a:solidFill>
            <a:srgbClr val="618ffd"/>
          </a:solidFill>
          <a:ln w="1260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271600" y="3240000"/>
            <a:ext cx="138240" cy="1044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04480" y="894960"/>
            <a:ext cx="78454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Bookman Old Style"/>
              </a:rPr>
              <a:t>Dispositivos Optoeletronicos </a:t>
            </a:r>
            <a:br>
              <a:rPr sz="2600"/>
            </a:br>
            <a:r>
              <a:rPr b="1" i="1" lang="pt-BR" sz="26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i="1" lang="pt-BR" sz="2200" spc="-1" strike="noStrike">
                <a:solidFill>
                  <a:srgbClr val="cc0000"/>
                </a:solidFill>
                <a:latin typeface="Bookman Old Style"/>
              </a:rPr>
              <a:t>High performance packaging 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79760" y="3508200"/>
            <a:ext cx="2919600" cy="46080"/>
          </a:xfrm>
          <a:prstGeom prst="rect">
            <a:avLst/>
          </a:prstGeom>
          <a:solidFill>
            <a:srgbClr val="eaec5e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30960" y="3471840"/>
            <a:ext cx="1928880" cy="125280"/>
          </a:xfrm>
          <a:prstGeom prst="rect">
            <a:avLst/>
          </a:prstGeom>
          <a:solidFill>
            <a:srgbClr val="ffcc66"/>
          </a:solidFill>
          <a:ln w="12600">
            <a:solidFill>
              <a:srgbClr val="b3b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6404040" y="3782880"/>
            <a:ext cx="1863720" cy="150840"/>
          </a:xfrm>
          <a:prstGeom prst="rect">
            <a:avLst/>
          </a:prstGeom>
          <a:solidFill>
            <a:srgbClr val="ffcc66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2720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ecnologia Dispositivos Optoeletronicos</a:t>
            </a:r>
            <a:br>
              <a:rPr sz="2600"/>
            </a:b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cc0000"/>
                </a:solidFill>
                <a:latin typeface="Arial"/>
              </a:rPr>
              <a:t>High performance packaging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37000" y="5413320"/>
            <a:ext cx="1851840" cy="33228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99"/>
                </a:solidFill>
                <a:latin typeface="Arial"/>
              </a:rPr>
              <a:t>Fibra c/ Microl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1480" y="2043000"/>
            <a:ext cx="751320" cy="36324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019120" y="5291280"/>
            <a:ext cx="1037880" cy="33228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99"/>
                </a:solidFill>
                <a:latin typeface="Arial"/>
              </a:rPr>
              <a:t>Term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60120" y="3349800"/>
            <a:ext cx="1217880" cy="54540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Fotodet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0000"/>
                </a:solidFill>
                <a:latin typeface="Arial"/>
              </a:rPr>
              <a:t>monitor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60600" y="2897280"/>
            <a:ext cx="3930840" cy="19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68480" y="2897280"/>
            <a:ext cx="3114720" cy="1935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05280" y="3030480"/>
            <a:ext cx="2841480" cy="166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27200" y="4373640"/>
            <a:ext cx="262080" cy="287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27200" y="3030480"/>
            <a:ext cx="26208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062760" y="4373640"/>
            <a:ext cx="258840" cy="287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62760" y="3030480"/>
            <a:ext cx="258840" cy="289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20184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0184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1008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4840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1008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016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3228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017960" y="2627280"/>
            <a:ext cx="0" cy="27324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24400" y="2627280"/>
            <a:ext cx="0" cy="27324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2440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3228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017960" y="4843440"/>
            <a:ext cx="0" cy="287280"/>
          </a:xfrm>
          <a:prstGeom prst="line">
            <a:avLst/>
          </a:prstGeom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24016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648400" y="484344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91120" y="3701880"/>
            <a:ext cx="1212840" cy="32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22920" y="3701880"/>
            <a:ext cx="123840" cy="32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363920" y="4575240"/>
            <a:ext cx="12384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38480" y="4575240"/>
            <a:ext cx="12528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46360" y="4575240"/>
            <a:ext cx="12564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56040" y="4575240"/>
            <a:ext cx="12384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70360" y="4575240"/>
            <a:ext cx="12564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586480" y="4575240"/>
            <a:ext cx="12384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178600" y="4575240"/>
            <a:ext cx="123480" cy="12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38480" y="3030480"/>
            <a:ext cx="12528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546360" y="3030480"/>
            <a:ext cx="12564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770360" y="3030480"/>
            <a:ext cx="12564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56040" y="3030480"/>
            <a:ext cx="12384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586480" y="3030480"/>
            <a:ext cx="12384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178600" y="3030480"/>
            <a:ext cx="12348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63920" y="3030480"/>
            <a:ext cx="123840" cy="1238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170160" y="3232080"/>
            <a:ext cx="1928880" cy="1265400"/>
          </a:xfrm>
          <a:prstGeom prst="rect">
            <a:avLst/>
          </a:prstGeom>
          <a:solidFill>
            <a:srgbClr val="f8f8f8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411360" y="3701880"/>
            <a:ext cx="1416240" cy="325440"/>
          </a:xfrm>
          <a:prstGeom prst="rect">
            <a:avLst/>
          </a:prstGeom>
          <a:solidFill>
            <a:srgbClr val="618ffd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541680" y="3708360"/>
            <a:ext cx="0" cy="312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676680" y="3708360"/>
            <a:ext cx="0" cy="312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46360" y="3803760"/>
            <a:ext cx="130320" cy="1285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56040" y="3836880"/>
            <a:ext cx="1754280" cy="5580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16280" y="3836880"/>
            <a:ext cx="397080" cy="55800"/>
          </a:xfrm>
          <a:prstGeom prst="ellipse">
            <a:avLst/>
          </a:prstGeom>
          <a:solidFill>
            <a:srgbClr val="fafd00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21120" y="3768840"/>
            <a:ext cx="803160" cy="190440"/>
          </a:xfrm>
          <a:prstGeom prst="rect">
            <a:avLst/>
          </a:prstGeom>
          <a:solidFill>
            <a:srgbClr val="919191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479760" y="4105440"/>
            <a:ext cx="260280" cy="392040"/>
          </a:xfrm>
          <a:prstGeom prst="rect">
            <a:avLst/>
          </a:prstGeom>
          <a:solidFill>
            <a:srgbClr val="00279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46360" y="4105440"/>
            <a:ext cx="125640" cy="392040"/>
          </a:xfrm>
          <a:prstGeom prst="rect">
            <a:avLst/>
          </a:prstGeom>
          <a:solidFill>
            <a:srgbClr val="eaec5e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46360" y="4238640"/>
            <a:ext cx="125640" cy="123840"/>
          </a:xfrm>
          <a:prstGeom prst="rect">
            <a:avLst/>
          </a:prstGeom>
          <a:solidFill>
            <a:srgbClr val="618ffd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10080" y="4457880"/>
            <a:ext cx="0" cy="15696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10080" y="3987720"/>
            <a:ext cx="0" cy="15732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017960" y="3114720"/>
            <a:ext cx="0" cy="15696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17960" y="4457880"/>
            <a:ext cx="0" cy="15696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637160" y="4272120"/>
            <a:ext cx="191880" cy="190440"/>
          </a:xfrm>
          <a:prstGeom prst="rect">
            <a:avLst/>
          </a:prstGeom>
          <a:solidFill>
            <a:srgbClr val="b2b2b2"/>
          </a:solidFill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759200" y="4307040"/>
            <a:ext cx="444600" cy="29196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73800" y="2835000"/>
            <a:ext cx="1063080" cy="5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915045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915045"/>
              </a:path>
            </a:pathLst>
          </a:custGeom>
          <a:noFill/>
          <a:ln cap="rnd"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5040" y="4379760"/>
            <a:ext cx="1221840" cy="5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94840" y="3422520"/>
            <a:ext cx="95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66cc"/>
                </a:solidFill>
                <a:latin typeface="Arial"/>
              </a:rPr>
              <a:t>Si metali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70240" y="3772080"/>
            <a:ext cx="0" cy="1126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960000">
            <a:off x="2813040" y="3115800"/>
            <a:ext cx="4028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3" y="0"/>
                </a:moveTo>
                <a:arcTo wR="10800" hR="10800" stAng="-5424467" swAng="5424467"/>
                <a:lnTo>
                  <a:pt x="10800" y="10800"/>
                </a:lnTo>
                <a:close/>
              </a:path>
              <a:path fill="none" w="21600" h="21600">
                <a:moveTo>
                  <a:pt x="10723" y="0"/>
                </a:moveTo>
                <a:arcTo wR="10800" hR="10800" stAng="-5424467" swAng="5424467"/>
              </a:path>
            </a:pathLst>
          </a:custGeom>
          <a:noFill/>
          <a:ln cap="rnd"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020000">
            <a:off x="2800800" y="3913560"/>
            <a:ext cx="380520" cy="122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0" y="0"/>
                </a:moveTo>
                <a:arcTo wR="10800" hR="10800" stAng="-542537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720" y="0"/>
                </a:moveTo>
                <a:arcTo wR="10800" hR="10800" stAng="-5425370" swAng="5425370"/>
              </a:path>
            </a:pathLst>
          </a:custGeom>
          <a:noFill/>
          <a:ln cap="rnd"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98600" y="3699000"/>
            <a:ext cx="804960" cy="12384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660840" y="2425680"/>
            <a:ext cx="233280" cy="12621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11760" y="4448160"/>
            <a:ext cx="349200" cy="835200"/>
          </a:xfrm>
          <a:prstGeom prst="line">
            <a:avLst/>
          </a:prstGeom>
          <a:ln w="1908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786120" y="3954600"/>
            <a:ext cx="152640" cy="1438200"/>
          </a:xfrm>
          <a:prstGeom prst="line">
            <a:avLst/>
          </a:prstGeom>
          <a:ln w="19080">
            <a:solidFill>
              <a:srgbClr val="00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58200" y="4052880"/>
            <a:ext cx="699840" cy="33228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bra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46680" y="3254400"/>
            <a:ext cx="0" cy="122544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62240" y="3720960"/>
            <a:ext cx="165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55840" y="3760920"/>
            <a:ext cx="74880" cy="207720"/>
          </a:xfrm>
          <a:prstGeom prst="rect">
            <a:avLst/>
          </a:prstGeom>
          <a:solidFill>
            <a:srgbClr val="00279f"/>
          </a:solidFill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98960" y="3306600"/>
            <a:ext cx="8892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98960" y="4336920"/>
            <a:ext cx="88920" cy="88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4338720" y="4606920"/>
            <a:ext cx="885600" cy="306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973960" y="2989440"/>
            <a:ext cx="1754280" cy="36324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asers e Fi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wdmpack40G-b" descr=""/>
          <p:cNvPicPr/>
          <p:nvPr/>
        </p:nvPicPr>
        <p:blipFill>
          <a:blip r:embed="rId3"/>
          <a:stretch/>
        </p:blipFill>
        <p:spPr>
          <a:xfrm>
            <a:off x="1986120" y="3616200"/>
            <a:ext cx="2776320" cy="20811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 flipH="1">
            <a:off x="2944440" y="3478320"/>
            <a:ext cx="328680" cy="1368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90680" y="2658960"/>
            <a:ext cx="2217600" cy="942120"/>
          </a:xfrm>
          <a:prstGeom prst="rect">
            <a:avLst/>
          </a:prstGeom>
          <a:noFill/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cc"/>
                </a:solidFill>
                <a:latin typeface="Arial"/>
              </a:rPr>
              <a:t>Encapsu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cc"/>
                </a:solidFill>
                <a:latin typeface="Arial"/>
              </a:rPr>
              <a:t>4x Lasers D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cc"/>
                </a:solidFill>
                <a:latin typeface="Arial"/>
              </a:rPr>
              <a:t>( para 10 Gb/s cada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54080" y="944640"/>
            <a:ext cx="64231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71680"/>
                <a:tab algn="l" pos="1333440"/>
                <a:tab algn="l" pos="2095560"/>
                <a:tab algn="l" pos="2666880"/>
                <a:tab algn="l" pos="2762280"/>
                <a:tab algn="l" pos="285768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Laser Semicondutor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571680"/>
                <a:tab algn="l" pos="1333440"/>
                <a:tab algn="l" pos="2095560"/>
                <a:tab algn="l" pos="2666880"/>
                <a:tab algn="l" pos="2762280"/>
                <a:tab algn="l" pos="2857680"/>
                <a:tab algn="l" pos="314316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Packaging with Optical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LaserButtfly" descr=""/>
          <p:cNvPicPr/>
          <p:nvPr/>
        </p:nvPicPr>
        <p:blipFill>
          <a:blip r:embed="rId4"/>
          <a:stretch/>
        </p:blipFill>
        <p:spPr>
          <a:xfrm>
            <a:off x="4970520" y="1957320"/>
            <a:ext cx="3908520" cy="2449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flipH="1">
            <a:off x="3691080" y="3489480"/>
            <a:ext cx="328320" cy="1368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3642840" y="3351240"/>
            <a:ext cx="328680" cy="1368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906280" y="3313080"/>
            <a:ext cx="328680" cy="136836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LaserButtfly-detlh" descr=""/>
          <p:cNvPicPr/>
          <p:nvPr/>
        </p:nvPicPr>
        <p:blipFill>
          <a:blip r:embed="rId5"/>
          <a:stretch/>
        </p:blipFill>
        <p:spPr>
          <a:xfrm>
            <a:off x="5910120" y="4049640"/>
            <a:ext cx="2605320" cy="22129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697280" y="3365640"/>
            <a:ext cx="3164040" cy="178092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67320" y="3375000"/>
            <a:ext cx="2352600" cy="161280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46040" y="2835360"/>
            <a:ext cx="2398680" cy="119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35200" y="958680"/>
            <a:ext cx="5283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Fotodetetor P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rot="2039400">
            <a:off x="2455560" y="2297160"/>
            <a:ext cx="1530360" cy="814320"/>
          </a:xfrm>
          <a:prstGeom prst="parallelogram">
            <a:avLst>
              <a:gd name="adj" fmla="val 5470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257640" y="3232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89240" y="281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74920" y="263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94000" y="2943360"/>
            <a:ext cx="863640" cy="59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257640" y="3082680"/>
            <a:ext cx="919080" cy="45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8160" y="2774880"/>
            <a:ext cx="865080" cy="5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3257640" y="2954160"/>
            <a:ext cx="83340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63080" y="1538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52760" y="2610000"/>
            <a:ext cx="193680" cy="126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97000" y="199872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486080" y="3571920"/>
            <a:ext cx="79200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35280" y="33796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to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205160" y="2562120"/>
            <a:ext cx="439920" cy="35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34040" y="214308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nção p-i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19680" y="3602160"/>
            <a:ext cx="0" cy="1681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719680" y="5273640"/>
            <a:ext cx="202248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6120" y="4591080"/>
            <a:ext cx="0" cy="159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630840" y="421812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835240" y="4194000"/>
            <a:ext cx="2141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772240" y="4587840"/>
            <a:ext cx="195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732640" y="4395960"/>
            <a:ext cx="2444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08800" y="438624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74840" y="3348000"/>
            <a:ext cx="96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64400" y="4197240"/>
            <a:ext cx="720720" cy="390240"/>
            <a:chOff x="6764400" y="4197240"/>
            <a:chExt cx="720720" cy="390240"/>
          </a:xfrm>
        </p:grpSpPr>
        <p:sp>
          <p:nvSpPr>
            <p:cNvPr id="694" name=""/>
            <p:cNvSpPr/>
            <p:nvPr/>
          </p:nvSpPr>
          <p:spPr>
            <a:xfrm>
              <a:off x="7121520" y="4197240"/>
              <a:ext cx="363600" cy="38016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64400" y="4207320"/>
              <a:ext cx="363600" cy="38016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6392880" y="5311440"/>
            <a:ext cx="247680" cy="873000"/>
            <a:chOff x="6392880" y="5311440"/>
            <a:chExt cx="247680" cy="873000"/>
          </a:xfrm>
        </p:grpSpPr>
        <p:sp>
          <p:nvSpPr>
            <p:cNvPr id="697" name=""/>
            <p:cNvSpPr/>
            <p:nvPr/>
          </p:nvSpPr>
          <p:spPr>
            <a:xfrm rot="16200000">
              <a:off x="6293160" y="5410800"/>
              <a:ext cx="440280" cy="24120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6200000">
              <a:off x="6299640" y="5843520"/>
              <a:ext cx="440280" cy="241200"/>
            </a:xfrm>
            <a:custGeom>
              <a:avLst/>
              <a:gdLst/>
              <a:ahLst/>
              <a:rect l="l" t="t" r="r" b="b"/>
              <a:pathLst>
                <a:path w="520" h="381">
                  <a:moveTo>
                    <a:pt x="0" y="185"/>
                  </a:moveTo>
                  <a:cubicBezTo>
                    <a:pt x="46" y="93"/>
                    <a:pt x="92" y="2"/>
                    <a:pt x="136" y="1"/>
                  </a:cubicBezTo>
                  <a:cubicBezTo>
                    <a:pt x="180" y="0"/>
                    <a:pt x="221" y="114"/>
                    <a:pt x="264" y="177"/>
                  </a:cubicBezTo>
                  <a:cubicBezTo>
                    <a:pt x="307" y="240"/>
                    <a:pt x="349" y="381"/>
                    <a:pt x="392" y="377"/>
                  </a:cubicBezTo>
                  <a:cubicBezTo>
                    <a:pt x="435" y="373"/>
                    <a:pt x="497" y="193"/>
                    <a:pt x="520" y="153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794280" y="33591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sa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485120" y="3905280"/>
            <a:ext cx="0" cy="284040"/>
          </a:xfrm>
          <a:prstGeom prst="line">
            <a:avLst/>
          </a:prstGeom>
          <a:ln w="12600">
            <a:solidFill>
              <a:srgbClr val="5f5f5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500960" y="4632480"/>
            <a:ext cx="0" cy="28548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92200" y="488160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48440" y="5105520"/>
            <a:ext cx="23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638400" y="5108400"/>
            <a:ext cx="23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08920" y="3770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70520" y="5262480"/>
            <a:ext cx="392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s - fotocorrente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o - fotocorrente de quiescencia (ala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s - potencia de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 - potencia DC sem sinal (alar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11400" y="2541600"/>
            <a:ext cx="520920" cy="312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 rot="16161600">
            <a:off x="2958120" y="2037960"/>
            <a:ext cx="585720" cy="339840"/>
          </a:xfrm>
          <a:custGeom>
            <a:avLst/>
            <a:gdLst>
              <a:gd name="textAreaLeft" fmla="*/ 91080 w 585720"/>
              <a:gd name="textAreaRight" fmla="*/ 512280 w 585720"/>
              <a:gd name="textAreaTop" fmla="*/ 84960 h 339840"/>
              <a:gd name="textAreaBottom" fmla="*/ 254880 h 33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40560" y="3606840"/>
            <a:ext cx="1803240" cy="1673280"/>
          </a:xfrm>
          <a:custGeom>
            <a:avLst/>
            <a:gdLst/>
            <a:ahLst/>
            <a:rect l="l" t="t" r="r" b="b"/>
            <a:pathLst>
              <a:path w="1136" h="1054">
                <a:moveTo>
                  <a:pt x="0" y="1054"/>
                </a:moveTo>
                <a:lnTo>
                  <a:pt x="809" y="90"/>
                </a:lnTo>
                <a:lnTo>
                  <a:pt x="918" y="27"/>
                </a:lnTo>
                <a:lnTo>
                  <a:pt x="999" y="0"/>
                </a:lnTo>
                <a:lnTo>
                  <a:pt x="11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510960" y="618984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356080" y="4240080"/>
            <a:ext cx="4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I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71680" y="2825640"/>
            <a:ext cx="90792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252960" y="3020760"/>
            <a:ext cx="833400" cy="40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96680" y="4395960"/>
            <a:ext cx="1209240" cy="5101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142360" y="2027160"/>
            <a:ext cx="523800" cy="650880"/>
          </a:xfrm>
          <a:custGeom>
            <a:avLst/>
            <a:gdLst/>
            <a:ahLst/>
            <a:rect l="l" t="t" r="r" b="b"/>
            <a:pathLst>
              <a:path w="330" h="410">
                <a:moveTo>
                  <a:pt x="0" y="410"/>
                </a:moveTo>
                <a:cubicBezTo>
                  <a:pt x="32" y="279"/>
                  <a:pt x="65" y="148"/>
                  <a:pt x="120" y="80"/>
                </a:cubicBezTo>
                <a:cubicBezTo>
                  <a:pt x="175" y="12"/>
                  <a:pt x="297" y="13"/>
                  <a:pt x="33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05520" y="2016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072280" y="1979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527520" y="244476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446880" y="2455920"/>
            <a:ext cx="382680" cy="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480440" y="2098800"/>
            <a:ext cx="368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411680" y="17175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11760" y="1676520"/>
            <a:ext cx="2981520" cy="115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07040" y="20462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329520" y="1940040"/>
            <a:ext cx="1712520" cy="569520"/>
            <a:chOff x="6329520" y="1940040"/>
            <a:chExt cx="1712520" cy="569520"/>
          </a:xfrm>
        </p:grpSpPr>
        <p:sp>
          <p:nvSpPr>
            <p:cNvPr id="725" name=""/>
            <p:cNvSpPr/>
            <p:nvPr/>
          </p:nvSpPr>
          <p:spPr>
            <a:xfrm>
              <a:off x="6337080" y="1940040"/>
              <a:ext cx="1704960" cy="295560"/>
            </a:xfrm>
            <a:custGeom>
              <a:avLst/>
              <a:gdLst/>
              <a:ahLst/>
              <a:rect l="l" t="t" r="r" b="b"/>
              <a:pathLst>
                <a:path w="842" h="107">
                  <a:moveTo>
                    <a:pt x="0" y="0"/>
                  </a:moveTo>
                  <a:lnTo>
                    <a:pt x="261" y="0"/>
                  </a:lnTo>
                  <a:lnTo>
                    <a:pt x="338" y="48"/>
                  </a:lnTo>
                  <a:lnTo>
                    <a:pt x="483" y="48"/>
                  </a:lnTo>
                  <a:lnTo>
                    <a:pt x="571" y="107"/>
                  </a:lnTo>
                  <a:lnTo>
                    <a:pt x="842" y="1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329520" y="2318400"/>
              <a:ext cx="1704960" cy="191160"/>
            </a:xfrm>
            <a:custGeom>
              <a:avLst/>
              <a:gdLst/>
              <a:ahLst/>
              <a:rect l="l" t="t" r="r" b="b"/>
              <a:pathLst>
                <a:path w="842" h="107">
                  <a:moveTo>
                    <a:pt x="0" y="0"/>
                  </a:moveTo>
                  <a:lnTo>
                    <a:pt x="261" y="0"/>
                  </a:lnTo>
                  <a:lnTo>
                    <a:pt x="338" y="48"/>
                  </a:lnTo>
                  <a:lnTo>
                    <a:pt x="483" y="48"/>
                  </a:lnTo>
                  <a:lnTo>
                    <a:pt x="571" y="107"/>
                  </a:lnTo>
                  <a:lnTo>
                    <a:pt x="842" y="10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257560" y="40417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104840" y="993600"/>
            <a:ext cx="69566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Photodetectors and Optical receivers</a:t>
            </a:r>
            <a:r>
              <a:rPr b="1" lang="pt-BR" sz="2400" spc="-1" strike="noStrike">
                <a:solidFill>
                  <a:srgbClr val="cc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91160" y="1857240"/>
            <a:ext cx="394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asual"/>
              </a:rPr>
              <a:t>Optoelectronic-Microelectro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asual"/>
              </a:rPr>
              <a:t>synthesis --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Lucida Casual"/>
              </a:rPr>
              <a:t>PIN-FET-Trans-Z packa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Lucida Casual"/>
              </a:rPr>
              <a:t>with metallized fiber s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blcdet1" descr=""/>
          <p:cNvPicPr/>
          <p:nvPr/>
        </p:nvPicPr>
        <p:blipFill>
          <a:blip r:embed="rId2"/>
          <a:stretch/>
        </p:blipFill>
        <p:spPr>
          <a:xfrm>
            <a:off x="1658880" y="427824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734" name="foto243_packgPin-Fet-Tzf" descr=""/>
          <p:cNvPicPr/>
          <p:nvPr/>
        </p:nvPicPr>
        <p:blipFill>
          <a:blip r:embed="rId3"/>
          <a:stretch/>
        </p:blipFill>
        <p:spPr>
          <a:xfrm>
            <a:off x="4208400" y="3413160"/>
            <a:ext cx="3295800" cy="2473200"/>
          </a:xfrm>
          <a:prstGeom prst="rect">
            <a:avLst/>
          </a:prstGeom>
          <a:ln w="0">
            <a:noFill/>
          </a:ln>
        </p:spPr>
      </p:pic>
      <p:pic>
        <p:nvPicPr>
          <p:cNvPr id="735" name="foto244_zoom-placaPin-Fet-Tz" descr=""/>
          <p:cNvPicPr/>
          <p:nvPr/>
        </p:nvPicPr>
        <p:blipFill>
          <a:blip r:embed="rId4"/>
          <a:stretch/>
        </p:blipFill>
        <p:spPr>
          <a:xfrm>
            <a:off x="1643040" y="1981080"/>
            <a:ext cx="26989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1724040" y="1757520"/>
            <a:ext cx="5727600" cy="41162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5000"/>
              </a:lnSpc>
              <a:spcBef>
                <a:spcPts val="624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24"/>
              </a:spcBef>
              <a:spcAft>
                <a:spcPts val="2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otência mínima de recepção: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nsibilidade 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dB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88"/>
              </a:spcBef>
              <a:spcAft>
                <a:spcPts val="224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otência máxima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recepção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turação 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dB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spcAft>
                <a:spcPts val="249"/>
              </a:spcAft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Faixa dinâmica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(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S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[dB]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5000"/>
              </a:lnSpc>
              <a:spcBef>
                <a:spcPts val="561"/>
              </a:spcBef>
              <a:spcAft>
                <a:spcPts val="224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spcAft>
                <a:spcPts val="201"/>
              </a:spcAft>
              <a:buClr>
                <a:srgbClr val="336699"/>
              </a:buClr>
              <a:buFont typeface="Monotype Sort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nível de ruído crítico na recepção! 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336699"/>
                </a:solidFill>
                <a:latin typeface="Arial"/>
              </a:rPr>
              <a:t>Regra: deve estar sempre abaixo de S</a:t>
            </a:r>
            <a:r>
              <a:rPr b="0" lang="pt-BR" sz="1600" spc="-1" strike="noStrike" baseline="-25000">
                <a:solidFill>
                  <a:srgbClr val="336699"/>
                </a:solidFill>
                <a:latin typeface="Arial"/>
              </a:rPr>
              <a:t>O</a:t>
            </a:r>
            <a:r>
              <a:rPr b="0" lang="pt-BR" sz="1600" spc="-1" strike="noStrike">
                <a:solidFill>
                  <a:srgbClr val="336699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772920" y="912960"/>
            <a:ext cx="61592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ceptores Ópticos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10840" y="1238400"/>
            <a:ext cx="70772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a4a4c2"/>
                </a:solidFill>
                <a:latin typeface="Lucida Casual"/>
              </a:rPr>
              <a:t>Introdução Geral</a:t>
            </a:r>
            <a:r>
              <a:rPr b="1" lang="pt-BR" sz="2400" spc="-1" strike="noStrike">
                <a:solidFill>
                  <a:srgbClr val="a4a4c2"/>
                </a:solidFill>
                <a:latin typeface="Lucida Casual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a4a4c2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4a4c2"/>
                </a:solidFill>
                <a:latin typeface="Lucida Casual"/>
              </a:rPr>
              <a:t>evolução histórica; tecnologia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a4a4c2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4a4c2"/>
                </a:solidFill>
                <a:latin typeface="Lucida Casual"/>
              </a:rPr>
              <a:t>aspectos tecno-economico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666699"/>
                </a:solidFill>
                <a:latin typeface="Lucida Casual"/>
              </a:rPr>
              <a:t>Bases Tecnológica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sistemas de transmissão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a4a4c2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a4a4c2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4a4c2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a4a4c2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4a4c2"/>
                </a:solidFill>
                <a:latin typeface="Lucida Casual"/>
              </a:rPr>
              <a:t>redes óticas acesso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90360" y="928800"/>
            <a:ext cx="61592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ceptores Ópticos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930680" y="46054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 e Ba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edâ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499000" y="4653000"/>
            <a:ext cx="24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-Imped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5668560" y="2101680"/>
            <a:ext cx="180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5600" y="3019320"/>
            <a:ext cx="212760" cy="3272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541840" y="3012840"/>
            <a:ext cx="2826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191200" y="2103480"/>
            <a:ext cx="474480" cy="274680"/>
          </a:xfrm>
          <a:custGeom>
            <a:avLst/>
            <a:gdLst/>
            <a:ahLst/>
            <a:rect l="l" t="t" r="r" b="b"/>
            <a:pathLst>
              <a:path w="161" h="95">
                <a:moveTo>
                  <a:pt x="161" y="0"/>
                </a:moveTo>
                <a:lnTo>
                  <a:pt x="0" y="0"/>
                </a:lnTo>
                <a:lnTo>
                  <a:pt x="0" y="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6720" y="3741840"/>
            <a:ext cx="110880" cy="136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81520" y="2890800"/>
            <a:ext cx="21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732800" y="2827440"/>
            <a:ext cx="110880" cy="1364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400000">
            <a:off x="6468840" y="2511360"/>
            <a:ext cx="701640" cy="743040"/>
          </a:xfrm>
          <a:prstGeom prst="triangle">
            <a:avLst>
              <a:gd name="adj" fmla="val 500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102360" y="2890800"/>
            <a:ext cx="1290600" cy="716040"/>
          </a:xfrm>
          <a:custGeom>
            <a:avLst/>
            <a:gdLst/>
            <a:ahLst/>
            <a:rect l="l" t="t" r="r" b="b"/>
            <a:pathLst>
              <a:path w="688" h="344">
                <a:moveTo>
                  <a:pt x="0" y="0"/>
                </a:moveTo>
                <a:lnTo>
                  <a:pt x="0" y="344"/>
                </a:lnTo>
                <a:lnTo>
                  <a:pt x="688" y="344"/>
                </a:lnTo>
                <a:lnTo>
                  <a:pt x="6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16200000">
            <a:off x="6704640" y="3378240"/>
            <a:ext cx="152280" cy="47808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301720" y="2806560"/>
            <a:ext cx="3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15080" y="291132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91280" y="3825720"/>
            <a:ext cx="81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5065560" y="2390760"/>
            <a:ext cx="257040" cy="51840"/>
            <a:chOff x="5065560" y="2390760"/>
            <a:chExt cx="257040" cy="51840"/>
          </a:xfrm>
        </p:grpSpPr>
        <p:sp>
          <p:nvSpPr>
            <p:cNvPr id="755" name=""/>
            <p:cNvSpPr/>
            <p:nvPr/>
          </p:nvSpPr>
          <p:spPr>
            <a:xfrm>
              <a:off x="5065560" y="239076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97960" y="2439720"/>
              <a:ext cx="1998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548400" y="3622680"/>
            <a:ext cx="71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1066680" y="2400480"/>
            <a:ext cx="2946600" cy="2098800"/>
            <a:chOff x="1066680" y="2400480"/>
            <a:chExt cx="2946600" cy="2098800"/>
          </a:xfrm>
        </p:grpSpPr>
        <p:sp>
          <p:nvSpPr>
            <p:cNvPr id="759" name=""/>
            <p:cNvSpPr/>
            <p:nvPr/>
          </p:nvSpPr>
          <p:spPr>
            <a:xfrm flipH="1">
              <a:off x="1593720" y="2409120"/>
              <a:ext cx="1080" cy="147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05160" y="3222360"/>
              <a:ext cx="180000" cy="287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1484640" y="3232800"/>
              <a:ext cx="241920" cy="1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84760" y="2400480"/>
              <a:ext cx="404280" cy="241920"/>
            </a:xfrm>
            <a:custGeom>
              <a:avLst/>
              <a:gdLst/>
              <a:ahLst/>
              <a:rect l="l" t="t" r="r" b="b"/>
              <a:pathLst>
                <a:path w="161" h="95">
                  <a:moveTo>
                    <a:pt x="161" y="0"/>
                  </a:moveTo>
                  <a:lnTo>
                    <a:pt x="0" y="0"/>
                  </a:lnTo>
                  <a:lnTo>
                    <a:pt x="0" y="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066680" y="2655720"/>
              <a:ext cx="239040" cy="48240"/>
              <a:chOff x="1066680" y="2655720"/>
              <a:chExt cx="239040" cy="48240"/>
            </a:xfrm>
          </p:grpSpPr>
          <p:sp>
            <p:nvSpPr>
              <p:cNvPr id="764" name=""/>
              <p:cNvSpPr/>
              <p:nvPr/>
            </p:nvSpPr>
            <p:spPr>
              <a:xfrm>
                <a:off x="1066680" y="2655720"/>
                <a:ext cx="23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096920" y="2701080"/>
                <a:ext cx="1857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545120" y="2516040"/>
              <a:ext cx="97200" cy="4269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90840" y="3063960"/>
              <a:ext cx="195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1999080" y="2746080"/>
              <a:ext cx="662040" cy="633600"/>
            </a:xfrm>
            <a:prstGeom prst="triangle">
              <a:avLst>
                <a:gd name="adj" fmla="val 5000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48000" y="3859560"/>
              <a:ext cx="94320" cy="12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48040" y="3919680"/>
              <a:ext cx="75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bi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50160" y="3110760"/>
              <a:ext cx="6631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pt-BR" sz="2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787480" y="2891880"/>
              <a:ext cx="515160" cy="3787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Equal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472560" y="3006720"/>
              <a:ext cx="94320" cy="1216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260000" y="3016800"/>
              <a:ext cx="31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5170320" y="2486160"/>
            <a:ext cx="6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822920" y="1739880"/>
            <a:ext cx="3671640" cy="3790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laser-bf" descr=""/>
          <p:cNvPicPr/>
          <p:nvPr/>
        </p:nvPicPr>
        <p:blipFill>
          <a:blip r:embed="rId2"/>
          <a:stretch/>
        </p:blipFill>
        <p:spPr>
          <a:xfrm>
            <a:off x="351000" y="806400"/>
            <a:ext cx="4152600" cy="3317760"/>
          </a:xfrm>
          <a:prstGeom prst="rect">
            <a:avLst/>
          </a:prstGeom>
          <a:ln w="0">
            <a:noFill/>
          </a:ln>
        </p:spPr>
      </p:pic>
      <p:pic>
        <p:nvPicPr>
          <p:cNvPr id="778" name="pd-1" descr=""/>
          <p:cNvPicPr/>
          <p:nvPr/>
        </p:nvPicPr>
        <p:blipFill>
          <a:blip r:embed="rId3"/>
          <a:stretch/>
        </p:blipFill>
        <p:spPr>
          <a:xfrm>
            <a:off x="419040" y="4307040"/>
            <a:ext cx="2892600" cy="1949400"/>
          </a:xfrm>
          <a:prstGeom prst="rect">
            <a:avLst/>
          </a:prstGeom>
          <a:ln w="0">
            <a:noFill/>
          </a:ln>
        </p:spPr>
      </p:pic>
      <p:pic>
        <p:nvPicPr>
          <p:cNvPr id="779" name="pd-pin" descr=""/>
          <p:cNvPicPr/>
          <p:nvPr/>
        </p:nvPicPr>
        <p:blipFill>
          <a:blip r:embed="rId4"/>
          <a:stretch/>
        </p:blipFill>
        <p:spPr>
          <a:xfrm>
            <a:off x="3745080" y="4325760"/>
            <a:ext cx="1822320" cy="169236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4718880" y="1101600"/>
            <a:ext cx="321660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Lasers 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te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Transceivers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mercado internacional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5835600" y="2705040"/>
          <a:ext cx="2651040" cy="287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35600" y="2705040"/>
                    <a:ext cx="26510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ases Tecnológicas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50000" y="4149720"/>
            <a:ext cx="1408320" cy="1627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649680" y="4245120"/>
            <a:ext cx="1974960" cy="213516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789" name="specwdm" descr=""/>
          <p:cNvPicPr/>
          <p:nvPr/>
        </p:nvPicPr>
        <p:blipFill>
          <a:blip r:embed="rId2"/>
          <a:stretch/>
        </p:blipFill>
        <p:spPr>
          <a:xfrm>
            <a:off x="5281560" y="1095480"/>
            <a:ext cx="2882880" cy="297504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1104840" y="106848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iltros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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ux/Demux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441800" y="1897200"/>
            <a:ext cx="2385720" cy="1182600"/>
            <a:chOff x="1441800" y="1897200"/>
            <a:chExt cx="2385720" cy="1182600"/>
          </a:xfrm>
        </p:grpSpPr>
        <p:sp>
          <p:nvSpPr>
            <p:cNvPr id="792" name=""/>
            <p:cNvSpPr/>
            <p:nvPr/>
          </p:nvSpPr>
          <p:spPr>
            <a:xfrm flipH="1">
              <a:off x="1682640" y="1897200"/>
              <a:ext cx="1906560" cy="1182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3449520" y="2205000"/>
              <a:ext cx="37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3440160" y="2388960"/>
              <a:ext cx="3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431880" y="2573280"/>
              <a:ext cx="37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436920" y="2757600"/>
              <a:ext cx="37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1441800" y="2195280"/>
              <a:ext cx="1577160" cy="580680"/>
              <a:chOff x="1441800" y="2195280"/>
              <a:chExt cx="1577160" cy="58068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2102400" y="2195280"/>
                <a:ext cx="916560" cy="230040"/>
                <a:chOff x="2102400" y="2195280"/>
                <a:chExt cx="916560" cy="230040"/>
              </a:xfrm>
            </p:grpSpPr>
            <p:sp>
              <p:nvSpPr>
                <p:cNvPr id="799" name=""/>
                <p:cNvSpPr/>
                <p:nvPr/>
              </p:nvSpPr>
              <p:spPr>
                <a:xfrm flipH="1">
                  <a:off x="2102040" y="2195280"/>
                  <a:ext cx="91044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flipV="1">
                  <a:off x="2108160" y="2300040"/>
                  <a:ext cx="91080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102400" y="2545920"/>
                <a:ext cx="916560" cy="230040"/>
                <a:chOff x="2102400" y="2545920"/>
                <a:chExt cx="916560" cy="230040"/>
              </a:xfrm>
            </p:grpSpPr>
            <p:sp>
              <p:nvSpPr>
                <p:cNvPr id="802" name=""/>
                <p:cNvSpPr/>
                <p:nvPr/>
              </p:nvSpPr>
              <p:spPr>
                <a:xfrm flipH="1">
                  <a:off x="2102040" y="2545920"/>
                  <a:ext cx="91044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flipV="1">
                  <a:off x="2108160" y="2650680"/>
                  <a:ext cx="91080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1441800" y="2300040"/>
                <a:ext cx="916560" cy="367560"/>
                <a:chOff x="1441800" y="2300040"/>
                <a:chExt cx="916560" cy="367560"/>
              </a:xfrm>
            </p:grpSpPr>
            <p:sp>
              <p:nvSpPr>
                <p:cNvPr id="805" name=""/>
                <p:cNvSpPr/>
                <p:nvPr/>
              </p:nvSpPr>
              <p:spPr>
                <a:xfrm flipH="1">
                  <a:off x="1441440" y="2300040"/>
                  <a:ext cx="910440" cy="20016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flipV="1">
                  <a:off x="1447560" y="2467440"/>
                  <a:ext cx="910800" cy="200160"/>
                </a:xfrm>
                <a:custGeom>
                  <a:avLst/>
                  <a:gdLst/>
                  <a:ahLst/>
                  <a:rect l="l" t="t" r="r" b="b"/>
                  <a:pathLst>
                    <a:path w="600" h="79">
                      <a:moveTo>
                        <a:pt x="0" y="6"/>
                      </a:moveTo>
                      <a:cubicBezTo>
                        <a:pt x="91" y="3"/>
                        <a:pt x="182" y="0"/>
                        <a:pt x="232" y="6"/>
                      </a:cubicBezTo>
                      <a:cubicBezTo>
                        <a:pt x="282" y="12"/>
                        <a:pt x="274" y="34"/>
                        <a:pt x="300" y="45"/>
                      </a:cubicBezTo>
                      <a:cubicBezTo>
                        <a:pt x="326" y="56"/>
                        <a:pt x="337" y="69"/>
                        <a:pt x="387" y="74"/>
                      </a:cubicBezTo>
                      <a:cubicBezTo>
                        <a:pt x="437" y="79"/>
                        <a:pt x="518" y="76"/>
                        <a:pt x="600" y="74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7" name=""/>
            <p:cNvSpPr/>
            <p:nvPr/>
          </p:nvSpPr>
          <p:spPr>
            <a:xfrm flipH="1">
              <a:off x="3000240" y="2143080"/>
              <a:ext cx="478080" cy="13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004560" y="2327040"/>
              <a:ext cx="47916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996640" y="2511360"/>
              <a:ext cx="477720" cy="13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3185640" y="2514600"/>
              <a:ext cx="88920" cy="137160"/>
              <a:chOff x="3185640" y="2514600"/>
              <a:chExt cx="88920" cy="13716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3185280" y="2514600"/>
                <a:ext cx="88920" cy="132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3260160" y="2518920"/>
                <a:ext cx="6840" cy="132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 flipH="1">
              <a:off x="3002040" y="2695680"/>
              <a:ext cx="479520" cy="13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82760" y="2689200"/>
              <a:ext cx="98640" cy="136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3260880" y="2704680"/>
              <a:ext cx="6120" cy="13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3184200" y="2328840"/>
              <a:ext cx="96840" cy="137880"/>
              <a:chOff x="3184200" y="2328840"/>
              <a:chExt cx="96840" cy="13788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3183840" y="2328840"/>
                <a:ext cx="9684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3265200" y="2333520"/>
                <a:ext cx="7560" cy="133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flipH="1">
              <a:off x="3189240" y="2146320"/>
              <a:ext cx="108000" cy="1360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3271320" y="2142720"/>
              <a:ext cx="3240" cy="147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1" name="wdm-8ch" descr=""/>
          <p:cNvPicPr/>
          <p:nvPr/>
        </p:nvPicPr>
        <p:blipFill>
          <a:blip r:embed="rId3"/>
          <a:stretch/>
        </p:blipFill>
        <p:spPr>
          <a:xfrm>
            <a:off x="1146240" y="3241800"/>
            <a:ext cx="2149560" cy="152712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2971800" y="4336920"/>
            <a:ext cx="31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339933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A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wdm-adm1" descr=""/>
          <p:cNvPicPr/>
          <p:nvPr/>
        </p:nvPicPr>
        <p:blipFill>
          <a:blip r:embed="rId4"/>
          <a:stretch/>
        </p:blipFill>
        <p:spPr>
          <a:xfrm>
            <a:off x="5950080" y="4486320"/>
            <a:ext cx="2082600" cy="99864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7571880" y="4195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870680" y="4444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861160" y="498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5750280" y="5761080"/>
            <a:ext cx="2130120" cy="322200"/>
            <a:chOff x="5750280" y="5761080"/>
            <a:chExt cx="2130120" cy="322200"/>
          </a:xfrm>
        </p:grpSpPr>
        <p:sp>
          <p:nvSpPr>
            <p:cNvPr id="828" name=""/>
            <p:cNvSpPr/>
            <p:nvPr/>
          </p:nvSpPr>
          <p:spPr>
            <a:xfrm flipH="1">
              <a:off x="5978880" y="5761080"/>
              <a:ext cx="1241640" cy="3222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6638040" y="5837400"/>
              <a:ext cx="624240" cy="178560"/>
              <a:chOff x="6638040" y="5837400"/>
              <a:chExt cx="624240" cy="178560"/>
            </a:xfrm>
          </p:grpSpPr>
          <p:sp>
            <p:nvSpPr>
              <p:cNvPr id="830" name=""/>
              <p:cNvSpPr/>
              <p:nvPr/>
            </p:nvSpPr>
            <p:spPr>
              <a:xfrm flipH="1">
                <a:off x="6637680" y="5837400"/>
                <a:ext cx="620280" cy="97200"/>
              </a:xfrm>
              <a:custGeom>
                <a:avLst/>
                <a:gdLst/>
                <a:ahLst/>
                <a:rect l="l" t="t" r="r" b="b"/>
                <a:pathLst>
                  <a:path w="600" h="79">
                    <a:moveTo>
                      <a:pt x="0" y="6"/>
                    </a:moveTo>
                    <a:cubicBezTo>
                      <a:pt x="91" y="3"/>
                      <a:pt x="182" y="0"/>
                      <a:pt x="232" y="6"/>
                    </a:cubicBezTo>
                    <a:cubicBezTo>
                      <a:pt x="282" y="12"/>
                      <a:pt x="274" y="34"/>
                      <a:pt x="300" y="45"/>
                    </a:cubicBezTo>
                    <a:cubicBezTo>
                      <a:pt x="326" y="56"/>
                      <a:pt x="337" y="69"/>
                      <a:pt x="387" y="74"/>
                    </a:cubicBezTo>
                    <a:cubicBezTo>
                      <a:pt x="437" y="79"/>
                      <a:pt x="518" y="76"/>
                      <a:pt x="600" y="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6641640" y="5918760"/>
                <a:ext cx="620640" cy="97200"/>
              </a:xfrm>
              <a:custGeom>
                <a:avLst/>
                <a:gdLst/>
                <a:ahLst/>
                <a:rect l="l" t="t" r="r" b="b"/>
                <a:pathLst>
                  <a:path w="600" h="79">
                    <a:moveTo>
                      <a:pt x="0" y="6"/>
                    </a:moveTo>
                    <a:cubicBezTo>
                      <a:pt x="91" y="3"/>
                      <a:pt x="182" y="0"/>
                      <a:pt x="232" y="6"/>
                    </a:cubicBezTo>
                    <a:cubicBezTo>
                      <a:pt x="282" y="12"/>
                      <a:pt x="274" y="34"/>
                      <a:pt x="300" y="45"/>
                    </a:cubicBezTo>
                    <a:cubicBezTo>
                      <a:pt x="326" y="56"/>
                      <a:pt x="337" y="69"/>
                      <a:pt x="387" y="74"/>
                    </a:cubicBezTo>
                    <a:cubicBezTo>
                      <a:pt x="437" y="79"/>
                      <a:pt x="518" y="76"/>
                      <a:pt x="600" y="7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"/>
            <p:cNvSpPr/>
            <p:nvPr/>
          </p:nvSpPr>
          <p:spPr>
            <a:xfrm flipH="1">
              <a:off x="6515280" y="5807520"/>
              <a:ext cx="114480" cy="2149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6611040" y="5815080"/>
              <a:ext cx="720" cy="21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5750280" y="5915160"/>
              <a:ext cx="76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116480" y="5842440"/>
              <a:ext cx="76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081200" y="6010560"/>
              <a:ext cx="76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7" name=""/>
          <p:cNvSpPr/>
          <p:nvPr/>
        </p:nvSpPr>
        <p:spPr>
          <a:xfrm flipH="1">
            <a:off x="7954920" y="5819760"/>
            <a:ext cx="395280" cy="0"/>
          </a:xfrm>
          <a:prstGeom prst="line">
            <a:avLst/>
          </a:prstGeom>
          <a:ln w="93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5241960" y="5896080"/>
            <a:ext cx="395280" cy="0"/>
          </a:xfrm>
          <a:prstGeom prst="line">
            <a:avLst/>
          </a:prstGeom>
          <a:ln w="93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8121600" y="5759280"/>
            <a:ext cx="3952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099280" y="5864400"/>
            <a:ext cx="395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813800" y="6054840"/>
            <a:ext cx="3952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7886880" y="6095880"/>
            <a:ext cx="395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00000" y="2490840"/>
            <a:ext cx="44316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17560" y="2506680"/>
            <a:ext cx="457200" cy="0"/>
          </a:xfrm>
          <a:prstGeom prst="line">
            <a:avLst/>
          </a:prstGeom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21040" y="2382840"/>
            <a:ext cx="395280" cy="0"/>
          </a:xfrm>
          <a:prstGeom prst="line">
            <a:avLst/>
          </a:prstGeom>
          <a:ln w="936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830760" y="2567160"/>
            <a:ext cx="3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763800" y="2198160"/>
            <a:ext cx="31932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3773520" y="2747520"/>
            <a:ext cx="318960" cy="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53400" y="5138640"/>
            <a:ext cx="3198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=&gt; filtros seletores 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comprimento de onda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=&gt; banda passant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fator de rejeiçao especific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917600" y="4937040"/>
            <a:ext cx="303480" cy="5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828360" y="1838160"/>
            <a:ext cx="756108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9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plificadores a fibra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stly EDF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80000"/>
              <a:buFont typeface="Monotype Sorts" charset="2"/>
              <a:buChar char="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amplificador Raman utiliza a própria fibra de transmissão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spcAft>
                <a:spcPts val="275"/>
              </a:spcAft>
              <a:buClr>
                <a:srgbClr val="00000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plificadores a semicondu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92280" y="965160"/>
            <a:ext cx="602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mplificadores  Ót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109600" y="317808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ser bombe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15160" y="2741760"/>
            <a:ext cx="83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911760" y="2717640"/>
            <a:ext cx="1139400" cy="305640"/>
            <a:chOff x="3911760" y="2717640"/>
            <a:chExt cx="1139400" cy="305640"/>
          </a:xfrm>
        </p:grpSpPr>
        <p:sp>
          <p:nvSpPr>
            <p:cNvPr id="859" name=""/>
            <p:cNvSpPr/>
            <p:nvPr/>
          </p:nvSpPr>
          <p:spPr>
            <a:xfrm>
              <a:off x="3919320" y="2717640"/>
              <a:ext cx="1131840" cy="166680"/>
            </a:xfrm>
            <a:custGeom>
              <a:avLst/>
              <a:gdLst/>
              <a:ahLst/>
              <a:rect l="l" t="t" r="r" b="b"/>
              <a:pathLst>
                <a:path w="600" h="79">
                  <a:moveTo>
                    <a:pt x="0" y="6"/>
                  </a:moveTo>
                  <a:cubicBezTo>
                    <a:pt x="91" y="3"/>
                    <a:pt x="182" y="0"/>
                    <a:pt x="232" y="6"/>
                  </a:cubicBezTo>
                  <a:cubicBezTo>
                    <a:pt x="282" y="12"/>
                    <a:pt x="274" y="34"/>
                    <a:pt x="300" y="45"/>
                  </a:cubicBezTo>
                  <a:cubicBezTo>
                    <a:pt x="326" y="56"/>
                    <a:pt x="337" y="69"/>
                    <a:pt x="387" y="74"/>
                  </a:cubicBezTo>
                  <a:cubicBezTo>
                    <a:pt x="437" y="79"/>
                    <a:pt x="518" y="76"/>
                    <a:pt x="600" y="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3911760" y="2856240"/>
              <a:ext cx="1132200" cy="166680"/>
            </a:xfrm>
            <a:custGeom>
              <a:avLst/>
              <a:gdLst/>
              <a:ahLst/>
              <a:rect l="l" t="t" r="r" b="b"/>
              <a:pathLst>
                <a:path w="600" h="79">
                  <a:moveTo>
                    <a:pt x="0" y="6"/>
                  </a:moveTo>
                  <a:cubicBezTo>
                    <a:pt x="91" y="3"/>
                    <a:pt x="182" y="0"/>
                    <a:pt x="232" y="6"/>
                  </a:cubicBezTo>
                  <a:cubicBezTo>
                    <a:pt x="282" y="12"/>
                    <a:pt x="274" y="34"/>
                    <a:pt x="300" y="45"/>
                  </a:cubicBezTo>
                  <a:cubicBezTo>
                    <a:pt x="326" y="56"/>
                    <a:pt x="337" y="69"/>
                    <a:pt x="387" y="74"/>
                  </a:cubicBezTo>
                  <a:cubicBezTo>
                    <a:pt x="437" y="79"/>
                    <a:pt x="518" y="76"/>
                    <a:pt x="600" y="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1" name=""/>
          <p:cNvGrpSpPr/>
          <p:nvPr/>
        </p:nvGrpSpPr>
        <p:grpSpPr>
          <a:xfrm>
            <a:off x="4746600" y="2725560"/>
            <a:ext cx="1141200" cy="305640"/>
            <a:chOff x="4746600" y="2725560"/>
            <a:chExt cx="1141200" cy="305640"/>
          </a:xfrm>
        </p:grpSpPr>
        <p:sp>
          <p:nvSpPr>
            <p:cNvPr id="862" name=""/>
            <p:cNvSpPr/>
            <p:nvPr/>
          </p:nvSpPr>
          <p:spPr>
            <a:xfrm flipH="1">
              <a:off x="4746240" y="2725560"/>
              <a:ext cx="1133640" cy="166680"/>
            </a:xfrm>
            <a:custGeom>
              <a:avLst/>
              <a:gdLst/>
              <a:ahLst/>
              <a:rect l="l" t="t" r="r" b="b"/>
              <a:pathLst>
                <a:path w="600" h="79">
                  <a:moveTo>
                    <a:pt x="0" y="6"/>
                  </a:moveTo>
                  <a:cubicBezTo>
                    <a:pt x="91" y="3"/>
                    <a:pt x="182" y="0"/>
                    <a:pt x="232" y="6"/>
                  </a:cubicBezTo>
                  <a:cubicBezTo>
                    <a:pt x="282" y="12"/>
                    <a:pt x="274" y="34"/>
                    <a:pt x="300" y="45"/>
                  </a:cubicBezTo>
                  <a:cubicBezTo>
                    <a:pt x="326" y="56"/>
                    <a:pt x="337" y="69"/>
                    <a:pt x="387" y="74"/>
                  </a:cubicBezTo>
                  <a:cubicBezTo>
                    <a:pt x="437" y="79"/>
                    <a:pt x="518" y="76"/>
                    <a:pt x="600" y="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4753800" y="2864160"/>
              <a:ext cx="1134000" cy="166680"/>
            </a:xfrm>
            <a:custGeom>
              <a:avLst/>
              <a:gdLst/>
              <a:ahLst/>
              <a:rect l="l" t="t" r="r" b="b"/>
              <a:pathLst>
                <a:path w="600" h="79">
                  <a:moveTo>
                    <a:pt x="0" y="6"/>
                  </a:moveTo>
                  <a:cubicBezTo>
                    <a:pt x="91" y="3"/>
                    <a:pt x="182" y="0"/>
                    <a:pt x="232" y="6"/>
                  </a:cubicBezTo>
                  <a:cubicBezTo>
                    <a:pt x="282" y="12"/>
                    <a:pt x="274" y="34"/>
                    <a:pt x="300" y="45"/>
                  </a:cubicBezTo>
                  <a:cubicBezTo>
                    <a:pt x="326" y="56"/>
                    <a:pt x="337" y="69"/>
                    <a:pt x="387" y="74"/>
                  </a:cubicBezTo>
                  <a:cubicBezTo>
                    <a:pt x="437" y="79"/>
                    <a:pt x="518" y="76"/>
                    <a:pt x="600" y="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865840" y="2946240"/>
            <a:ext cx="84240" cy="16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865840" y="2736720"/>
            <a:ext cx="83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02480" y="2692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4160" y="2529000"/>
            <a:ext cx="156384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741840" y="2914560"/>
            <a:ext cx="0" cy="5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679920" y="3035160"/>
            <a:ext cx="114120" cy="17964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678120" y="3051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78560" y="2732040"/>
            <a:ext cx="469800" cy="5018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588000" y="2728800"/>
            <a:ext cx="470160" cy="51120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7320" y="2730600"/>
            <a:ext cx="839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63880" y="26859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88080" y="3311640"/>
            <a:ext cx="23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DM 0,98-1,48//1,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9360" y="26686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Sinal 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2890800" y="2441520"/>
            <a:ext cx="301680" cy="217440"/>
            <a:chOff x="2890800" y="2441520"/>
            <a:chExt cx="301680" cy="217440"/>
          </a:xfrm>
        </p:grpSpPr>
        <p:grpSp>
          <p:nvGrpSpPr>
            <p:cNvPr id="878" name=""/>
            <p:cNvGrpSpPr/>
            <p:nvPr/>
          </p:nvGrpSpPr>
          <p:grpSpPr>
            <a:xfrm>
              <a:off x="2890800" y="2441520"/>
              <a:ext cx="210240" cy="216360"/>
              <a:chOff x="2890800" y="2441520"/>
              <a:chExt cx="210240" cy="216360"/>
            </a:xfrm>
          </p:grpSpPr>
          <p:sp>
            <p:nvSpPr>
              <p:cNvPr id="879" name=""/>
              <p:cNvSpPr/>
              <p:nvPr/>
            </p:nvSpPr>
            <p:spPr>
              <a:xfrm>
                <a:off x="2990160" y="2441520"/>
                <a:ext cx="110880" cy="215280"/>
              </a:xfrm>
              <a:custGeom>
                <a:avLst/>
                <a:gdLst/>
                <a:ahLst/>
                <a:rect l="l" t="t" r="r" b="b"/>
                <a:pathLst>
                  <a:path w="126" h="235">
                    <a:moveTo>
                      <a:pt x="0" y="235"/>
                    </a:moveTo>
                    <a:cubicBezTo>
                      <a:pt x="1" y="181"/>
                      <a:pt x="3" y="128"/>
                      <a:pt x="8" y="92"/>
                    </a:cubicBezTo>
                    <a:cubicBezTo>
                      <a:pt x="13" y="56"/>
                      <a:pt x="18" y="31"/>
                      <a:pt x="30" y="17"/>
                    </a:cubicBezTo>
                    <a:cubicBezTo>
                      <a:pt x="42" y="3"/>
                      <a:pt x="68" y="0"/>
                      <a:pt x="83" y="10"/>
                    </a:cubicBezTo>
                    <a:cubicBezTo>
                      <a:pt x="98" y="20"/>
                      <a:pt x="114" y="40"/>
                      <a:pt x="120" y="77"/>
                    </a:cubicBezTo>
                    <a:cubicBezTo>
                      <a:pt x="126" y="114"/>
                      <a:pt x="120" y="208"/>
                      <a:pt x="120" y="235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90800" y="2657880"/>
                <a:ext cx="9936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1" name=""/>
            <p:cNvSpPr/>
            <p:nvPr/>
          </p:nvSpPr>
          <p:spPr>
            <a:xfrm>
              <a:off x="3093120" y="2658960"/>
              <a:ext cx="9936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7372440" y="2097000"/>
            <a:ext cx="376200" cy="545760"/>
            <a:chOff x="7372440" y="2097000"/>
            <a:chExt cx="376200" cy="545760"/>
          </a:xfrm>
        </p:grpSpPr>
        <p:grpSp>
          <p:nvGrpSpPr>
            <p:cNvPr id="883" name=""/>
            <p:cNvGrpSpPr/>
            <p:nvPr/>
          </p:nvGrpSpPr>
          <p:grpSpPr>
            <a:xfrm>
              <a:off x="7372440" y="2097000"/>
              <a:ext cx="262080" cy="542880"/>
              <a:chOff x="7372440" y="2097000"/>
              <a:chExt cx="262080" cy="542880"/>
            </a:xfrm>
          </p:grpSpPr>
          <p:sp>
            <p:nvSpPr>
              <p:cNvPr id="884" name=""/>
              <p:cNvSpPr/>
              <p:nvPr/>
            </p:nvSpPr>
            <p:spPr>
              <a:xfrm>
                <a:off x="7496280" y="2097000"/>
                <a:ext cx="138240" cy="540360"/>
              </a:xfrm>
              <a:custGeom>
                <a:avLst/>
                <a:gdLst/>
                <a:ahLst/>
                <a:rect l="l" t="t" r="r" b="b"/>
                <a:pathLst>
                  <a:path w="126" h="235">
                    <a:moveTo>
                      <a:pt x="0" y="235"/>
                    </a:moveTo>
                    <a:cubicBezTo>
                      <a:pt x="1" y="181"/>
                      <a:pt x="3" y="128"/>
                      <a:pt x="8" y="92"/>
                    </a:cubicBezTo>
                    <a:cubicBezTo>
                      <a:pt x="13" y="56"/>
                      <a:pt x="18" y="31"/>
                      <a:pt x="30" y="17"/>
                    </a:cubicBezTo>
                    <a:cubicBezTo>
                      <a:pt x="42" y="3"/>
                      <a:pt x="68" y="0"/>
                      <a:pt x="83" y="10"/>
                    </a:cubicBezTo>
                    <a:cubicBezTo>
                      <a:pt x="98" y="20"/>
                      <a:pt x="114" y="40"/>
                      <a:pt x="120" y="77"/>
                    </a:cubicBezTo>
                    <a:cubicBezTo>
                      <a:pt x="126" y="114"/>
                      <a:pt x="120" y="208"/>
                      <a:pt x="120" y="235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372440" y="2639880"/>
                <a:ext cx="1238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6" name=""/>
            <p:cNvSpPr/>
            <p:nvPr/>
          </p:nvSpPr>
          <p:spPr>
            <a:xfrm>
              <a:off x="7624800" y="2642760"/>
              <a:ext cx="123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7152480" y="26989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nal 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35600" y="322092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Fibra Er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224240" y="4818240"/>
            <a:ext cx="1366920" cy="73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4492800" y="4842000"/>
            <a:ext cx="30312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665000">
            <a:off x="4641840" y="5043600"/>
            <a:ext cx="409680" cy="31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638600" y="5154480"/>
            <a:ext cx="393840" cy="6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4951440" y="5149800"/>
            <a:ext cx="155520" cy="29232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4581000" y="4968720"/>
            <a:ext cx="155880" cy="292320"/>
          </a:xfrm>
          <a:prstGeom prst="line">
            <a:avLst/>
          </a:prstGeom>
          <a:ln w="2844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02280" y="5253120"/>
            <a:ext cx="1243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6073920" y="4673520"/>
            <a:ext cx="376200" cy="469800"/>
            <a:chOff x="6073920" y="4673520"/>
            <a:chExt cx="376200" cy="469800"/>
          </a:xfrm>
        </p:grpSpPr>
        <p:grpSp>
          <p:nvGrpSpPr>
            <p:cNvPr id="897" name=""/>
            <p:cNvGrpSpPr/>
            <p:nvPr/>
          </p:nvGrpSpPr>
          <p:grpSpPr>
            <a:xfrm>
              <a:off x="6073920" y="4673520"/>
              <a:ext cx="262080" cy="467280"/>
              <a:chOff x="6073920" y="4673520"/>
              <a:chExt cx="262080" cy="467280"/>
            </a:xfrm>
          </p:grpSpPr>
          <p:sp>
            <p:nvSpPr>
              <p:cNvPr id="898" name=""/>
              <p:cNvSpPr/>
              <p:nvPr/>
            </p:nvSpPr>
            <p:spPr>
              <a:xfrm>
                <a:off x="6197760" y="4673520"/>
                <a:ext cx="138240" cy="465120"/>
              </a:xfrm>
              <a:custGeom>
                <a:avLst/>
                <a:gdLst/>
                <a:ahLst/>
                <a:rect l="l" t="t" r="r" b="b"/>
                <a:pathLst>
                  <a:path w="126" h="235">
                    <a:moveTo>
                      <a:pt x="0" y="235"/>
                    </a:moveTo>
                    <a:cubicBezTo>
                      <a:pt x="1" y="181"/>
                      <a:pt x="3" y="128"/>
                      <a:pt x="8" y="92"/>
                    </a:cubicBezTo>
                    <a:cubicBezTo>
                      <a:pt x="13" y="56"/>
                      <a:pt x="18" y="31"/>
                      <a:pt x="30" y="17"/>
                    </a:cubicBezTo>
                    <a:cubicBezTo>
                      <a:pt x="42" y="3"/>
                      <a:pt x="68" y="0"/>
                      <a:pt x="83" y="10"/>
                    </a:cubicBezTo>
                    <a:cubicBezTo>
                      <a:pt x="98" y="20"/>
                      <a:pt x="114" y="40"/>
                      <a:pt x="120" y="77"/>
                    </a:cubicBezTo>
                    <a:cubicBezTo>
                      <a:pt x="126" y="114"/>
                      <a:pt x="120" y="208"/>
                      <a:pt x="120" y="235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73920" y="5140800"/>
                <a:ext cx="12384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6326280" y="5143320"/>
              <a:ext cx="123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5853960" y="52434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nal s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460680" y="4819680"/>
            <a:ext cx="330120" cy="241200"/>
            <a:chOff x="3460680" y="4819680"/>
            <a:chExt cx="330120" cy="241200"/>
          </a:xfrm>
        </p:grpSpPr>
        <p:grpSp>
          <p:nvGrpSpPr>
            <p:cNvPr id="903" name=""/>
            <p:cNvGrpSpPr/>
            <p:nvPr/>
          </p:nvGrpSpPr>
          <p:grpSpPr>
            <a:xfrm>
              <a:off x="3460680" y="4819680"/>
              <a:ext cx="230040" cy="240120"/>
              <a:chOff x="3460680" y="4819680"/>
              <a:chExt cx="230040" cy="240120"/>
            </a:xfrm>
          </p:grpSpPr>
          <p:sp>
            <p:nvSpPr>
              <p:cNvPr id="904" name=""/>
              <p:cNvSpPr/>
              <p:nvPr/>
            </p:nvSpPr>
            <p:spPr>
              <a:xfrm>
                <a:off x="3569400" y="4819680"/>
                <a:ext cx="121320" cy="239040"/>
              </a:xfrm>
              <a:custGeom>
                <a:avLst/>
                <a:gdLst/>
                <a:ahLst/>
                <a:rect l="l" t="t" r="r" b="b"/>
                <a:pathLst>
                  <a:path w="126" h="235">
                    <a:moveTo>
                      <a:pt x="0" y="235"/>
                    </a:moveTo>
                    <a:cubicBezTo>
                      <a:pt x="1" y="181"/>
                      <a:pt x="3" y="128"/>
                      <a:pt x="8" y="92"/>
                    </a:cubicBezTo>
                    <a:cubicBezTo>
                      <a:pt x="13" y="56"/>
                      <a:pt x="18" y="31"/>
                      <a:pt x="30" y="17"/>
                    </a:cubicBezTo>
                    <a:cubicBezTo>
                      <a:pt x="42" y="3"/>
                      <a:pt x="68" y="0"/>
                      <a:pt x="83" y="10"/>
                    </a:cubicBezTo>
                    <a:cubicBezTo>
                      <a:pt x="98" y="20"/>
                      <a:pt x="114" y="40"/>
                      <a:pt x="120" y="77"/>
                    </a:cubicBezTo>
                    <a:cubicBezTo>
                      <a:pt x="126" y="114"/>
                      <a:pt x="120" y="208"/>
                      <a:pt x="120" y="235"/>
                    </a:cubicBezTo>
                  </a:path>
                </a:pathLst>
              </a:custGeom>
              <a:noFill/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460680" y="5059800"/>
                <a:ext cx="1087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3682080" y="5060880"/>
              <a:ext cx="1087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2688120" y="5218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aramond"/>
              </a:rPr>
              <a:t>Sinal 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349800" y="5146560"/>
            <a:ext cx="1242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187080" y="5695920"/>
            <a:ext cx="338112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hip Laser &amp; camadas 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coplamento com duas fi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913" name="ampRaman-f" descr=""/>
          <p:cNvPicPr/>
          <p:nvPr/>
        </p:nvPicPr>
        <p:blipFill>
          <a:blip r:embed="rId2"/>
          <a:stretch/>
        </p:blipFill>
        <p:spPr>
          <a:xfrm>
            <a:off x="3130560" y="2712960"/>
            <a:ext cx="3340080" cy="273204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1135080" y="1022400"/>
            <a:ext cx="732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mplificadores  Ó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90720" y="1712880"/>
            <a:ext cx="625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Arial"/>
              </a:rPr>
              <a:t>Amplificador a fibra  (AFDE &amp; Raman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4480" y="3719520"/>
            <a:ext cx="127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Un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de contr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508440" y="3355920"/>
            <a:ext cx="196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Unid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de ganho óp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lasers bombe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02 lasers - AF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04 lasers - Ra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6964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9900"/>
                </a:solidFill>
                <a:latin typeface="Arial"/>
              </a:rPr>
              <a:t>Base Tecnologica - </a:t>
            </a:r>
            <a:r>
              <a:rPr b="1" i="1" lang="pt-BR" sz="2600" spc="-1" strike="noStrike">
                <a:solidFill>
                  <a:srgbClr val="ff9900"/>
                </a:solidFill>
                <a:latin typeface="Arial"/>
              </a:rPr>
              <a:t>Amplificadores  Óticos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035760" y="26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254320" y="2560680"/>
            <a:ext cx="5213160" cy="300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9680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304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4928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92552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0032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76560" y="5583240"/>
            <a:ext cx="632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812960" y="4759200"/>
            <a:ext cx="4741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798560" y="4105440"/>
            <a:ext cx="482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874880" y="3433680"/>
            <a:ext cx="350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74520" y="2760840"/>
            <a:ext cx="4071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2314440" y="5530680"/>
            <a:ext cx="0" cy="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270160" y="556740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270160" y="491796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270160" y="458136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270160" y="42451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270160" y="39085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270160" y="35719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0160" y="29005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0160" y="256392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2646360" y="5465880"/>
            <a:ext cx="4379760" cy="120240"/>
            <a:chOff x="2646360" y="5465880"/>
            <a:chExt cx="4379760" cy="120240"/>
          </a:xfrm>
        </p:grpSpPr>
        <p:sp>
          <p:nvSpPr>
            <p:cNvPr id="941" name=""/>
            <p:cNvSpPr/>
            <p:nvPr/>
          </p:nvSpPr>
          <p:spPr>
            <a:xfrm flipV="1">
              <a:off x="264636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352080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39704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527328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614988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7026120" y="5465880"/>
              <a:ext cx="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V="1">
            <a:off x="7462800" y="5530680"/>
            <a:ext cx="0" cy="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H="1">
            <a:off x="7383600" y="5567400"/>
            <a:ext cx="8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6200000">
            <a:off x="380160" y="3633840"/>
            <a:ext cx="232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tência de Saída  (dB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412800" y="6066000"/>
            <a:ext cx="2818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imento de Onda   (n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70160" y="325584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2679840" y="2901960"/>
            <a:ext cx="4255560" cy="2124000"/>
            <a:chOff x="2679840" y="2901960"/>
            <a:chExt cx="4255560" cy="2124000"/>
          </a:xfrm>
        </p:grpSpPr>
        <p:sp>
          <p:nvSpPr>
            <p:cNvPr id="953" name=""/>
            <p:cNvSpPr/>
            <p:nvPr/>
          </p:nvSpPr>
          <p:spPr>
            <a:xfrm>
              <a:off x="2679840" y="2901960"/>
              <a:ext cx="3659040" cy="2124000"/>
            </a:xfrm>
            <a:custGeom>
              <a:avLst/>
              <a:gdLst/>
              <a:ahLst/>
              <a:rect l="l" t="t" r="r" b="b"/>
              <a:pathLst>
                <a:path w="2373" h="1560">
                  <a:moveTo>
                    <a:pt x="0" y="1559"/>
                  </a:moveTo>
                  <a:lnTo>
                    <a:pt x="4" y="1546"/>
                  </a:lnTo>
                  <a:lnTo>
                    <a:pt x="9" y="1540"/>
                  </a:lnTo>
                  <a:lnTo>
                    <a:pt x="13" y="1533"/>
                  </a:lnTo>
                  <a:lnTo>
                    <a:pt x="18" y="1531"/>
                  </a:lnTo>
                  <a:lnTo>
                    <a:pt x="22" y="1537"/>
                  </a:lnTo>
                  <a:lnTo>
                    <a:pt x="28" y="1533"/>
                  </a:lnTo>
                  <a:lnTo>
                    <a:pt x="32" y="1526"/>
                  </a:lnTo>
                  <a:lnTo>
                    <a:pt x="37" y="1520"/>
                  </a:lnTo>
                  <a:lnTo>
                    <a:pt x="41" y="1528"/>
                  </a:lnTo>
                  <a:lnTo>
                    <a:pt x="47" y="1516"/>
                  </a:lnTo>
                  <a:lnTo>
                    <a:pt x="51" y="1520"/>
                  </a:lnTo>
                  <a:lnTo>
                    <a:pt x="56" y="1513"/>
                  </a:lnTo>
                  <a:lnTo>
                    <a:pt x="61" y="1508"/>
                  </a:lnTo>
                  <a:lnTo>
                    <a:pt x="65" y="1507"/>
                  </a:lnTo>
                  <a:lnTo>
                    <a:pt x="71" y="1507"/>
                  </a:lnTo>
                  <a:lnTo>
                    <a:pt x="75" y="1506"/>
                  </a:lnTo>
                  <a:lnTo>
                    <a:pt x="80" y="1500"/>
                  </a:lnTo>
                  <a:lnTo>
                    <a:pt x="84" y="1496"/>
                  </a:lnTo>
                  <a:lnTo>
                    <a:pt x="90" y="1495"/>
                  </a:lnTo>
                  <a:lnTo>
                    <a:pt x="94" y="1488"/>
                  </a:lnTo>
                  <a:lnTo>
                    <a:pt x="99" y="1481"/>
                  </a:lnTo>
                  <a:lnTo>
                    <a:pt x="103" y="1479"/>
                  </a:lnTo>
                  <a:lnTo>
                    <a:pt x="108" y="1474"/>
                  </a:lnTo>
                  <a:lnTo>
                    <a:pt x="114" y="1470"/>
                  </a:lnTo>
                  <a:lnTo>
                    <a:pt x="118" y="1471"/>
                  </a:lnTo>
                  <a:lnTo>
                    <a:pt x="123" y="1465"/>
                  </a:lnTo>
                  <a:lnTo>
                    <a:pt x="127" y="1455"/>
                  </a:lnTo>
                  <a:lnTo>
                    <a:pt x="132" y="1456"/>
                  </a:lnTo>
                  <a:lnTo>
                    <a:pt x="137" y="1448"/>
                  </a:lnTo>
                  <a:lnTo>
                    <a:pt x="142" y="1450"/>
                  </a:lnTo>
                  <a:lnTo>
                    <a:pt x="146" y="1446"/>
                  </a:lnTo>
                  <a:lnTo>
                    <a:pt x="151" y="1439"/>
                  </a:lnTo>
                  <a:lnTo>
                    <a:pt x="155" y="1442"/>
                  </a:lnTo>
                  <a:lnTo>
                    <a:pt x="161" y="1440"/>
                  </a:lnTo>
                  <a:lnTo>
                    <a:pt x="165" y="1432"/>
                  </a:lnTo>
                  <a:lnTo>
                    <a:pt x="170" y="1425"/>
                  </a:lnTo>
                  <a:lnTo>
                    <a:pt x="175" y="1422"/>
                  </a:lnTo>
                  <a:lnTo>
                    <a:pt x="179" y="1424"/>
                  </a:lnTo>
                  <a:lnTo>
                    <a:pt x="185" y="1416"/>
                  </a:lnTo>
                  <a:lnTo>
                    <a:pt x="189" y="1413"/>
                  </a:lnTo>
                  <a:lnTo>
                    <a:pt x="194" y="1408"/>
                  </a:lnTo>
                  <a:lnTo>
                    <a:pt x="198" y="1402"/>
                  </a:lnTo>
                  <a:lnTo>
                    <a:pt x="204" y="1398"/>
                  </a:lnTo>
                  <a:lnTo>
                    <a:pt x="208" y="1387"/>
                  </a:lnTo>
                  <a:lnTo>
                    <a:pt x="213" y="1390"/>
                  </a:lnTo>
                  <a:lnTo>
                    <a:pt x="218" y="1385"/>
                  </a:lnTo>
                  <a:lnTo>
                    <a:pt x="222" y="1378"/>
                  </a:lnTo>
                  <a:lnTo>
                    <a:pt x="228" y="1375"/>
                  </a:lnTo>
                  <a:lnTo>
                    <a:pt x="232" y="1371"/>
                  </a:lnTo>
                  <a:lnTo>
                    <a:pt x="237" y="1367"/>
                  </a:lnTo>
                  <a:lnTo>
                    <a:pt x="241" y="1361"/>
                  </a:lnTo>
                  <a:lnTo>
                    <a:pt x="247" y="1354"/>
                  </a:lnTo>
                  <a:lnTo>
                    <a:pt x="251" y="1349"/>
                  </a:lnTo>
                  <a:lnTo>
                    <a:pt x="256" y="1345"/>
                  </a:lnTo>
                  <a:lnTo>
                    <a:pt x="260" y="1342"/>
                  </a:lnTo>
                  <a:lnTo>
                    <a:pt x="265" y="1334"/>
                  </a:lnTo>
                  <a:lnTo>
                    <a:pt x="269" y="1331"/>
                  </a:lnTo>
                  <a:lnTo>
                    <a:pt x="275" y="1325"/>
                  </a:lnTo>
                  <a:lnTo>
                    <a:pt x="280" y="1318"/>
                  </a:lnTo>
                  <a:lnTo>
                    <a:pt x="284" y="1317"/>
                  </a:lnTo>
                  <a:lnTo>
                    <a:pt x="290" y="1308"/>
                  </a:lnTo>
                  <a:lnTo>
                    <a:pt x="294" y="1304"/>
                  </a:lnTo>
                  <a:lnTo>
                    <a:pt x="299" y="1301"/>
                  </a:lnTo>
                  <a:lnTo>
                    <a:pt x="303" y="1292"/>
                  </a:lnTo>
                  <a:lnTo>
                    <a:pt x="308" y="1286"/>
                  </a:lnTo>
                  <a:lnTo>
                    <a:pt x="312" y="1281"/>
                  </a:lnTo>
                  <a:lnTo>
                    <a:pt x="318" y="1274"/>
                  </a:lnTo>
                  <a:lnTo>
                    <a:pt x="322" y="1268"/>
                  </a:lnTo>
                  <a:lnTo>
                    <a:pt x="327" y="1260"/>
                  </a:lnTo>
                  <a:lnTo>
                    <a:pt x="331" y="1253"/>
                  </a:lnTo>
                  <a:lnTo>
                    <a:pt x="337" y="1247"/>
                  </a:lnTo>
                  <a:lnTo>
                    <a:pt x="342" y="1243"/>
                  </a:lnTo>
                  <a:lnTo>
                    <a:pt x="346" y="1235"/>
                  </a:lnTo>
                  <a:lnTo>
                    <a:pt x="351" y="1226"/>
                  </a:lnTo>
                  <a:lnTo>
                    <a:pt x="355" y="1222"/>
                  </a:lnTo>
                  <a:lnTo>
                    <a:pt x="361" y="1213"/>
                  </a:lnTo>
                  <a:lnTo>
                    <a:pt x="365" y="1206"/>
                  </a:lnTo>
                  <a:lnTo>
                    <a:pt x="370" y="1200"/>
                  </a:lnTo>
                  <a:lnTo>
                    <a:pt x="374" y="1192"/>
                  </a:lnTo>
                  <a:lnTo>
                    <a:pt x="380" y="1185"/>
                  </a:lnTo>
                  <a:lnTo>
                    <a:pt x="385" y="1176"/>
                  </a:lnTo>
                  <a:lnTo>
                    <a:pt x="389" y="1170"/>
                  </a:lnTo>
                  <a:lnTo>
                    <a:pt x="394" y="1162"/>
                  </a:lnTo>
                  <a:lnTo>
                    <a:pt x="398" y="1154"/>
                  </a:lnTo>
                  <a:lnTo>
                    <a:pt x="404" y="1146"/>
                  </a:lnTo>
                  <a:lnTo>
                    <a:pt x="408" y="1137"/>
                  </a:lnTo>
                  <a:lnTo>
                    <a:pt x="413" y="1130"/>
                  </a:lnTo>
                  <a:lnTo>
                    <a:pt x="417" y="1121"/>
                  </a:lnTo>
                  <a:lnTo>
                    <a:pt x="422" y="1112"/>
                  </a:lnTo>
                  <a:lnTo>
                    <a:pt x="427" y="1103"/>
                  </a:lnTo>
                  <a:lnTo>
                    <a:pt x="432" y="1094"/>
                  </a:lnTo>
                  <a:lnTo>
                    <a:pt x="436" y="1085"/>
                  </a:lnTo>
                  <a:lnTo>
                    <a:pt x="441" y="1075"/>
                  </a:lnTo>
                  <a:lnTo>
                    <a:pt x="447" y="1066"/>
                  </a:lnTo>
                  <a:lnTo>
                    <a:pt x="451" y="1056"/>
                  </a:lnTo>
                  <a:lnTo>
                    <a:pt x="456" y="1048"/>
                  </a:lnTo>
                  <a:lnTo>
                    <a:pt x="460" y="1038"/>
                  </a:lnTo>
                  <a:lnTo>
                    <a:pt x="465" y="1029"/>
                  </a:lnTo>
                  <a:lnTo>
                    <a:pt x="469" y="1018"/>
                  </a:lnTo>
                  <a:lnTo>
                    <a:pt x="475" y="1008"/>
                  </a:lnTo>
                  <a:lnTo>
                    <a:pt x="479" y="997"/>
                  </a:lnTo>
                  <a:lnTo>
                    <a:pt x="484" y="985"/>
                  </a:lnTo>
                  <a:lnTo>
                    <a:pt x="488" y="977"/>
                  </a:lnTo>
                  <a:lnTo>
                    <a:pt x="494" y="966"/>
                  </a:lnTo>
                  <a:lnTo>
                    <a:pt x="499" y="954"/>
                  </a:lnTo>
                  <a:lnTo>
                    <a:pt x="503" y="943"/>
                  </a:lnTo>
                  <a:lnTo>
                    <a:pt x="508" y="932"/>
                  </a:lnTo>
                  <a:lnTo>
                    <a:pt x="512" y="921"/>
                  </a:lnTo>
                  <a:lnTo>
                    <a:pt x="518" y="909"/>
                  </a:lnTo>
                  <a:lnTo>
                    <a:pt x="522" y="898"/>
                  </a:lnTo>
                  <a:lnTo>
                    <a:pt x="527" y="886"/>
                  </a:lnTo>
                  <a:lnTo>
                    <a:pt x="531" y="873"/>
                  </a:lnTo>
                  <a:lnTo>
                    <a:pt x="537" y="861"/>
                  </a:lnTo>
                  <a:lnTo>
                    <a:pt x="541" y="849"/>
                  </a:lnTo>
                  <a:lnTo>
                    <a:pt x="546" y="837"/>
                  </a:lnTo>
                  <a:lnTo>
                    <a:pt x="551" y="823"/>
                  </a:lnTo>
                  <a:lnTo>
                    <a:pt x="555" y="811"/>
                  </a:lnTo>
                  <a:lnTo>
                    <a:pt x="561" y="798"/>
                  </a:lnTo>
                  <a:lnTo>
                    <a:pt x="565" y="785"/>
                  </a:lnTo>
                  <a:lnTo>
                    <a:pt x="570" y="771"/>
                  </a:lnTo>
                  <a:lnTo>
                    <a:pt x="574" y="758"/>
                  </a:lnTo>
                  <a:lnTo>
                    <a:pt x="580" y="745"/>
                  </a:lnTo>
                  <a:lnTo>
                    <a:pt x="584" y="731"/>
                  </a:lnTo>
                  <a:lnTo>
                    <a:pt x="589" y="718"/>
                  </a:lnTo>
                  <a:lnTo>
                    <a:pt x="593" y="705"/>
                  </a:lnTo>
                  <a:lnTo>
                    <a:pt x="598" y="690"/>
                  </a:lnTo>
                  <a:lnTo>
                    <a:pt x="602" y="678"/>
                  </a:lnTo>
                  <a:lnTo>
                    <a:pt x="608" y="657"/>
                  </a:lnTo>
                  <a:lnTo>
                    <a:pt x="613" y="650"/>
                  </a:lnTo>
                  <a:lnTo>
                    <a:pt x="617" y="635"/>
                  </a:lnTo>
                  <a:lnTo>
                    <a:pt x="623" y="620"/>
                  </a:lnTo>
                  <a:lnTo>
                    <a:pt x="627" y="606"/>
                  </a:lnTo>
                  <a:lnTo>
                    <a:pt x="632" y="589"/>
                  </a:lnTo>
                  <a:lnTo>
                    <a:pt x="636" y="579"/>
                  </a:lnTo>
                  <a:lnTo>
                    <a:pt x="641" y="562"/>
                  </a:lnTo>
                  <a:lnTo>
                    <a:pt x="645" y="545"/>
                  </a:lnTo>
                  <a:lnTo>
                    <a:pt x="651" y="532"/>
                  </a:lnTo>
                  <a:lnTo>
                    <a:pt x="655" y="517"/>
                  </a:lnTo>
                  <a:lnTo>
                    <a:pt x="660" y="504"/>
                  </a:lnTo>
                  <a:lnTo>
                    <a:pt x="665" y="487"/>
                  </a:lnTo>
                  <a:lnTo>
                    <a:pt x="670" y="475"/>
                  </a:lnTo>
                  <a:lnTo>
                    <a:pt x="675" y="462"/>
                  </a:lnTo>
                  <a:lnTo>
                    <a:pt x="679" y="445"/>
                  </a:lnTo>
                  <a:lnTo>
                    <a:pt x="684" y="431"/>
                  </a:lnTo>
                  <a:lnTo>
                    <a:pt x="688" y="415"/>
                  </a:lnTo>
                  <a:lnTo>
                    <a:pt x="694" y="403"/>
                  </a:lnTo>
                  <a:lnTo>
                    <a:pt x="698" y="387"/>
                  </a:lnTo>
                  <a:lnTo>
                    <a:pt x="703" y="374"/>
                  </a:lnTo>
                  <a:lnTo>
                    <a:pt x="707" y="360"/>
                  </a:lnTo>
                  <a:lnTo>
                    <a:pt x="712" y="345"/>
                  </a:lnTo>
                  <a:lnTo>
                    <a:pt x="717" y="331"/>
                  </a:lnTo>
                  <a:lnTo>
                    <a:pt x="722" y="316"/>
                  </a:lnTo>
                  <a:lnTo>
                    <a:pt x="727" y="303"/>
                  </a:lnTo>
                  <a:lnTo>
                    <a:pt x="731" y="288"/>
                  </a:lnTo>
                  <a:lnTo>
                    <a:pt x="737" y="273"/>
                  </a:lnTo>
                  <a:lnTo>
                    <a:pt x="741" y="260"/>
                  </a:lnTo>
                  <a:lnTo>
                    <a:pt x="746" y="246"/>
                  </a:lnTo>
                  <a:lnTo>
                    <a:pt x="750" y="233"/>
                  </a:lnTo>
                  <a:lnTo>
                    <a:pt x="755" y="221"/>
                  </a:lnTo>
                  <a:lnTo>
                    <a:pt x="759" y="209"/>
                  </a:lnTo>
                  <a:lnTo>
                    <a:pt x="765" y="197"/>
                  </a:lnTo>
                  <a:lnTo>
                    <a:pt x="770" y="182"/>
                  </a:lnTo>
                  <a:lnTo>
                    <a:pt x="774" y="169"/>
                  </a:lnTo>
                  <a:lnTo>
                    <a:pt x="780" y="158"/>
                  </a:lnTo>
                  <a:lnTo>
                    <a:pt x="784" y="144"/>
                  </a:lnTo>
                  <a:lnTo>
                    <a:pt x="789" y="133"/>
                  </a:lnTo>
                  <a:lnTo>
                    <a:pt x="793" y="122"/>
                  </a:lnTo>
                  <a:lnTo>
                    <a:pt x="798" y="112"/>
                  </a:lnTo>
                  <a:lnTo>
                    <a:pt x="802" y="101"/>
                  </a:lnTo>
                  <a:lnTo>
                    <a:pt x="808" y="91"/>
                  </a:lnTo>
                  <a:lnTo>
                    <a:pt x="812" y="81"/>
                  </a:lnTo>
                  <a:lnTo>
                    <a:pt x="817" y="75"/>
                  </a:lnTo>
                  <a:lnTo>
                    <a:pt x="821" y="66"/>
                  </a:lnTo>
                  <a:lnTo>
                    <a:pt x="827" y="59"/>
                  </a:lnTo>
                  <a:lnTo>
                    <a:pt x="832" y="51"/>
                  </a:lnTo>
                  <a:lnTo>
                    <a:pt x="836" y="43"/>
                  </a:lnTo>
                  <a:lnTo>
                    <a:pt x="841" y="36"/>
                  </a:lnTo>
                  <a:lnTo>
                    <a:pt x="845" y="31"/>
                  </a:lnTo>
                  <a:lnTo>
                    <a:pt x="851" y="25"/>
                  </a:lnTo>
                  <a:lnTo>
                    <a:pt x="855" y="19"/>
                  </a:lnTo>
                  <a:lnTo>
                    <a:pt x="860" y="16"/>
                  </a:lnTo>
                  <a:lnTo>
                    <a:pt x="864" y="12"/>
                  </a:lnTo>
                  <a:lnTo>
                    <a:pt x="870" y="9"/>
                  </a:lnTo>
                  <a:lnTo>
                    <a:pt x="874" y="6"/>
                  </a:lnTo>
                  <a:lnTo>
                    <a:pt x="879" y="3"/>
                  </a:lnTo>
                  <a:lnTo>
                    <a:pt x="883" y="2"/>
                  </a:lnTo>
                  <a:lnTo>
                    <a:pt x="888" y="0"/>
                  </a:lnTo>
                  <a:lnTo>
                    <a:pt x="894" y="0"/>
                  </a:lnTo>
                  <a:lnTo>
                    <a:pt x="898" y="0"/>
                  </a:lnTo>
                  <a:lnTo>
                    <a:pt x="903" y="2"/>
                  </a:lnTo>
                  <a:lnTo>
                    <a:pt x="907" y="6"/>
                  </a:lnTo>
                  <a:lnTo>
                    <a:pt x="913" y="9"/>
                  </a:lnTo>
                  <a:lnTo>
                    <a:pt x="917" y="15"/>
                  </a:lnTo>
                  <a:lnTo>
                    <a:pt x="922" y="19"/>
                  </a:lnTo>
                  <a:lnTo>
                    <a:pt x="926" y="27"/>
                  </a:lnTo>
                  <a:lnTo>
                    <a:pt x="931" y="33"/>
                  </a:lnTo>
                  <a:lnTo>
                    <a:pt x="937" y="42"/>
                  </a:lnTo>
                  <a:lnTo>
                    <a:pt x="941" y="51"/>
                  </a:lnTo>
                  <a:lnTo>
                    <a:pt x="946" y="61"/>
                  </a:lnTo>
                  <a:lnTo>
                    <a:pt x="950" y="72"/>
                  </a:lnTo>
                  <a:lnTo>
                    <a:pt x="955" y="83"/>
                  </a:lnTo>
                  <a:lnTo>
                    <a:pt x="960" y="96"/>
                  </a:lnTo>
                  <a:lnTo>
                    <a:pt x="965" y="108"/>
                  </a:lnTo>
                  <a:lnTo>
                    <a:pt x="969" y="121"/>
                  </a:lnTo>
                  <a:lnTo>
                    <a:pt x="974" y="136"/>
                  </a:lnTo>
                  <a:lnTo>
                    <a:pt x="978" y="149"/>
                  </a:lnTo>
                  <a:lnTo>
                    <a:pt x="984" y="164"/>
                  </a:lnTo>
                  <a:lnTo>
                    <a:pt x="988" y="180"/>
                  </a:lnTo>
                  <a:lnTo>
                    <a:pt x="993" y="197"/>
                  </a:lnTo>
                  <a:lnTo>
                    <a:pt x="998" y="212"/>
                  </a:lnTo>
                  <a:lnTo>
                    <a:pt x="1002" y="229"/>
                  </a:lnTo>
                  <a:lnTo>
                    <a:pt x="1008" y="245"/>
                  </a:lnTo>
                  <a:lnTo>
                    <a:pt x="1012" y="263"/>
                  </a:lnTo>
                  <a:lnTo>
                    <a:pt x="1017" y="281"/>
                  </a:lnTo>
                  <a:lnTo>
                    <a:pt x="1021" y="298"/>
                  </a:lnTo>
                  <a:lnTo>
                    <a:pt x="1027" y="313"/>
                  </a:lnTo>
                  <a:lnTo>
                    <a:pt x="1031" y="332"/>
                  </a:lnTo>
                  <a:lnTo>
                    <a:pt x="1036" y="347"/>
                  </a:lnTo>
                  <a:lnTo>
                    <a:pt x="1040" y="363"/>
                  </a:lnTo>
                  <a:lnTo>
                    <a:pt x="1045" y="380"/>
                  </a:lnTo>
                  <a:lnTo>
                    <a:pt x="1051" y="395"/>
                  </a:lnTo>
                  <a:lnTo>
                    <a:pt x="1055" y="411"/>
                  </a:lnTo>
                  <a:lnTo>
                    <a:pt x="1060" y="424"/>
                  </a:lnTo>
                  <a:lnTo>
                    <a:pt x="1064" y="436"/>
                  </a:lnTo>
                  <a:lnTo>
                    <a:pt x="1070" y="452"/>
                  </a:lnTo>
                  <a:lnTo>
                    <a:pt x="1074" y="464"/>
                  </a:lnTo>
                  <a:lnTo>
                    <a:pt x="1079" y="476"/>
                  </a:lnTo>
                  <a:lnTo>
                    <a:pt x="1083" y="489"/>
                  </a:lnTo>
                  <a:lnTo>
                    <a:pt x="1088" y="499"/>
                  </a:lnTo>
                  <a:lnTo>
                    <a:pt x="1092" y="512"/>
                  </a:lnTo>
                  <a:lnTo>
                    <a:pt x="1098" y="522"/>
                  </a:lnTo>
                  <a:lnTo>
                    <a:pt x="1103" y="531"/>
                  </a:lnTo>
                  <a:lnTo>
                    <a:pt x="1107" y="541"/>
                  </a:lnTo>
                  <a:lnTo>
                    <a:pt x="1113" y="549"/>
                  </a:lnTo>
                  <a:lnTo>
                    <a:pt x="1117" y="558"/>
                  </a:lnTo>
                  <a:lnTo>
                    <a:pt x="1122" y="564"/>
                  </a:lnTo>
                  <a:lnTo>
                    <a:pt x="1126" y="573"/>
                  </a:lnTo>
                  <a:lnTo>
                    <a:pt x="1131" y="578"/>
                  </a:lnTo>
                  <a:lnTo>
                    <a:pt x="1135" y="582"/>
                  </a:lnTo>
                  <a:lnTo>
                    <a:pt x="1141" y="589"/>
                  </a:lnTo>
                  <a:lnTo>
                    <a:pt x="1145" y="596"/>
                  </a:lnTo>
                  <a:lnTo>
                    <a:pt x="1150" y="597"/>
                  </a:lnTo>
                  <a:lnTo>
                    <a:pt x="1154" y="602"/>
                  </a:lnTo>
                  <a:lnTo>
                    <a:pt x="1160" y="605"/>
                  </a:lnTo>
                  <a:lnTo>
                    <a:pt x="1165" y="609"/>
                  </a:lnTo>
                  <a:lnTo>
                    <a:pt x="1169" y="609"/>
                  </a:lnTo>
                  <a:lnTo>
                    <a:pt x="1174" y="615"/>
                  </a:lnTo>
                  <a:lnTo>
                    <a:pt x="1178" y="616"/>
                  </a:lnTo>
                  <a:lnTo>
                    <a:pt x="1184" y="620"/>
                  </a:lnTo>
                  <a:lnTo>
                    <a:pt x="1188" y="624"/>
                  </a:lnTo>
                  <a:lnTo>
                    <a:pt x="1193" y="618"/>
                  </a:lnTo>
                  <a:lnTo>
                    <a:pt x="1197" y="620"/>
                  </a:lnTo>
                  <a:lnTo>
                    <a:pt x="1203" y="620"/>
                  </a:lnTo>
                  <a:lnTo>
                    <a:pt x="1207" y="623"/>
                  </a:lnTo>
                  <a:lnTo>
                    <a:pt x="1212" y="624"/>
                  </a:lnTo>
                  <a:lnTo>
                    <a:pt x="1217" y="623"/>
                  </a:lnTo>
                  <a:lnTo>
                    <a:pt x="1221" y="617"/>
                  </a:lnTo>
                  <a:lnTo>
                    <a:pt x="1227" y="616"/>
                  </a:lnTo>
                  <a:lnTo>
                    <a:pt x="1231" y="617"/>
                  </a:lnTo>
                  <a:lnTo>
                    <a:pt x="1236" y="619"/>
                  </a:lnTo>
                  <a:lnTo>
                    <a:pt x="1240" y="615"/>
                  </a:lnTo>
                  <a:lnTo>
                    <a:pt x="1246" y="614"/>
                  </a:lnTo>
                  <a:lnTo>
                    <a:pt x="1250" y="613"/>
                  </a:lnTo>
                  <a:lnTo>
                    <a:pt x="1255" y="609"/>
                  </a:lnTo>
                  <a:lnTo>
                    <a:pt x="1259" y="605"/>
                  </a:lnTo>
                  <a:lnTo>
                    <a:pt x="1264" y="605"/>
                  </a:lnTo>
                  <a:lnTo>
                    <a:pt x="1268" y="599"/>
                  </a:lnTo>
                  <a:lnTo>
                    <a:pt x="1274" y="598"/>
                  </a:lnTo>
                  <a:lnTo>
                    <a:pt x="1279" y="596"/>
                  </a:lnTo>
                  <a:lnTo>
                    <a:pt x="1283" y="590"/>
                  </a:lnTo>
                  <a:lnTo>
                    <a:pt x="1288" y="588"/>
                  </a:lnTo>
                  <a:lnTo>
                    <a:pt x="1292" y="587"/>
                  </a:lnTo>
                  <a:lnTo>
                    <a:pt x="1298" y="584"/>
                  </a:lnTo>
                  <a:lnTo>
                    <a:pt x="1302" y="579"/>
                  </a:lnTo>
                  <a:lnTo>
                    <a:pt x="1307" y="577"/>
                  </a:lnTo>
                  <a:lnTo>
                    <a:pt x="1311" y="570"/>
                  </a:lnTo>
                  <a:lnTo>
                    <a:pt x="1317" y="570"/>
                  </a:lnTo>
                  <a:lnTo>
                    <a:pt x="1322" y="565"/>
                  </a:lnTo>
                  <a:lnTo>
                    <a:pt x="1326" y="561"/>
                  </a:lnTo>
                  <a:lnTo>
                    <a:pt x="1331" y="559"/>
                  </a:lnTo>
                  <a:lnTo>
                    <a:pt x="1335" y="554"/>
                  </a:lnTo>
                  <a:lnTo>
                    <a:pt x="1341" y="549"/>
                  </a:lnTo>
                  <a:lnTo>
                    <a:pt x="1345" y="547"/>
                  </a:lnTo>
                  <a:lnTo>
                    <a:pt x="1350" y="542"/>
                  </a:lnTo>
                  <a:lnTo>
                    <a:pt x="1354" y="539"/>
                  </a:lnTo>
                  <a:lnTo>
                    <a:pt x="1360" y="535"/>
                  </a:lnTo>
                  <a:lnTo>
                    <a:pt x="1364" y="531"/>
                  </a:lnTo>
                  <a:lnTo>
                    <a:pt x="1369" y="527"/>
                  </a:lnTo>
                  <a:lnTo>
                    <a:pt x="1373" y="523"/>
                  </a:lnTo>
                  <a:lnTo>
                    <a:pt x="1378" y="518"/>
                  </a:lnTo>
                  <a:lnTo>
                    <a:pt x="1384" y="512"/>
                  </a:lnTo>
                  <a:lnTo>
                    <a:pt x="1388" y="508"/>
                  </a:lnTo>
                  <a:lnTo>
                    <a:pt x="1393" y="504"/>
                  </a:lnTo>
                  <a:lnTo>
                    <a:pt x="1397" y="501"/>
                  </a:lnTo>
                  <a:lnTo>
                    <a:pt x="1403" y="497"/>
                  </a:lnTo>
                  <a:lnTo>
                    <a:pt x="1407" y="492"/>
                  </a:lnTo>
                  <a:lnTo>
                    <a:pt x="1412" y="487"/>
                  </a:lnTo>
                  <a:lnTo>
                    <a:pt x="1416" y="483"/>
                  </a:lnTo>
                  <a:lnTo>
                    <a:pt x="1421" y="478"/>
                  </a:lnTo>
                  <a:lnTo>
                    <a:pt x="1425" y="476"/>
                  </a:lnTo>
                  <a:lnTo>
                    <a:pt x="1431" y="471"/>
                  </a:lnTo>
                  <a:lnTo>
                    <a:pt x="1435" y="466"/>
                  </a:lnTo>
                  <a:lnTo>
                    <a:pt x="1440" y="464"/>
                  </a:lnTo>
                  <a:lnTo>
                    <a:pt x="1446" y="461"/>
                  </a:lnTo>
                  <a:lnTo>
                    <a:pt x="1450" y="456"/>
                  </a:lnTo>
                  <a:lnTo>
                    <a:pt x="1455" y="452"/>
                  </a:lnTo>
                  <a:lnTo>
                    <a:pt x="1459" y="450"/>
                  </a:lnTo>
                  <a:lnTo>
                    <a:pt x="1464" y="445"/>
                  </a:lnTo>
                  <a:lnTo>
                    <a:pt x="1468" y="441"/>
                  </a:lnTo>
                  <a:lnTo>
                    <a:pt x="1474" y="437"/>
                  </a:lnTo>
                  <a:lnTo>
                    <a:pt x="1478" y="435"/>
                  </a:lnTo>
                  <a:lnTo>
                    <a:pt x="1483" y="431"/>
                  </a:lnTo>
                  <a:lnTo>
                    <a:pt x="1489" y="428"/>
                  </a:lnTo>
                  <a:lnTo>
                    <a:pt x="1493" y="426"/>
                  </a:lnTo>
                  <a:lnTo>
                    <a:pt x="1498" y="422"/>
                  </a:lnTo>
                  <a:lnTo>
                    <a:pt x="1502" y="421"/>
                  </a:lnTo>
                  <a:lnTo>
                    <a:pt x="1507" y="417"/>
                  </a:lnTo>
                  <a:lnTo>
                    <a:pt x="1511" y="415"/>
                  </a:lnTo>
                  <a:lnTo>
                    <a:pt x="1517" y="412"/>
                  </a:lnTo>
                  <a:lnTo>
                    <a:pt x="1521" y="411"/>
                  </a:lnTo>
                  <a:lnTo>
                    <a:pt x="1526" y="408"/>
                  </a:lnTo>
                  <a:lnTo>
                    <a:pt x="1530" y="406"/>
                  </a:lnTo>
                  <a:lnTo>
                    <a:pt x="1536" y="404"/>
                  </a:lnTo>
                  <a:lnTo>
                    <a:pt x="1540" y="402"/>
                  </a:lnTo>
                  <a:lnTo>
                    <a:pt x="1545" y="401"/>
                  </a:lnTo>
                  <a:lnTo>
                    <a:pt x="1550" y="400"/>
                  </a:lnTo>
                  <a:lnTo>
                    <a:pt x="1554" y="399"/>
                  </a:lnTo>
                  <a:lnTo>
                    <a:pt x="1560" y="397"/>
                  </a:lnTo>
                  <a:lnTo>
                    <a:pt x="1564" y="396"/>
                  </a:lnTo>
                  <a:lnTo>
                    <a:pt x="1569" y="394"/>
                  </a:lnTo>
                  <a:lnTo>
                    <a:pt x="1573" y="395"/>
                  </a:lnTo>
                  <a:lnTo>
                    <a:pt x="1578" y="394"/>
                  </a:lnTo>
                  <a:lnTo>
                    <a:pt x="1583" y="393"/>
                  </a:lnTo>
                  <a:lnTo>
                    <a:pt x="1588" y="394"/>
                  </a:lnTo>
                  <a:lnTo>
                    <a:pt x="1592" y="394"/>
                  </a:lnTo>
                  <a:lnTo>
                    <a:pt x="1597" y="392"/>
                  </a:lnTo>
                  <a:lnTo>
                    <a:pt x="1603" y="393"/>
                  </a:lnTo>
                  <a:lnTo>
                    <a:pt x="1607" y="394"/>
                  </a:lnTo>
                  <a:lnTo>
                    <a:pt x="1612" y="394"/>
                  </a:lnTo>
                  <a:lnTo>
                    <a:pt x="1616" y="394"/>
                  </a:lnTo>
                  <a:lnTo>
                    <a:pt x="1621" y="395"/>
                  </a:lnTo>
                  <a:lnTo>
                    <a:pt x="1625" y="397"/>
                  </a:lnTo>
                  <a:lnTo>
                    <a:pt x="1631" y="399"/>
                  </a:lnTo>
                  <a:lnTo>
                    <a:pt x="1635" y="399"/>
                  </a:lnTo>
                  <a:lnTo>
                    <a:pt x="1640" y="401"/>
                  </a:lnTo>
                  <a:lnTo>
                    <a:pt x="1644" y="403"/>
                  </a:lnTo>
                  <a:lnTo>
                    <a:pt x="1650" y="404"/>
                  </a:lnTo>
                  <a:lnTo>
                    <a:pt x="1655" y="405"/>
                  </a:lnTo>
                  <a:lnTo>
                    <a:pt x="1659" y="407"/>
                  </a:lnTo>
                  <a:lnTo>
                    <a:pt x="1664" y="410"/>
                  </a:lnTo>
                  <a:lnTo>
                    <a:pt x="1668" y="412"/>
                  </a:lnTo>
                  <a:lnTo>
                    <a:pt x="1674" y="415"/>
                  </a:lnTo>
                  <a:lnTo>
                    <a:pt x="1678" y="418"/>
                  </a:lnTo>
                  <a:lnTo>
                    <a:pt x="1683" y="421"/>
                  </a:lnTo>
                  <a:lnTo>
                    <a:pt x="1687" y="423"/>
                  </a:lnTo>
                  <a:lnTo>
                    <a:pt x="1693" y="426"/>
                  </a:lnTo>
                  <a:lnTo>
                    <a:pt x="1697" y="427"/>
                  </a:lnTo>
                  <a:lnTo>
                    <a:pt x="1702" y="431"/>
                  </a:lnTo>
                  <a:lnTo>
                    <a:pt x="1706" y="434"/>
                  </a:lnTo>
                  <a:lnTo>
                    <a:pt x="1711" y="437"/>
                  </a:lnTo>
                  <a:lnTo>
                    <a:pt x="1717" y="440"/>
                  </a:lnTo>
                  <a:lnTo>
                    <a:pt x="1721" y="442"/>
                  </a:lnTo>
                  <a:lnTo>
                    <a:pt x="1726" y="447"/>
                  </a:lnTo>
                  <a:lnTo>
                    <a:pt x="1730" y="451"/>
                  </a:lnTo>
                  <a:lnTo>
                    <a:pt x="1736" y="455"/>
                  </a:lnTo>
                  <a:lnTo>
                    <a:pt x="1740" y="457"/>
                  </a:lnTo>
                  <a:lnTo>
                    <a:pt x="1745" y="461"/>
                  </a:lnTo>
                  <a:lnTo>
                    <a:pt x="1749" y="464"/>
                  </a:lnTo>
                  <a:lnTo>
                    <a:pt x="1754" y="467"/>
                  </a:lnTo>
                  <a:lnTo>
                    <a:pt x="1758" y="472"/>
                  </a:lnTo>
                  <a:lnTo>
                    <a:pt x="1764" y="477"/>
                  </a:lnTo>
                  <a:lnTo>
                    <a:pt x="1769" y="478"/>
                  </a:lnTo>
                  <a:lnTo>
                    <a:pt x="1773" y="483"/>
                  </a:lnTo>
                  <a:lnTo>
                    <a:pt x="1779" y="487"/>
                  </a:lnTo>
                  <a:lnTo>
                    <a:pt x="1783" y="493"/>
                  </a:lnTo>
                  <a:lnTo>
                    <a:pt x="1788" y="496"/>
                  </a:lnTo>
                  <a:lnTo>
                    <a:pt x="1792" y="499"/>
                  </a:lnTo>
                  <a:lnTo>
                    <a:pt x="1797" y="505"/>
                  </a:lnTo>
                  <a:lnTo>
                    <a:pt x="1801" y="508"/>
                  </a:lnTo>
                  <a:lnTo>
                    <a:pt x="1807" y="513"/>
                  </a:lnTo>
                  <a:lnTo>
                    <a:pt x="1811" y="514"/>
                  </a:lnTo>
                  <a:lnTo>
                    <a:pt x="1816" y="522"/>
                  </a:lnTo>
                  <a:lnTo>
                    <a:pt x="1820" y="526"/>
                  </a:lnTo>
                  <a:lnTo>
                    <a:pt x="1826" y="529"/>
                  </a:lnTo>
                  <a:lnTo>
                    <a:pt x="1831" y="533"/>
                  </a:lnTo>
                  <a:lnTo>
                    <a:pt x="1835" y="537"/>
                  </a:lnTo>
                  <a:lnTo>
                    <a:pt x="1840" y="542"/>
                  </a:lnTo>
                  <a:lnTo>
                    <a:pt x="1844" y="546"/>
                  </a:lnTo>
                  <a:lnTo>
                    <a:pt x="1850" y="553"/>
                  </a:lnTo>
                  <a:lnTo>
                    <a:pt x="1854" y="555"/>
                  </a:lnTo>
                  <a:lnTo>
                    <a:pt x="1859" y="558"/>
                  </a:lnTo>
                  <a:lnTo>
                    <a:pt x="1863" y="563"/>
                  </a:lnTo>
                  <a:lnTo>
                    <a:pt x="1868" y="569"/>
                  </a:lnTo>
                  <a:lnTo>
                    <a:pt x="1874" y="573"/>
                  </a:lnTo>
                  <a:lnTo>
                    <a:pt x="1878" y="576"/>
                  </a:lnTo>
                  <a:lnTo>
                    <a:pt x="1883" y="579"/>
                  </a:lnTo>
                  <a:lnTo>
                    <a:pt x="1887" y="586"/>
                  </a:lnTo>
                  <a:lnTo>
                    <a:pt x="1893" y="590"/>
                  </a:lnTo>
                  <a:lnTo>
                    <a:pt x="1897" y="592"/>
                  </a:lnTo>
                  <a:lnTo>
                    <a:pt x="1902" y="598"/>
                  </a:lnTo>
                  <a:lnTo>
                    <a:pt x="1906" y="599"/>
                  </a:lnTo>
                  <a:lnTo>
                    <a:pt x="1911" y="606"/>
                  </a:lnTo>
                  <a:lnTo>
                    <a:pt x="1915" y="608"/>
                  </a:lnTo>
                  <a:lnTo>
                    <a:pt x="1921" y="616"/>
                  </a:lnTo>
                  <a:lnTo>
                    <a:pt x="1925" y="620"/>
                  </a:lnTo>
                  <a:lnTo>
                    <a:pt x="1930" y="620"/>
                  </a:lnTo>
                  <a:lnTo>
                    <a:pt x="1936" y="627"/>
                  </a:lnTo>
                  <a:lnTo>
                    <a:pt x="1940" y="633"/>
                  </a:lnTo>
                  <a:lnTo>
                    <a:pt x="1945" y="633"/>
                  </a:lnTo>
                  <a:lnTo>
                    <a:pt x="1949" y="639"/>
                  </a:lnTo>
                  <a:lnTo>
                    <a:pt x="1954" y="643"/>
                  </a:lnTo>
                  <a:lnTo>
                    <a:pt x="1958" y="648"/>
                  </a:lnTo>
                  <a:lnTo>
                    <a:pt x="1964" y="653"/>
                  </a:lnTo>
                  <a:lnTo>
                    <a:pt x="1968" y="658"/>
                  </a:lnTo>
                  <a:lnTo>
                    <a:pt x="1973" y="664"/>
                  </a:lnTo>
                  <a:lnTo>
                    <a:pt x="1977" y="669"/>
                  </a:lnTo>
                  <a:lnTo>
                    <a:pt x="1983" y="669"/>
                  </a:lnTo>
                  <a:lnTo>
                    <a:pt x="1987" y="674"/>
                  </a:lnTo>
                  <a:lnTo>
                    <a:pt x="1992" y="678"/>
                  </a:lnTo>
                  <a:lnTo>
                    <a:pt x="1997" y="683"/>
                  </a:lnTo>
                  <a:lnTo>
                    <a:pt x="2001" y="687"/>
                  </a:lnTo>
                  <a:lnTo>
                    <a:pt x="2007" y="691"/>
                  </a:lnTo>
                  <a:lnTo>
                    <a:pt x="2011" y="695"/>
                  </a:lnTo>
                  <a:lnTo>
                    <a:pt x="2016" y="699"/>
                  </a:lnTo>
                  <a:lnTo>
                    <a:pt x="2020" y="704"/>
                  </a:lnTo>
                  <a:lnTo>
                    <a:pt x="2026" y="708"/>
                  </a:lnTo>
                  <a:lnTo>
                    <a:pt x="2030" y="713"/>
                  </a:lnTo>
                  <a:lnTo>
                    <a:pt x="2035" y="717"/>
                  </a:lnTo>
                  <a:lnTo>
                    <a:pt x="2040" y="721"/>
                  </a:lnTo>
                  <a:lnTo>
                    <a:pt x="2044" y="726"/>
                  </a:lnTo>
                  <a:lnTo>
                    <a:pt x="2050" y="730"/>
                  </a:lnTo>
                  <a:lnTo>
                    <a:pt x="2054" y="734"/>
                  </a:lnTo>
                  <a:lnTo>
                    <a:pt x="2059" y="739"/>
                  </a:lnTo>
                  <a:lnTo>
                    <a:pt x="2063" y="742"/>
                  </a:lnTo>
                  <a:lnTo>
                    <a:pt x="2069" y="748"/>
                  </a:lnTo>
                  <a:lnTo>
                    <a:pt x="2073" y="752"/>
                  </a:lnTo>
                  <a:lnTo>
                    <a:pt x="2078" y="756"/>
                  </a:lnTo>
                  <a:lnTo>
                    <a:pt x="2082" y="760"/>
                  </a:lnTo>
                  <a:lnTo>
                    <a:pt x="2087" y="765"/>
                  </a:lnTo>
                  <a:lnTo>
                    <a:pt x="2091" y="769"/>
                  </a:lnTo>
                  <a:lnTo>
                    <a:pt x="2097" y="774"/>
                  </a:lnTo>
                  <a:lnTo>
                    <a:pt x="2102" y="778"/>
                  </a:lnTo>
                  <a:lnTo>
                    <a:pt x="2106" y="782"/>
                  </a:lnTo>
                  <a:lnTo>
                    <a:pt x="2111" y="787"/>
                  </a:lnTo>
                  <a:lnTo>
                    <a:pt x="2116" y="791"/>
                  </a:lnTo>
                  <a:lnTo>
                    <a:pt x="2121" y="795"/>
                  </a:lnTo>
                  <a:lnTo>
                    <a:pt x="2125" y="800"/>
                  </a:lnTo>
                  <a:lnTo>
                    <a:pt x="2130" y="805"/>
                  </a:lnTo>
                  <a:lnTo>
                    <a:pt x="2134" y="809"/>
                  </a:lnTo>
                  <a:lnTo>
                    <a:pt x="2140" y="813"/>
                  </a:lnTo>
                  <a:lnTo>
                    <a:pt x="2144" y="817"/>
                  </a:lnTo>
                  <a:lnTo>
                    <a:pt x="2149" y="822"/>
                  </a:lnTo>
                  <a:lnTo>
                    <a:pt x="2154" y="827"/>
                  </a:lnTo>
                  <a:lnTo>
                    <a:pt x="2158" y="831"/>
                  </a:lnTo>
                  <a:lnTo>
                    <a:pt x="2164" y="836"/>
                  </a:lnTo>
                  <a:lnTo>
                    <a:pt x="2168" y="840"/>
                  </a:lnTo>
                  <a:lnTo>
                    <a:pt x="2173" y="845"/>
                  </a:lnTo>
                  <a:lnTo>
                    <a:pt x="2177" y="849"/>
                  </a:lnTo>
                  <a:lnTo>
                    <a:pt x="2183" y="853"/>
                  </a:lnTo>
                  <a:lnTo>
                    <a:pt x="2187" y="858"/>
                  </a:lnTo>
                  <a:lnTo>
                    <a:pt x="2192" y="862"/>
                  </a:lnTo>
                  <a:lnTo>
                    <a:pt x="2196" y="867"/>
                  </a:lnTo>
                  <a:lnTo>
                    <a:pt x="2201" y="871"/>
                  </a:lnTo>
                  <a:lnTo>
                    <a:pt x="2207" y="876"/>
                  </a:lnTo>
                  <a:lnTo>
                    <a:pt x="2211" y="880"/>
                  </a:lnTo>
                  <a:lnTo>
                    <a:pt x="2216" y="885"/>
                  </a:lnTo>
                  <a:lnTo>
                    <a:pt x="2220" y="889"/>
                  </a:lnTo>
                  <a:lnTo>
                    <a:pt x="2226" y="894"/>
                  </a:lnTo>
                  <a:lnTo>
                    <a:pt x="2230" y="898"/>
                  </a:lnTo>
                  <a:lnTo>
                    <a:pt x="2235" y="902"/>
                  </a:lnTo>
                  <a:lnTo>
                    <a:pt x="2239" y="907"/>
                  </a:lnTo>
                  <a:lnTo>
                    <a:pt x="2244" y="911"/>
                  </a:lnTo>
                  <a:lnTo>
                    <a:pt x="2248" y="917"/>
                  </a:lnTo>
                  <a:lnTo>
                    <a:pt x="2254" y="920"/>
                  </a:lnTo>
                  <a:lnTo>
                    <a:pt x="2258" y="926"/>
                  </a:lnTo>
                  <a:lnTo>
                    <a:pt x="2263" y="929"/>
                  </a:lnTo>
                  <a:lnTo>
                    <a:pt x="2269" y="934"/>
                  </a:lnTo>
                  <a:lnTo>
                    <a:pt x="2273" y="939"/>
                  </a:lnTo>
                  <a:lnTo>
                    <a:pt x="2278" y="943"/>
                  </a:lnTo>
                  <a:lnTo>
                    <a:pt x="2282" y="948"/>
                  </a:lnTo>
                  <a:lnTo>
                    <a:pt x="2287" y="952"/>
                  </a:lnTo>
                  <a:lnTo>
                    <a:pt x="2291" y="957"/>
                  </a:lnTo>
                  <a:lnTo>
                    <a:pt x="2297" y="961"/>
                  </a:lnTo>
                  <a:lnTo>
                    <a:pt x="2301" y="966"/>
                  </a:lnTo>
                  <a:lnTo>
                    <a:pt x="2306" y="970"/>
                  </a:lnTo>
                  <a:lnTo>
                    <a:pt x="2310" y="974"/>
                  </a:lnTo>
                  <a:lnTo>
                    <a:pt x="2316" y="979"/>
                  </a:lnTo>
                  <a:lnTo>
                    <a:pt x="2321" y="983"/>
                  </a:lnTo>
                  <a:lnTo>
                    <a:pt x="2325" y="988"/>
                  </a:lnTo>
                  <a:lnTo>
                    <a:pt x="2330" y="992"/>
                  </a:lnTo>
                  <a:lnTo>
                    <a:pt x="2334" y="997"/>
                  </a:lnTo>
                  <a:lnTo>
                    <a:pt x="2340" y="1001"/>
                  </a:lnTo>
                  <a:lnTo>
                    <a:pt x="2344" y="1005"/>
                  </a:lnTo>
                  <a:lnTo>
                    <a:pt x="2349" y="1010"/>
                  </a:lnTo>
                  <a:lnTo>
                    <a:pt x="2353" y="1015"/>
                  </a:lnTo>
                  <a:lnTo>
                    <a:pt x="2359" y="1020"/>
                  </a:lnTo>
                  <a:lnTo>
                    <a:pt x="2363" y="1023"/>
                  </a:lnTo>
                  <a:lnTo>
                    <a:pt x="2368" y="1028"/>
                  </a:lnTo>
                  <a:lnTo>
                    <a:pt x="2372" y="1032"/>
                  </a:lnTo>
                </a:path>
              </a:pathLst>
            </a:custGeom>
            <a:noFill/>
            <a:ln cap="rnd"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337440" y="4307040"/>
              <a:ext cx="597960" cy="4381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0"/>
                  </a:moveTo>
                  <a:lnTo>
                    <a:pt x="5" y="6"/>
                  </a:lnTo>
                  <a:lnTo>
                    <a:pt x="11" y="9"/>
                  </a:lnTo>
                  <a:lnTo>
                    <a:pt x="15" y="15"/>
                  </a:lnTo>
                  <a:lnTo>
                    <a:pt x="20" y="19"/>
                  </a:lnTo>
                  <a:lnTo>
                    <a:pt x="24" y="22"/>
                  </a:lnTo>
                  <a:lnTo>
                    <a:pt x="29" y="27"/>
                  </a:lnTo>
                  <a:lnTo>
                    <a:pt x="34" y="31"/>
                  </a:lnTo>
                  <a:lnTo>
                    <a:pt x="39" y="36"/>
                  </a:lnTo>
                  <a:lnTo>
                    <a:pt x="43" y="40"/>
                  </a:lnTo>
                  <a:lnTo>
                    <a:pt x="48" y="44"/>
                  </a:lnTo>
                  <a:lnTo>
                    <a:pt x="54" y="49"/>
                  </a:lnTo>
                  <a:lnTo>
                    <a:pt x="58" y="52"/>
                  </a:lnTo>
                  <a:lnTo>
                    <a:pt x="63" y="57"/>
                  </a:lnTo>
                  <a:lnTo>
                    <a:pt x="67" y="60"/>
                  </a:lnTo>
                  <a:lnTo>
                    <a:pt x="72" y="66"/>
                  </a:lnTo>
                  <a:lnTo>
                    <a:pt x="76" y="70"/>
                  </a:lnTo>
                  <a:lnTo>
                    <a:pt x="82" y="76"/>
                  </a:lnTo>
                  <a:lnTo>
                    <a:pt x="86" y="79"/>
                  </a:lnTo>
                  <a:lnTo>
                    <a:pt x="91" y="83"/>
                  </a:lnTo>
                  <a:lnTo>
                    <a:pt x="95" y="88"/>
                  </a:lnTo>
                  <a:lnTo>
                    <a:pt x="101" y="91"/>
                  </a:lnTo>
                  <a:lnTo>
                    <a:pt x="105" y="96"/>
                  </a:lnTo>
                  <a:lnTo>
                    <a:pt x="110" y="100"/>
                  </a:lnTo>
                  <a:lnTo>
                    <a:pt x="115" y="104"/>
                  </a:lnTo>
                  <a:lnTo>
                    <a:pt x="119" y="110"/>
                  </a:lnTo>
                  <a:lnTo>
                    <a:pt x="125" y="113"/>
                  </a:lnTo>
                  <a:lnTo>
                    <a:pt x="129" y="117"/>
                  </a:lnTo>
                  <a:lnTo>
                    <a:pt x="134" y="121"/>
                  </a:lnTo>
                  <a:lnTo>
                    <a:pt x="138" y="124"/>
                  </a:lnTo>
                  <a:lnTo>
                    <a:pt x="144" y="130"/>
                  </a:lnTo>
                  <a:lnTo>
                    <a:pt x="148" y="133"/>
                  </a:lnTo>
                  <a:lnTo>
                    <a:pt x="153" y="137"/>
                  </a:lnTo>
                  <a:lnTo>
                    <a:pt x="157" y="142"/>
                  </a:lnTo>
                  <a:lnTo>
                    <a:pt x="162" y="144"/>
                  </a:lnTo>
                  <a:lnTo>
                    <a:pt x="166" y="150"/>
                  </a:lnTo>
                  <a:lnTo>
                    <a:pt x="172" y="154"/>
                  </a:lnTo>
                  <a:lnTo>
                    <a:pt x="177" y="158"/>
                  </a:lnTo>
                  <a:lnTo>
                    <a:pt x="181" y="161"/>
                  </a:lnTo>
                  <a:lnTo>
                    <a:pt x="187" y="165"/>
                  </a:lnTo>
                  <a:lnTo>
                    <a:pt x="191" y="171"/>
                  </a:lnTo>
                  <a:lnTo>
                    <a:pt x="196" y="174"/>
                  </a:lnTo>
                  <a:lnTo>
                    <a:pt x="200" y="179"/>
                  </a:lnTo>
                  <a:lnTo>
                    <a:pt x="205" y="182"/>
                  </a:lnTo>
                  <a:lnTo>
                    <a:pt x="209" y="186"/>
                  </a:lnTo>
                  <a:lnTo>
                    <a:pt x="215" y="191"/>
                  </a:lnTo>
                  <a:lnTo>
                    <a:pt x="220" y="195"/>
                  </a:lnTo>
                  <a:lnTo>
                    <a:pt x="224" y="198"/>
                  </a:lnTo>
                  <a:lnTo>
                    <a:pt x="230" y="202"/>
                  </a:lnTo>
                  <a:lnTo>
                    <a:pt x="234" y="206"/>
                  </a:lnTo>
                  <a:lnTo>
                    <a:pt x="239" y="210"/>
                  </a:lnTo>
                  <a:lnTo>
                    <a:pt x="243" y="214"/>
                  </a:lnTo>
                  <a:lnTo>
                    <a:pt x="248" y="216"/>
                  </a:lnTo>
                  <a:lnTo>
                    <a:pt x="252" y="219"/>
                  </a:lnTo>
                  <a:lnTo>
                    <a:pt x="258" y="223"/>
                  </a:lnTo>
                  <a:lnTo>
                    <a:pt x="262" y="229"/>
                  </a:lnTo>
                  <a:lnTo>
                    <a:pt x="267" y="234"/>
                  </a:lnTo>
                  <a:lnTo>
                    <a:pt x="271" y="236"/>
                  </a:lnTo>
                  <a:lnTo>
                    <a:pt x="277" y="240"/>
                  </a:lnTo>
                  <a:lnTo>
                    <a:pt x="282" y="241"/>
                  </a:lnTo>
                  <a:lnTo>
                    <a:pt x="286" y="246"/>
                  </a:lnTo>
                  <a:lnTo>
                    <a:pt x="291" y="251"/>
                  </a:lnTo>
                  <a:lnTo>
                    <a:pt x="295" y="252"/>
                  </a:lnTo>
                  <a:lnTo>
                    <a:pt x="301" y="256"/>
                  </a:lnTo>
                  <a:lnTo>
                    <a:pt x="305" y="260"/>
                  </a:lnTo>
                  <a:lnTo>
                    <a:pt x="310" y="266"/>
                  </a:lnTo>
                  <a:lnTo>
                    <a:pt x="314" y="273"/>
                  </a:lnTo>
                  <a:lnTo>
                    <a:pt x="320" y="273"/>
                  </a:lnTo>
                  <a:lnTo>
                    <a:pt x="324" y="274"/>
                  </a:lnTo>
                  <a:lnTo>
                    <a:pt x="329" y="281"/>
                  </a:lnTo>
                  <a:lnTo>
                    <a:pt x="334" y="287"/>
                  </a:lnTo>
                  <a:lnTo>
                    <a:pt x="338" y="287"/>
                  </a:lnTo>
                  <a:lnTo>
                    <a:pt x="344" y="291"/>
                  </a:lnTo>
                  <a:lnTo>
                    <a:pt x="348" y="294"/>
                  </a:lnTo>
                  <a:lnTo>
                    <a:pt x="353" y="301"/>
                  </a:lnTo>
                  <a:lnTo>
                    <a:pt x="357" y="303"/>
                  </a:lnTo>
                  <a:lnTo>
                    <a:pt x="362" y="306"/>
                  </a:lnTo>
                  <a:lnTo>
                    <a:pt x="366" y="307"/>
                  </a:lnTo>
                  <a:lnTo>
                    <a:pt x="372" y="310"/>
                  </a:lnTo>
                  <a:lnTo>
                    <a:pt x="376" y="313"/>
                  </a:lnTo>
                  <a:lnTo>
                    <a:pt x="381" y="316"/>
                  </a:lnTo>
                  <a:lnTo>
                    <a:pt x="387" y="321"/>
                  </a:lnTo>
                </a:path>
              </a:pathLst>
            </a:custGeom>
            <a:noFill/>
            <a:ln cap="rnd"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2257560" y="4245120"/>
            <a:ext cx="5207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44600" y="3571920"/>
            <a:ext cx="5207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270160" y="5241960"/>
            <a:ext cx="6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3090960" y="5513040"/>
            <a:ext cx="4379760" cy="73080"/>
            <a:chOff x="3090960" y="5513040"/>
            <a:chExt cx="4379760" cy="73080"/>
          </a:xfrm>
        </p:grpSpPr>
        <p:sp>
          <p:nvSpPr>
            <p:cNvPr id="959" name=""/>
            <p:cNvSpPr/>
            <p:nvPr/>
          </p:nvSpPr>
          <p:spPr>
            <a:xfrm flipV="1">
              <a:off x="309096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396540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484164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571788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659448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7470720" y="5513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2243160" y="2903400"/>
            <a:ext cx="5207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16480" y="4811760"/>
            <a:ext cx="260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18080" y="4964040"/>
            <a:ext cx="22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da de amplif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180120" y="441000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494160" y="4384800"/>
            <a:ext cx="0" cy="76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631760" y="1746360"/>
            <a:ext cx="4021200" cy="3988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bra sílica : Er+/Al-Ge ; L ~ 30-4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70680" y="1020600"/>
            <a:ext cx="60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3333cc"/>
                </a:solidFill>
                <a:latin typeface="Tahoma"/>
              </a:rPr>
              <a:t>AFDE Espectro de Emissão</a:t>
            </a:r>
            <a:r>
              <a:rPr b="0" i="1" lang="pt-BR" sz="2800" spc="-1" strike="noStrike">
                <a:solidFill>
                  <a:srgbClr val="cc0000"/>
                </a:solidFill>
                <a:latin typeface="Tahoma"/>
              </a:rPr>
              <a:t> - Banda C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2" name=""/>
          <p:cNvGraphicFramePr/>
          <p:nvPr/>
        </p:nvGraphicFramePr>
        <p:xfrm>
          <a:off x="1625760" y="1525680"/>
          <a:ext cx="5887800" cy="493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5760" y="1525680"/>
                    <a:ext cx="588780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"/>
          <p:cNvSpPr/>
          <p:nvPr/>
        </p:nvSpPr>
        <p:spPr>
          <a:xfrm>
            <a:off x="3178440" y="2928960"/>
            <a:ext cx="56160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é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479120" y="3557520"/>
            <a:ext cx="7156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749560" y="4970520"/>
            <a:ext cx="54360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6964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9900"/>
                </a:solidFill>
                <a:latin typeface="Arial"/>
              </a:rPr>
              <a:t>Base Tecnologica - </a:t>
            </a:r>
            <a:r>
              <a:rPr b="1" i="1" lang="pt-BR" sz="2600" spc="-1" strike="noStrike">
                <a:solidFill>
                  <a:srgbClr val="ff9900"/>
                </a:solidFill>
                <a:latin typeface="Arial"/>
              </a:rPr>
              <a:t>Amplificadores  Óticos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83280" y="992160"/>
            <a:ext cx="36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AFDE -- ganho óptico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06320" y="936720"/>
            <a:ext cx="536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mplificadores  Ó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689840" y="176040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7777"/>
                </a:solidFill>
                <a:latin typeface="Arial"/>
              </a:rPr>
              <a:t>Amplificador SO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014640" y="3765600"/>
            <a:ext cx="3332160" cy="1695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SOA-PlacaContrl2" descr=""/>
          <p:cNvPicPr/>
          <p:nvPr/>
        </p:nvPicPr>
        <p:blipFill>
          <a:blip r:embed="rId2"/>
          <a:stretch/>
        </p:blipFill>
        <p:spPr>
          <a:xfrm>
            <a:off x="1792440" y="2484360"/>
            <a:ext cx="5535360" cy="30164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3911760" y="4773600"/>
            <a:ext cx="215568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nida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 ganho óp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 controle eletrô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053560" y="3200400"/>
            <a:ext cx="0" cy="159228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8" name="SOA-FibrPakg-029" descr=""/>
          <p:cNvPicPr/>
          <p:nvPr/>
        </p:nvPicPr>
        <p:blipFill>
          <a:blip r:embed="rId3"/>
          <a:stretch/>
        </p:blipFill>
        <p:spPr>
          <a:xfrm>
            <a:off x="7002360" y="1679400"/>
            <a:ext cx="1951200" cy="1463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989" name="SOA-FibrPakg-030" descr=""/>
          <p:cNvPicPr/>
          <p:nvPr/>
        </p:nvPicPr>
        <p:blipFill>
          <a:blip r:embed="rId4"/>
          <a:stretch/>
        </p:blipFill>
        <p:spPr>
          <a:xfrm>
            <a:off x="7016760" y="4954680"/>
            <a:ext cx="1951200" cy="1463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6964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9900"/>
                </a:solidFill>
                <a:latin typeface="Arial"/>
              </a:rPr>
              <a:t>Base Tecnologica - </a:t>
            </a:r>
            <a:r>
              <a:rPr b="1" i="1" lang="pt-BR" sz="2600" spc="-1" strike="noStrike">
                <a:solidFill>
                  <a:srgbClr val="ff9900"/>
                </a:solidFill>
                <a:latin typeface="Arial"/>
              </a:rPr>
              <a:t>Amplificadores  Óticos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93360" y="992160"/>
            <a:ext cx="381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SOA -- espectro óptico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215320" y="17272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77777"/>
                </a:solidFill>
                <a:latin typeface="Arial"/>
              </a:rPr>
              <a:t>1520 – 1570 n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841320" y="2300400"/>
            <a:ext cx="3524400" cy="26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018040" y="2335320"/>
            <a:ext cx="3465720" cy="25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58880" y="534528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sem la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26480" y="542448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com las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7" name="SoaAmp-152frv" descr=""/>
          <p:cNvPicPr/>
          <p:nvPr/>
        </p:nvPicPr>
        <p:blipFill>
          <a:blip r:embed="rId2"/>
          <a:stretch/>
        </p:blipFill>
        <p:spPr>
          <a:xfrm>
            <a:off x="4486320" y="2075040"/>
            <a:ext cx="4643280" cy="3243240"/>
          </a:xfrm>
          <a:prstGeom prst="rect">
            <a:avLst/>
          </a:prstGeom>
          <a:ln w="0">
            <a:noFill/>
          </a:ln>
        </p:spPr>
      </p:pic>
      <p:pic>
        <p:nvPicPr>
          <p:cNvPr id="998" name="SOA-01-Espectr" descr=""/>
          <p:cNvPicPr/>
          <p:nvPr/>
        </p:nvPicPr>
        <p:blipFill>
          <a:blip r:embed="rId3"/>
          <a:stretch/>
        </p:blipFill>
        <p:spPr>
          <a:xfrm>
            <a:off x="385920" y="2144880"/>
            <a:ext cx="4510080" cy="308736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855720" y="2316240"/>
            <a:ext cx="3524040" cy="260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078520" y="2351160"/>
            <a:ext cx="341928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87160" y="271080"/>
            <a:ext cx="6964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9900"/>
                </a:solidFill>
                <a:latin typeface="Arial"/>
              </a:rPr>
              <a:t>Base Tecnologica - </a:t>
            </a:r>
            <a:r>
              <a:rPr b="1" i="1" lang="pt-BR" sz="2600" spc="-1" strike="noStrike">
                <a:solidFill>
                  <a:srgbClr val="ff9900"/>
                </a:solidFill>
                <a:latin typeface="Arial"/>
              </a:rPr>
              <a:t>Amplificadores  Óticos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1040" y="992160"/>
            <a:ext cx="349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SOA -- ganho óptico</a:t>
            </a:r>
            <a:r>
              <a:rPr b="0" i="1" lang="en-US" sz="28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2228760" y="2122560"/>
          <a:ext cx="5056200" cy="364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8760" y="2122560"/>
                    <a:ext cx="5056200" cy="3645000"/>
                  </a:xfrm>
                  <a:prstGeom prst="rect">
                    <a:avLst/>
                  </a:prstGeom>
                  <a:ln w="9360">
                    <a:solidFill>
                      <a:srgbClr val="a5002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05" name=""/>
          <p:cNvSpPr/>
          <p:nvPr/>
        </p:nvSpPr>
        <p:spPr>
          <a:xfrm>
            <a:off x="5215320" y="17272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777777"/>
                </a:solidFill>
                <a:latin typeface="Arial"/>
              </a:rPr>
              <a:t>1520 – 1570 n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Arial"/>
              </a:rPr>
              <a:t>Fontes, Detetores e Fibras 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760" y="3664080"/>
            <a:ext cx="3394080" cy="26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ser Semicond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SzPct val="50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Fabry-Perot (FP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SzPct val="50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Feed-back distribuído (DFB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SzPct val="50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El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808080"/>
              </a:buClr>
              <a:buSzPct val="50000"/>
              <a:buFont typeface="Monotype Sorts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Sl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03800" y="3649680"/>
            <a:ext cx="3394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or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etor A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ono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ulti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2381400" y="2296440"/>
            <a:ext cx="4365360" cy="206280"/>
          </a:xfrm>
          <a:custGeom>
            <a:avLst/>
            <a:gdLst/>
            <a:ahLst/>
            <a:rect l="l" t="t" r="r" b="b"/>
            <a:pathLst>
              <a:path w="3000" h="227">
                <a:moveTo>
                  <a:pt x="0" y="27"/>
                </a:moveTo>
                <a:lnTo>
                  <a:pt x="382" y="27"/>
                </a:lnTo>
                <a:lnTo>
                  <a:pt x="636" y="55"/>
                </a:lnTo>
                <a:lnTo>
                  <a:pt x="900" y="164"/>
                </a:lnTo>
                <a:lnTo>
                  <a:pt x="1118" y="209"/>
                </a:lnTo>
                <a:lnTo>
                  <a:pt x="1345" y="200"/>
                </a:lnTo>
                <a:lnTo>
                  <a:pt x="1636" y="45"/>
                </a:lnTo>
                <a:lnTo>
                  <a:pt x="1927" y="0"/>
                </a:lnTo>
                <a:lnTo>
                  <a:pt x="2164" y="45"/>
                </a:lnTo>
                <a:lnTo>
                  <a:pt x="2527" y="209"/>
                </a:lnTo>
                <a:lnTo>
                  <a:pt x="2663" y="227"/>
                </a:lnTo>
                <a:lnTo>
                  <a:pt x="2782" y="191"/>
                </a:lnTo>
                <a:lnTo>
                  <a:pt x="2909" y="91"/>
                </a:lnTo>
                <a:lnTo>
                  <a:pt x="3000" y="82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6953400" y="1830240"/>
            <a:ext cx="745920" cy="1306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886440" y="2174760"/>
            <a:ext cx="325440" cy="62892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rot="5400000">
            <a:off x="6768000" y="2327400"/>
            <a:ext cx="173160" cy="30168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76720" y="18050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69520" y="20145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00480" y="252396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t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37840" y="24843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62240" y="1760400"/>
            <a:ext cx="745920" cy="13068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49320" y="2104920"/>
            <a:ext cx="325440" cy="62892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2183760" y="2274120"/>
            <a:ext cx="172800" cy="301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7000" y="17352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79720" y="19605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0320" y="24876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1946160"/>
            <a:ext cx="168120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Systems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916280" y="2219400"/>
            <a:ext cx="27511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922400" y="2417760"/>
            <a:ext cx="275112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147760" y="2435400"/>
            <a:ext cx="22255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cc0099"/>
                </a:solidFill>
                <a:latin typeface="Arial"/>
              </a:rPr>
              <a:t>cada f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cc0099"/>
                </a:solidFill>
                <a:latin typeface="Arial"/>
              </a:rPr>
              <a:t>muitos lambdas</a:t>
            </a:r>
            <a:r>
              <a:rPr b="0" lang="pt-BR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66ff"/>
                </a:solidFill>
                <a:latin typeface="Arial"/>
              </a:rPr>
              <a:t>(todos amplificad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1" name=""/>
          <p:cNvGraphicFramePr/>
          <p:nvPr/>
        </p:nvGraphicFramePr>
        <p:xfrm>
          <a:off x="4502160" y="1522440"/>
          <a:ext cx="129060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1522440"/>
                    <a:ext cx="12906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5692680" y="1887480"/>
            <a:ext cx="1565280" cy="9349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2046240" y="2287080"/>
            <a:ext cx="2455920" cy="18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046240" y="2360520"/>
            <a:ext cx="2455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341800" y="1792440"/>
            <a:ext cx="169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muitas fib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9520" y="2428920"/>
            <a:ext cx="1533600" cy="86184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958680" y="1792440"/>
          <a:ext cx="1113120" cy="87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58680" y="1792440"/>
                    <a:ext cx="111312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 rot="5400000">
            <a:off x="2240280" y="2176920"/>
            <a:ext cx="355680" cy="29700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5400000">
            <a:off x="3952440" y="2176200"/>
            <a:ext cx="355680" cy="29844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08000" y="1522440"/>
            <a:ext cx="2694240" cy="17064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55720" y="930240"/>
            <a:ext cx="73231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3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Sistemas Óticos de Transmissão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600" spc="-1" strike="noStrike">
                <a:solidFill>
                  <a:srgbClr val="00b686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PLT10G-Marc-081f" descr=""/>
          <p:cNvPicPr/>
          <p:nvPr/>
        </p:nvPicPr>
        <p:blipFill>
          <a:blip r:embed="rId6"/>
          <a:stretch/>
        </p:blipFill>
        <p:spPr>
          <a:xfrm>
            <a:off x="3886200" y="3198960"/>
            <a:ext cx="4859280" cy="364464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1153800" y="4479840"/>
            <a:ext cx="234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istema W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40 canais óp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mplificados e 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Controle de Disper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10840" y="1238400"/>
            <a:ext cx="7077240" cy="43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fbfff"/>
                </a:solidFill>
                <a:latin typeface="Lucida Casual"/>
              </a:rPr>
              <a:t>Introdução Geral</a:t>
            </a:r>
            <a:r>
              <a:rPr b="1" lang="en-US" sz="2400" spc="-1" strike="noStrike">
                <a:solidFill>
                  <a:srgbClr val="bfbfff"/>
                </a:solidFill>
                <a:latin typeface="Lucida Casu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bfbf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ff"/>
                </a:solidFill>
                <a:latin typeface="Lucida Casual"/>
              </a:rPr>
              <a:t>evolução histórica; tecnologia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Clr>
                <a:srgbClr val="bfbfff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ff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bfbfff"/>
                </a:solidFill>
                <a:latin typeface="Lucida Casual"/>
              </a:rPr>
              <a:t>Bases Tecnológicas    </a:t>
            </a:r>
            <a:r>
              <a:rPr b="1" lang="en-US" sz="2400" spc="-1" strike="noStrike">
                <a:solidFill>
                  <a:srgbClr val="0066ff"/>
                </a:solidFill>
                <a:latin typeface="Monotype Sorts"/>
                <a:ea typeface="Monotype Sorts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bfbf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ff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bfbf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ff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bfbf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fbfff"/>
                </a:solidFill>
                <a:latin typeface="Lucida Casual"/>
              </a:rPr>
              <a:t>sistemas de transmissão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redes óticas acesso 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 &gt;&gt;&gt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8480" y="2251080"/>
            <a:ext cx="126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cleo n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04840" y="91584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bra Ó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35360" y="2263680"/>
            <a:ext cx="847800" cy="882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6480" y="2455920"/>
            <a:ext cx="530280" cy="53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732600">
            <a:off x="3174480" y="2670120"/>
            <a:ext cx="120960" cy="138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273560" y="2039760"/>
            <a:ext cx="6429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17560" y="1708200"/>
            <a:ext cx="191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revestimento plá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22880" y="1746360"/>
            <a:ext cx="119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ca n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0240" y="2468520"/>
            <a:ext cx="26812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8160" y="2989440"/>
            <a:ext cx="26668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13120" y="2454120"/>
            <a:ext cx="1947960" cy="559800"/>
          </a:xfrm>
          <a:prstGeom prst="rect">
            <a:avLst/>
          </a:prstGeom>
          <a:solidFill>
            <a:srgbClr val="cc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Vidro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99ff"/>
                </a:solidFill>
                <a:latin typeface="Times New Roman"/>
              </a:rPr>
              <a:t>altíssima pure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76440" y="4673520"/>
            <a:ext cx="3581640" cy="685800"/>
            <a:chOff x="3376440" y="4673520"/>
            <a:chExt cx="3581640" cy="685800"/>
          </a:xfrm>
        </p:grpSpPr>
        <p:sp>
          <p:nvSpPr>
            <p:cNvPr id="80" name=""/>
            <p:cNvSpPr/>
            <p:nvPr/>
          </p:nvSpPr>
          <p:spPr>
            <a:xfrm>
              <a:off x="3376440" y="4673520"/>
              <a:ext cx="3581640" cy="685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76440" y="4902120"/>
              <a:ext cx="3581640" cy="228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376440" y="5740560"/>
            <a:ext cx="35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76440" y="6045120"/>
            <a:ext cx="3581640" cy="76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24160" y="4902120"/>
            <a:ext cx="1828800" cy="228600"/>
          </a:xfrm>
          <a:custGeom>
            <a:avLst/>
            <a:gdLst/>
            <a:ahLst/>
            <a:rect l="l" t="t" r="r" b="b"/>
            <a:pathLst>
              <a:path w="864" h="48">
                <a:moveTo>
                  <a:pt x="0" y="48"/>
                </a:moveTo>
                <a:lnTo>
                  <a:pt x="192" y="0"/>
                </a:lnTo>
                <a:lnTo>
                  <a:pt x="384" y="48"/>
                </a:lnTo>
                <a:lnTo>
                  <a:pt x="576" y="0"/>
                </a:lnTo>
                <a:lnTo>
                  <a:pt x="864" y="48"/>
                </a:lnTo>
                <a:lnTo>
                  <a:pt x="816" y="48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95560" y="4902120"/>
            <a:ext cx="2362320" cy="22860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48"/>
                </a:moveTo>
                <a:lnTo>
                  <a:pt x="240" y="0"/>
                </a:lnTo>
                <a:lnTo>
                  <a:pt x="432" y="48"/>
                </a:lnTo>
                <a:lnTo>
                  <a:pt x="624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843280" y="4901400"/>
            <a:ext cx="2971800" cy="228600"/>
          </a:xfrm>
          <a:custGeom>
            <a:avLst/>
            <a:gdLst/>
            <a:ahLst/>
            <a:rect l="l" t="t" r="r" b="b"/>
            <a:pathLst>
              <a:path w="624" h="48">
                <a:moveTo>
                  <a:pt x="0" y="48"/>
                </a:moveTo>
                <a:lnTo>
                  <a:pt x="240" y="0"/>
                </a:lnTo>
                <a:lnTo>
                  <a:pt x="432" y="48"/>
                </a:lnTo>
                <a:lnTo>
                  <a:pt x="624" y="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6078600"/>
            <a:ext cx="2733480" cy="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6800" y="484020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multi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95520" y="5840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onom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89920" y="469584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191360" y="513252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191360" y="61088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89920" y="585792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7240" y="605628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77240" y="6121440"/>
            <a:ext cx="22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8040" y="5132520"/>
            <a:ext cx="22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8040" y="4902120"/>
            <a:ext cx="22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51840" y="48261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= 5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78840" y="58816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= 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00920" y="445140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086520" y="53690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3320" y="5532480"/>
            <a:ext cx="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38920" y="64263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45480" y="53593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22520" y="428004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1040" y="3382920"/>
            <a:ext cx="24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ertura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66560" y="3699000"/>
                <a:ext cx="27561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700040" y="3365640"/>
            <a:ext cx="1277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99"/>
                </a:solidFill>
                <a:latin typeface="Tahoma"/>
              </a:rPr>
              <a:t>Glass Fibre</a:t>
            </a:r>
            <a:r>
              <a:rPr b="0" lang="pt-BR" sz="1600" spc="-1" strike="noStrike">
                <a:solidFill>
                  <a:srgbClr val="fafd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7000" y="3659040"/>
            <a:ext cx="3197160" cy="3636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5000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775640" y="3510000"/>
            <a:ext cx="365040" cy="6602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9900"/>
              </a:gs>
              <a:gs pos="5000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72040" y="3828960"/>
            <a:ext cx="3141720" cy="270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3571920"/>
            <a:ext cx="1363680" cy="534960"/>
          </a:xfrm>
          <a:prstGeom prst="rect">
            <a:avLst/>
          </a:prstGeom>
          <a:solidFill>
            <a:srgbClr val="6699ff">
              <a:alpha val="50000"/>
            </a:srgbClr>
          </a:solidFill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00840" y="3648240"/>
            <a:ext cx="1476360" cy="392040"/>
          </a:xfrm>
          <a:prstGeom prst="rect">
            <a:avLst/>
          </a:prstGeom>
          <a:solidFill>
            <a:srgbClr val="ffcc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657920" y="3521160"/>
            <a:ext cx="11412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35680" y="3965400"/>
            <a:ext cx="1162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99"/>
                </a:solidFill>
                <a:latin typeface="Tahoma"/>
              </a:rPr>
              <a:t>Fibre 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28160" y="3838680"/>
            <a:ext cx="16164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322680" y="3446640"/>
            <a:ext cx="114120" cy="1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43560" y="3324240"/>
            <a:ext cx="1479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Tahoma"/>
              </a:rPr>
              <a:t>Mettaliz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11360" y="3294000"/>
            <a:ext cx="1705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99"/>
                </a:solidFill>
                <a:latin typeface="Tahoma"/>
              </a:rPr>
              <a:t>Acrylate shea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78200" y="2733840"/>
            <a:ext cx="121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97000" y="2124000"/>
            <a:ext cx="984240" cy="414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48680" y="507060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77777"/>
                </a:solidFill>
                <a:latin typeface="Symbol"/>
                <a:ea typeface="Symbol"/>
              </a:rPr>
              <a:t>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ibra_metaliz" descr=""/>
          <p:cNvPicPr/>
          <p:nvPr/>
        </p:nvPicPr>
        <p:blipFill>
          <a:blip r:embed="rId2"/>
          <a:stretch/>
        </p:blipFill>
        <p:spPr>
          <a:xfrm>
            <a:off x="6594480" y="2101680"/>
            <a:ext cx="2517840" cy="1189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9760" y="4354560"/>
            <a:ext cx="7067520" cy="2293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Bases Tecnológicas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03840" y="3586320"/>
            <a:ext cx="725400" cy="139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7640" y="4168800"/>
            <a:ext cx="1312920" cy="80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209760" y="48700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116240" y="48700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005440" y="48700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92840" y="490032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0240" y="490032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19320" y="2819520"/>
            <a:ext cx="3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3000" y="39038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8840" y="280368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8840" y="2244600"/>
            <a:ext cx="77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7560" y="473076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86600" y="4809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5440" y="48006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74640" y="4226040"/>
            <a:ext cx="53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86600" y="43020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5440" y="4295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74640" y="3649680"/>
            <a:ext cx="5335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86600" y="37321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5440" y="3720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74640" y="3119400"/>
            <a:ext cx="53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86600" y="3198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440" y="31892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74640" y="2592360"/>
            <a:ext cx="533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86600" y="26733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5440" y="26622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4640" y="2039760"/>
            <a:ext cx="5335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86600" y="21207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5440" y="2109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8840" y="443232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704520" y="3826440"/>
            <a:ext cx="116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en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1251000" y="31568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1181160" y="290448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1091880" y="249552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k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89280" y="5094360"/>
            <a:ext cx="6181200" cy="520200"/>
            <a:chOff x="1889280" y="5094360"/>
            <a:chExt cx="6181200" cy="520200"/>
          </a:xfrm>
        </p:grpSpPr>
        <p:sp>
          <p:nvSpPr>
            <p:cNvPr id="163" name=""/>
            <p:cNvSpPr/>
            <p:nvPr/>
          </p:nvSpPr>
          <p:spPr>
            <a:xfrm>
              <a:off x="6392880" y="5155200"/>
              <a:ext cx="7772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07000" y="5233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6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1960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92880" y="5155200"/>
              <a:ext cx="77760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4120" y="52333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7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9440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7920" y="5126400"/>
              <a:ext cx="7772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8800" y="5202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4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9088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13040" y="5095800"/>
              <a:ext cx="7790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8960" y="5175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3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5272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3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8360" y="5095800"/>
              <a:ext cx="77904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27160" y="51753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6388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29240" y="5126400"/>
              <a:ext cx="7776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220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89280" y="5094360"/>
              <a:ext cx="77760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0160" y="517248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00240" y="51325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564000" y="5667480"/>
            <a:ext cx="325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91120" y="5573880"/>
            <a:ext cx="310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rimento de Onda (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61160" y="487008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631280" y="49896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130800" y="3438360"/>
            <a:ext cx="338400" cy="14400"/>
          </a:xfrm>
          <a:prstGeom prst="line">
            <a:avLst/>
          </a:prstGeom>
          <a:ln w="2844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4960" y="3349800"/>
            <a:ext cx="1800" cy="21888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25760" y="2873520"/>
            <a:ext cx="68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Times New Roman"/>
              </a:rPr>
              <a:t>ED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77080" y="4602240"/>
            <a:ext cx="814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1280" y="3654360"/>
            <a:ext cx="178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160 nm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20 T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001960" y="4175280"/>
            <a:ext cx="571320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3000" y="334332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69200" y="3363840"/>
            <a:ext cx="1440" cy="2048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21200" y="3102120"/>
            <a:ext cx="1273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Times New Roman"/>
              </a:rPr>
              <a:t>30 nm + 40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64400" y="3875040"/>
            <a:ext cx="100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64400" y="2822400"/>
            <a:ext cx="100080" cy="180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88160" y="2247840"/>
            <a:ext cx="77760" cy="180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64400" y="443556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764480" y="2157480"/>
            <a:ext cx="0" cy="29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4400" y="331632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7160" y="1760400"/>
            <a:ext cx="5737320" cy="3224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71600" y="4435560"/>
            <a:ext cx="5445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6480" y="4863600"/>
            <a:ext cx="0" cy="1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82960" y="1865160"/>
            <a:ext cx="5573520" cy="2797200"/>
          </a:xfrm>
          <a:custGeom>
            <a:avLst/>
            <a:gdLst/>
            <a:ahLst/>
            <a:rect l="l" t="t" r="r" b="b"/>
            <a:pathLst>
              <a:path w="3550" h="1620">
                <a:moveTo>
                  <a:pt x="0" y="0"/>
                </a:moveTo>
                <a:cubicBezTo>
                  <a:pt x="81" y="111"/>
                  <a:pt x="162" y="223"/>
                  <a:pt x="260" y="330"/>
                </a:cubicBezTo>
                <a:cubicBezTo>
                  <a:pt x="358" y="437"/>
                  <a:pt x="450" y="525"/>
                  <a:pt x="590" y="640"/>
                </a:cubicBezTo>
                <a:cubicBezTo>
                  <a:pt x="730" y="755"/>
                  <a:pt x="933" y="923"/>
                  <a:pt x="1100" y="1020"/>
                </a:cubicBezTo>
                <a:cubicBezTo>
                  <a:pt x="1267" y="1117"/>
                  <a:pt x="1415" y="1160"/>
                  <a:pt x="1590" y="1220"/>
                </a:cubicBezTo>
                <a:cubicBezTo>
                  <a:pt x="1765" y="1280"/>
                  <a:pt x="1972" y="1333"/>
                  <a:pt x="2150" y="1380"/>
                </a:cubicBezTo>
                <a:cubicBezTo>
                  <a:pt x="2328" y="1427"/>
                  <a:pt x="2478" y="1467"/>
                  <a:pt x="2660" y="1500"/>
                </a:cubicBezTo>
                <a:cubicBezTo>
                  <a:pt x="2842" y="1533"/>
                  <a:pt x="3092" y="1560"/>
                  <a:pt x="3240" y="1580"/>
                </a:cubicBezTo>
                <a:cubicBezTo>
                  <a:pt x="3388" y="1600"/>
                  <a:pt x="3500" y="1613"/>
                  <a:pt x="3550" y="1620"/>
                </a:cubicBezTo>
              </a:path>
            </a:pathLst>
          </a:custGeom>
          <a:noFill/>
          <a:ln w="12600">
            <a:solidFill>
              <a:srgbClr val="cc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9200" y="33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Rayle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16920" y="38498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89720" y="2882880"/>
            <a:ext cx="4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OH</a:t>
            </a:r>
            <a:r>
              <a:rPr b="0" lang="en-US" sz="1400" spc="-1" strike="noStrike" baseline="30000">
                <a:solidFill>
                  <a:srgbClr val="a50021"/>
                </a:solidFill>
                <a:latin typeface="Times New Roman"/>
              </a:rPr>
              <a:t>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73080" y="2965320"/>
            <a:ext cx="889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60 nm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10 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892840" y="4841640"/>
            <a:ext cx="887400" cy="150840"/>
            <a:chOff x="5892840" y="4841640"/>
            <a:chExt cx="887400" cy="150840"/>
          </a:xfrm>
        </p:grpSpPr>
        <p:sp>
          <p:nvSpPr>
            <p:cNvPr id="211" name=""/>
            <p:cNvSpPr/>
            <p:nvPr/>
          </p:nvSpPr>
          <p:spPr>
            <a:xfrm flipV="1">
              <a:off x="5892840" y="48416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780240" y="484164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149560" y="1893960"/>
            <a:ext cx="5529240" cy="2482920"/>
          </a:xfrm>
          <a:custGeom>
            <a:avLst/>
            <a:gdLst/>
            <a:ahLst/>
            <a:rect l="l" t="t" r="r" b="b"/>
            <a:pathLst>
              <a:path w="3454" h="1618">
                <a:moveTo>
                  <a:pt x="0" y="0"/>
                </a:moveTo>
                <a:lnTo>
                  <a:pt x="309" y="418"/>
                </a:lnTo>
                <a:lnTo>
                  <a:pt x="527" y="654"/>
                </a:lnTo>
                <a:lnTo>
                  <a:pt x="718" y="827"/>
                </a:lnTo>
                <a:lnTo>
                  <a:pt x="900" y="973"/>
                </a:lnTo>
                <a:lnTo>
                  <a:pt x="1081" y="1100"/>
                </a:lnTo>
                <a:lnTo>
                  <a:pt x="1245" y="1191"/>
                </a:lnTo>
                <a:lnTo>
                  <a:pt x="1381" y="1218"/>
                </a:lnTo>
                <a:lnTo>
                  <a:pt x="1472" y="1182"/>
                </a:lnTo>
                <a:lnTo>
                  <a:pt x="1518" y="1118"/>
                </a:lnTo>
                <a:lnTo>
                  <a:pt x="1572" y="982"/>
                </a:lnTo>
                <a:lnTo>
                  <a:pt x="1590" y="836"/>
                </a:lnTo>
                <a:lnTo>
                  <a:pt x="1618" y="782"/>
                </a:lnTo>
                <a:lnTo>
                  <a:pt x="1672" y="827"/>
                </a:lnTo>
                <a:lnTo>
                  <a:pt x="1690" y="909"/>
                </a:lnTo>
                <a:lnTo>
                  <a:pt x="1736" y="1100"/>
                </a:lnTo>
                <a:lnTo>
                  <a:pt x="1799" y="1273"/>
                </a:lnTo>
                <a:lnTo>
                  <a:pt x="1899" y="1391"/>
                </a:lnTo>
                <a:lnTo>
                  <a:pt x="1999" y="1454"/>
                </a:lnTo>
                <a:lnTo>
                  <a:pt x="2190" y="1536"/>
                </a:lnTo>
                <a:lnTo>
                  <a:pt x="2399" y="1582"/>
                </a:lnTo>
                <a:lnTo>
                  <a:pt x="2599" y="1618"/>
                </a:lnTo>
                <a:lnTo>
                  <a:pt x="2754" y="1609"/>
                </a:lnTo>
                <a:lnTo>
                  <a:pt x="2918" y="1563"/>
                </a:lnTo>
                <a:lnTo>
                  <a:pt x="3072" y="1400"/>
                </a:lnTo>
                <a:lnTo>
                  <a:pt x="3199" y="1154"/>
                </a:lnTo>
                <a:lnTo>
                  <a:pt x="3281" y="927"/>
                </a:lnTo>
                <a:lnTo>
                  <a:pt x="3354" y="645"/>
                </a:lnTo>
                <a:lnTo>
                  <a:pt x="3445" y="245"/>
                </a:lnTo>
                <a:lnTo>
                  <a:pt x="3454" y="118"/>
                </a:lnTo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75240" y="2046240"/>
            <a:ext cx="1312920" cy="2871720"/>
          </a:xfrm>
          <a:custGeom>
            <a:avLst/>
            <a:gdLst/>
            <a:ahLst/>
            <a:rect l="l" t="t" r="r" b="b"/>
            <a:pathLst>
              <a:path w="800" h="1882">
                <a:moveTo>
                  <a:pt x="0" y="1882"/>
                </a:moveTo>
                <a:lnTo>
                  <a:pt x="282" y="1591"/>
                </a:lnTo>
                <a:lnTo>
                  <a:pt x="464" y="1300"/>
                </a:lnTo>
                <a:lnTo>
                  <a:pt x="609" y="946"/>
                </a:lnTo>
                <a:lnTo>
                  <a:pt x="700" y="573"/>
                </a:lnTo>
                <a:lnTo>
                  <a:pt x="782" y="173"/>
                </a:lnTo>
                <a:lnTo>
                  <a:pt x="800" y="0"/>
                </a:ln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45360" y="488808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11880" y="489744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54720" y="491184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83160" y="489744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9600" y="17496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 THz = 1000 G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05560" y="3432240"/>
            <a:ext cx="338040" cy="14400"/>
          </a:xfrm>
          <a:prstGeom prst="line">
            <a:avLst/>
          </a:prstGeom>
          <a:ln w="28440">
            <a:solidFill>
              <a:srgbClr val="ff33c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05600" y="4103640"/>
            <a:ext cx="368280" cy="8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07000" y="4098960"/>
            <a:ext cx="476280" cy="8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10240" y="4098960"/>
            <a:ext cx="384120" cy="8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2640" y="4444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539400" y="4516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25800" y="4424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0" y="3341520"/>
            <a:ext cx="1800" cy="20664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68280" y="2712960"/>
            <a:ext cx="52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66ff"/>
                </a:solidFill>
                <a:latin typeface="Times New Roman"/>
              </a:rPr>
              <a:t>SO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35080" y="849240"/>
            <a:ext cx="7696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andas de Transmissão 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Atenuação em Fibras Ópticas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8320" y="593424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1a. jan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85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97200" y="599616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2a. jan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13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46760" y="59659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3a. jan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1500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76680" y="5553000"/>
            <a:ext cx="1767240" cy="10674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Bandas Ampl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S= [1480 n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C= [1550 nm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L= [1590 nm]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68760" y="2620800"/>
            <a:ext cx="1508400" cy="138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3080" y="2224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2373480"/>
            <a:ext cx="222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dezenas canais ópt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1920" y="887040"/>
            <a:ext cx="60958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ibras Ótica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tenuação e Dispersão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1480" y="3308400"/>
            <a:ext cx="3672000" cy="122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54440" y="4788000"/>
            <a:ext cx="3671640" cy="122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71920" y="337824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21360" y="337356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54280" y="485784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21360" y="48355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81120" y="2733840"/>
            <a:ext cx="736560" cy="734760"/>
          </a:xfrm>
          <a:custGeom>
            <a:avLst/>
            <a:gdLst/>
            <a:ahLst/>
            <a:rect l="l" t="t" r="r" b="b"/>
            <a:pathLst>
              <a:path w="464" h="463">
                <a:moveTo>
                  <a:pt x="0" y="463"/>
                </a:moveTo>
                <a:lnTo>
                  <a:pt x="173" y="463"/>
                </a:lnTo>
                <a:lnTo>
                  <a:pt x="173" y="0"/>
                </a:lnTo>
                <a:lnTo>
                  <a:pt x="282" y="0"/>
                </a:lnTo>
                <a:lnTo>
                  <a:pt x="282" y="463"/>
                </a:lnTo>
                <a:lnTo>
                  <a:pt x="464" y="4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0840" y="4322880"/>
            <a:ext cx="736560" cy="734760"/>
          </a:xfrm>
          <a:custGeom>
            <a:avLst/>
            <a:gdLst/>
            <a:ahLst/>
            <a:rect l="l" t="t" r="r" b="b"/>
            <a:pathLst>
              <a:path w="464" h="463">
                <a:moveTo>
                  <a:pt x="0" y="463"/>
                </a:moveTo>
                <a:lnTo>
                  <a:pt x="173" y="463"/>
                </a:lnTo>
                <a:lnTo>
                  <a:pt x="173" y="0"/>
                </a:lnTo>
                <a:lnTo>
                  <a:pt x="282" y="0"/>
                </a:lnTo>
                <a:lnTo>
                  <a:pt x="282" y="463"/>
                </a:lnTo>
                <a:lnTo>
                  <a:pt x="464" y="4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35080" y="2174760"/>
            <a:ext cx="0" cy="3275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07360" y="2117880"/>
            <a:ext cx="0" cy="327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63960" y="273672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ua sobre amplitude do s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24200" y="4322880"/>
            <a:ext cx="36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ua sobre duração do sinal/pul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4280" y="2178000"/>
            <a:ext cx="150336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er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64480" y="4329000"/>
            <a:ext cx="618840" cy="641520"/>
          </a:xfrm>
          <a:custGeom>
            <a:avLst/>
            <a:gdLst/>
            <a:ahLst/>
            <a:rect l="l" t="t" r="r" b="b"/>
            <a:pathLst>
              <a:path w="390" h="423">
                <a:moveTo>
                  <a:pt x="0" y="422"/>
                </a:moveTo>
                <a:cubicBezTo>
                  <a:pt x="6" y="417"/>
                  <a:pt x="13" y="413"/>
                  <a:pt x="22" y="377"/>
                </a:cubicBezTo>
                <a:cubicBezTo>
                  <a:pt x="31" y="341"/>
                  <a:pt x="41" y="255"/>
                  <a:pt x="52" y="204"/>
                </a:cubicBezTo>
                <a:cubicBezTo>
                  <a:pt x="63" y="153"/>
                  <a:pt x="76" y="100"/>
                  <a:pt x="90" y="69"/>
                </a:cubicBezTo>
                <a:cubicBezTo>
                  <a:pt x="104" y="38"/>
                  <a:pt x="120" y="28"/>
                  <a:pt x="135" y="17"/>
                </a:cubicBezTo>
                <a:cubicBezTo>
                  <a:pt x="150" y="6"/>
                  <a:pt x="163" y="0"/>
                  <a:pt x="180" y="2"/>
                </a:cubicBezTo>
                <a:cubicBezTo>
                  <a:pt x="197" y="4"/>
                  <a:pt x="224" y="16"/>
                  <a:pt x="240" y="32"/>
                </a:cubicBezTo>
                <a:cubicBezTo>
                  <a:pt x="256" y="48"/>
                  <a:pt x="265" y="58"/>
                  <a:pt x="277" y="99"/>
                </a:cubicBezTo>
                <a:cubicBezTo>
                  <a:pt x="289" y="140"/>
                  <a:pt x="306" y="229"/>
                  <a:pt x="315" y="279"/>
                </a:cubicBezTo>
                <a:cubicBezTo>
                  <a:pt x="324" y="329"/>
                  <a:pt x="318" y="375"/>
                  <a:pt x="330" y="399"/>
                </a:cubicBezTo>
                <a:cubicBezTo>
                  <a:pt x="342" y="423"/>
                  <a:pt x="379" y="418"/>
                  <a:pt x="390" y="42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2480" y="499752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35800" y="4962600"/>
            <a:ext cx="190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01760" y="5556240"/>
            <a:ext cx="131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10280" y="567540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</a:rPr>
              <a:t>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4694400"/>
            <a:ext cx="382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88200" y="2954160"/>
            <a:ext cx="0" cy="1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67320" y="5775480"/>
            <a:ext cx="32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x,t)=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i(wt + kz + </a:t>
            </a:r>
            <a:r>
              <a:rPr b="0" lang="pt-BR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</a:rPr>
              <a:t> )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95920" y="564372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42080" y="565776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43680" y="3164040"/>
            <a:ext cx="736560" cy="371160"/>
          </a:xfrm>
          <a:custGeom>
            <a:avLst/>
            <a:gdLst/>
            <a:ahLst/>
            <a:rect l="l" t="t" r="r" b="b"/>
            <a:pathLst>
              <a:path w="464" h="463">
                <a:moveTo>
                  <a:pt x="0" y="463"/>
                </a:moveTo>
                <a:lnTo>
                  <a:pt x="173" y="463"/>
                </a:lnTo>
                <a:lnTo>
                  <a:pt x="173" y="0"/>
                </a:lnTo>
                <a:lnTo>
                  <a:pt x="282" y="0"/>
                </a:lnTo>
                <a:lnTo>
                  <a:pt x="282" y="463"/>
                </a:lnTo>
                <a:lnTo>
                  <a:pt x="464" y="463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591320" y="4425480"/>
            <a:ext cx="29052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93200" y="3716280"/>
            <a:ext cx="24588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7915320" y="3957480"/>
            <a:ext cx="823680" cy="379440"/>
            <a:chOff x="7915320" y="3957480"/>
            <a:chExt cx="823680" cy="379440"/>
          </a:xfrm>
        </p:grpSpPr>
        <p:sp>
          <p:nvSpPr>
            <p:cNvPr id="265" name=""/>
            <p:cNvSpPr/>
            <p:nvPr/>
          </p:nvSpPr>
          <p:spPr>
            <a:xfrm>
              <a:off x="8059680" y="3957480"/>
              <a:ext cx="551880" cy="363960"/>
            </a:xfrm>
            <a:custGeom>
              <a:avLst/>
              <a:gdLst/>
              <a:ahLst/>
              <a:rect l="l" t="t" r="r" b="b"/>
              <a:pathLst>
                <a:path w="390" h="423">
                  <a:moveTo>
                    <a:pt x="0" y="422"/>
                  </a:moveTo>
                  <a:cubicBezTo>
                    <a:pt x="6" y="417"/>
                    <a:pt x="13" y="413"/>
                    <a:pt x="22" y="377"/>
                  </a:cubicBezTo>
                  <a:cubicBezTo>
                    <a:pt x="31" y="341"/>
                    <a:pt x="41" y="255"/>
                    <a:pt x="52" y="204"/>
                  </a:cubicBezTo>
                  <a:cubicBezTo>
                    <a:pt x="63" y="153"/>
                    <a:pt x="76" y="100"/>
                    <a:pt x="90" y="69"/>
                  </a:cubicBezTo>
                  <a:cubicBezTo>
                    <a:pt x="104" y="38"/>
                    <a:pt x="120" y="28"/>
                    <a:pt x="135" y="17"/>
                  </a:cubicBezTo>
                  <a:cubicBezTo>
                    <a:pt x="150" y="6"/>
                    <a:pt x="163" y="0"/>
                    <a:pt x="180" y="2"/>
                  </a:cubicBezTo>
                  <a:cubicBezTo>
                    <a:pt x="197" y="4"/>
                    <a:pt x="224" y="16"/>
                    <a:pt x="240" y="32"/>
                  </a:cubicBezTo>
                  <a:cubicBezTo>
                    <a:pt x="256" y="48"/>
                    <a:pt x="265" y="58"/>
                    <a:pt x="277" y="99"/>
                  </a:cubicBezTo>
                  <a:cubicBezTo>
                    <a:pt x="289" y="140"/>
                    <a:pt x="306" y="229"/>
                    <a:pt x="315" y="279"/>
                  </a:cubicBezTo>
                  <a:cubicBezTo>
                    <a:pt x="324" y="329"/>
                    <a:pt x="318" y="375"/>
                    <a:pt x="330" y="399"/>
                  </a:cubicBezTo>
                  <a:cubicBezTo>
                    <a:pt x="342" y="423"/>
                    <a:pt x="379" y="418"/>
                    <a:pt x="390" y="42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15320" y="4336920"/>
              <a:ext cx="16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69080" y="4317120"/>
              <a:ext cx="16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36000" y="4164840"/>
              <a:ext cx="34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Conceitos Bás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66960" y="2743200"/>
            <a:ext cx="160200" cy="708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6320" y="4338720"/>
            <a:ext cx="146160" cy="708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49360" y="34290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777777"/>
                </a:solidFill>
                <a:latin typeface="Arial"/>
              </a:rPr>
              <a:t>mundo re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764"/>
              </a:spcBef>
              <a:spcAft>
                <a:spcPts val="17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Fibra Óptic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52080" y="1143000"/>
            <a:ext cx="17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çõ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92040" y="1720440"/>
            <a:ext cx="7151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tenu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(z) = P(0) e </a:t>
            </a:r>
            <a:r>
              <a:rPr b="0" lang="pt-BR" sz="2000" spc="-1" strike="noStrike" baseline="30000">
                <a:solidFill>
                  <a:srgbClr val="808080"/>
                </a:solidFill>
                <a:latin typeface="Arial"/>
              </a:rPr>
              <a:t>– </a:t>
            </a:r>
            <a:r>
              <a:rPr b="0" lang="pt-BR" sz="2400" spc="-1" strike="noStrike" baseline="30000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 baseline="30000">
                <a:solidFill>
                  <a:srgbClr val="808080"/>
                </a:solidFill>
                <a:latin typeface="Arial"/>
              </a:rPr>
              <a:t> z</a:t>
            </a:r>
            <a:r>
              <a:rPr b="0" lang="pt-BR" sz="2000" spc="-1" strike="noStrike" baseline="30000">
                <a:solidFill>
                  <a:srgbClr val="80808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(z) = 1/z  ln P(z)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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P(0)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mas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(z) = 10  log P(z)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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P(0) ,  </a:t>
            </a: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portant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(dB/km) = 10/L  log P(L)</a:t>
            </a:r>
            <a:r>
              <a:rPr b="1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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P(0)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,  </a:t>
            </a: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com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L = [km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15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sendo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(dB/km) = 4,3 </a:t>
            </a:r>
            <a:r>
              <a:rPr b="0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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(km</a:t>
            </a:r>
            <a:r>
              <a:rPr b="0" lang="pt-BR" sz="2400" spc="-1" strike="noStrike" baseline="34000">
                <a:solidFill>
                  <a:srgbClr val="808080"/>
                </a:solidFill>
                <a:latin typeface="Arial"/>
              </a:rPr>
              <a:t>-1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35880" indent="-335880">
              <a:spcBef>
                <a:spcPts val="1375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pers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808080"/>
                </a:solidFill>
                <a:latin typeface="Symbol"/>
                <a:ea typeface="Symbol"/>
              </a:rPr>
              <a:t>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= D</a:t>
            </a:r>
            <a:r>
              <a:rPr b="1" lang="pt-BR" sz="2000" spc="-1" strike="noStrike" baseline="-30000">
                <a:solidFill>
                  <a:srgbClr val="808080"/>
                </a:solidFill>
                <a:latin typeface="Arial"/>
              </a:rPr>
              <a:t>F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 . </a:t>
            </a:r>
            <a:r>
              <a:rPr b="1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</a:t>
            </a:r>
            <a:r>
              <a:rPr b="1" lang="pt-BR" sz="2000" spc="-1" strike="noStrike">
                <a:solidFill>
                  <a:srgbClr val="808080"/>
                </a:solidFill>
                <a:latin typeface="Arial"/>
              </a:rPr>
              <a:t> . L</a:t>
            </a:r>
            <a:r>
              <a:rPr b="1" lang="pt-BR" sz="1800" spc="-1" strike="noStrike">
                <a:solidFill>
                  <a:srgbClr val="808080"/>
                </a:solidFill>
                <a:latin typeface="Arial"/>
              </a:rPr>
              <a:t>     [ps]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Fibra Multimodo : 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pt-BR" sz="2400" spc="-1" strike="noStrike" baseline="-25000">
                <a:solidFill>
                  <a:srgbClr val="808080"/>
                </a:solidFill>
                <a:latin typeface="Arial"/>
              </a:rPr>
              <a:t>F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= 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mat</a:t>
            </a:r>
            <a:r>
              <a:rPr b="0" lang="pt-BR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+ 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mod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+ 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go 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0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Times New Roman"/>
              </a:rPr>
              <a:t>Fibra Monomodo : 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pt-BR" sz="2400" spc="-1" strike="noStrike" baseline="-25000">
                <a:solidFill>
                  <a:srgbClr val="808080"/>
                </a:solidFill>
                <a:latin typeface="Arial"/>
              </a:rPr>
              <a:t>F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= 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mat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+ 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go   </a:t>
            </a:r>
            <a:endParaRPr b="0" lang="en-US" sz="22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15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mat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= -1/c  d</a:t>
            </a:r>
            <a:r>
              <a:rPr b="0" lang="pt-BR" sz="18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n/d</a:t>
            </a:r>
            <a:r>
              <a:rPr b="0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 ;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0" lang="pt-BR" sz="2200" spc="-1" strike="noStrike" baseline="-25000">
                <a:solidFill>
                  <a:srgbClr val="808080"/>
                </a:solidFill>
                <a:latin typeface="Arial"/>
              </a:rPr>
              <a:t>go 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= -1/2</a:t>
            </a:r>
            <a:r>
              <a:rPr b="0" lang="pt-BR" sz="2000" spc="-1" strike="noStrike">
                <a:solidFill>
                  <a:srgbClr val="808080"/>
                </a:solidFill>
                <a:latin typeface="Symbol"/>
                <a:ea typeface="Symbol"/>
              </a:rPr>
              <a:t>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c V</a:t>
            </a:r>
            <a:r>
              <a:rPr b="0" lang="pt-BR" sz="18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d</a:t>
            </a:r>
            <a:r>
              <a:rPr b="0" lang="pt-BR" sz="18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808080"/>
                </a:solidFill>
                <a:latin typeface="Symbol"/>
                <a:ea typeface="Symbol"/>
              </a:rPr>
              <a:t>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/dV</a:t>
            </a:r>
            <a:r>
              <a:rPr b="0" lang="pt-BR" sz="1800" spc="-1" strike="noStrike" baseline="30000">
                <a:solidFill>
                  <a:srgbClr val="80808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27920" indent="0">
              <a:lnSpc>
                <a:spcPct val="115000"/>
              </a:lnSpc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5280" y="738360"/>
            <a:ext cx="49705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Fibras Óticas 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ia de Ond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--  Dispersão 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08120" y="4538520"/>
            <a:ext cx="3073320" cy="836640"/>
            <a:chOff x="708120" y="4538520"/>
            <a:chExt cx="3073320" cy="836640"/>
          </a:xfrm>
        </p:grpSpPr>
        <p:sp>
          <p:nvSpPr>
            <p:cNvPr id="278" name=""/>
            <p:cNvSpPr/>
            <p:nvPr/>
          </p:nvSpPr>
          <p:spPr>
            <a:xfrm>
              <a:off x="708120" y="4538520"/>
              <a:ext cx="307332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5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= [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 /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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- 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79760" y="457812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22240" y="5052960"/>
            <a:ext cx="264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üência normal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propag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06840" y="2227320"/>
            <a:ext cx="38908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onomodo  V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2,4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1único m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ultimodo V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20-25 </a:t>
            </a:r>
            <a:r>
              <a:rPr b="0" lang="pt-BR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entenas m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77680" y="581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fiber-modes-jp" descr=""/>
          <p:cNvPicPr/>
          <p:nvPr/>
        </p:nvPicPr>
        <p:blipFill>
          <a:blip r:embed="rId2"/>
          <a:stretch/>
        </p:blipFill>
        <p:spPr>
          <a:xfrm>
            <a:off x="4070520" y="3179880"/>
            <a:ext cx="4695480" cy="29494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032720" y="4199040"/>
            <a:ext cx="77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808080"/>
                </a:solidFill>
                <a:latin typeface="Times New Roman"/>
              </a:rPr>
              <a:t>b(V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49840" y="308772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320" y="2209680"/>
            <a:ext cx="3381480" cy="149400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os de propag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índice propag. x  freq. no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(soluções da eq. propa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guia de onda cilíndri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78080" y="644400"/>
            <a:ext cx="4313160" cy="6148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560" y="5987880"/>
            <a:ext cx="84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Monotype Sorts"/>
                <a:ea typeface="Monotype Sorts"/>
              </a:rPr>
              <a:t>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fibras de dispersão deslocada são obtidas aumentando </a:t>
            </a: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D</a:t>
            </a:r>
            <a:r>
              <a:rPr b="1" lang="en-US" sz="1200" spc="-1" strike="noStrike">
                <a:solidFill>
                  <a:srgbClr val="777777"/>
                </a:solidFill>
                <a:latin typeface="Times New Roman"/>
              </a:rPr>
              <a:t>GO </a:t>
            </a:r>
            <a:r>
              <a:rPr b="1" lang="en-US" sz="1800" spc="-1" strike="noStrike">
                <a:solidFill>
                  <a:srgbClr val="777777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777777"/>
                </a:solidFill>
                <a:latin typeface="Monotype Sorts"/>
                <a:ea typeface="Monotype Sorts"/>
              </a:rPr>
              <a:t></a:t>
            </a:r>
            <a:r>
              <a:rPr b="1" lang="en-US" sz="1800" spc="-1" strike="noStrike">
                <a:solidFill>
                  <a:srgbClr val="0066cc"/>
                </a:solidFill>
                <a:latin typeface="Times New Roman"/>
              </a:rPr>
              <a:t>  DS, 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</a:rPr>
              <a:t>NZD+/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8920" y="3406680"/>
            <a:ext cx="76176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rot="688800">
            <a:off x="4762080" y="3032280"/>
            <a:ext cx="1460520" cy="1984320"/>
          </a:xfrm>
          <a:custGeom>
            <a:avLst/>
            <a:gdLst/>
            <a:ahLst/>
            <a:rect l="l" t="t" r="r" b="b"/>
            <a:pathLst>
              <a:path w="920" h="1250">
                <a:moveTo>
                  <a:pt x="0" y="1250"/>
                </a:moveTo>
                <a:cubicBezTo>
                  <a:pt x="72" y="1074"/>
                  <a:pt x="145" y="898"/>
                  <a:pt x="240" y="740"/>
                </a:cubicBezTo>
                <a:cubicBezTo>
                  <a:pt x="335" y="582"/>
                  <a:pt x="457" y="423"/>
                  <a:pt x="570" y="300"/>
                </a:cubicBezTo>
                <a:cubicBezTo>
                  <a:pt x="683" y="177"/>
                  <a:pt x="862" y="50"/>
                  <a:pt x="920" y="0"/>
                </a:cubicBezTo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76280" y="2536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89240" y="3956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23000" y="3317760"/>
            <a:ext cx="0" cy="2237040"/>
          </a:xfrm>
          <a:prstGeom prst="line">
            <a:avLst/>
          </a:prstGeom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7391520" cy="21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Dispersão em Fibras Ópticas  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94160" y="3346560"/>
            <a:ext cx="0" cy="2236680"/>
          </a:xfrm>
          <a:prstGeom prst="line">
            <a:avLst/>
          </a:prstGeom>
          <a:ln cap="rnd" w="1260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688800">
            <a:off x="4703400" y="2906280"/>
            <a:ext cx="1417680" cy="2057400"/>
          </a:xfrm>
          <a:custGeom>
            <a:avLst/>
            <a:gdLst/>
            <a:ahLst/>
            <a:rect l="l" t="t" r="r" b="b"/>
            <a:pathLst>
              <a:path w="920" h="1250">
                <a:moveTo>
                  <a:pt x="0" y="1250"/>
                </a:moveTo>
                <a:cubicBezTo>
                  <a:pt x="72" y="1074"/>
                  <a:pt x="145" y="898"/>
                  <a:pt x="240" y="740"/>
                </a:cubicBezTo>
                <a:cubicBezTo>
                  <a:pt x="335" y="582"/>
                  <a:pt x="457" y="423"/>
                  <a:pt x="570" y="300"/>
                </a:cubicBezTo>
                <a:cubicBezTo>
                  <a:pt x="683" y="177"/>
                  <a:pt x="862" y="50"/>
                  <a:pt x="92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688800">
            <a:off x="4854240" y="3182400"/>
            <a:ext cx="1417680" cy="1805040"/>
          </a:xfrm>
          <a:custGeom>
            <a:avLst/>
            <a:gdLst/>
            <a:ahLst/>
            <a:rect l="l" t="t" r="r" b="b"/>
            <a:pathLst>
              <a:path w="920" h="1250">
                <a:moveTo>
                  <a:pt x="0" y="1250"/>
                </a:moveTo>
                <a:cubicBezTo>
                  <a:pt x="72" y="1074"/>
                  <a:pt x="145" y="898"/>
                  <a:pt x="240" y="740"/>
                </a:cubicBezTo>
                <a:cubicBezTo>
                  <a:pt x="335" y="582"/>
                  <a:pt x="457" y="423"/>
                  <a:pt x="570" y="300"/>
                </a:cubicBezTo>
                <a:cubicBezTo>
                  <a:pt x="683" y="177"/>
                  <a:pt x="862" y="50"/>
                  <a:pt x="920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0160" y="5067360"/>
            <a:ext cx="5842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cc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73600" y="5049720"/>
            <a:ext cx="81468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07040" y="2765520"/>
            <a:ext cx="4604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8:43:23Z</dcterms:created>
  <dc:creator>CPqD</dc:creator>
  <dc:description/>
  <dc:language>en-US</dc:language>
  <cp:lastModifiedBy>rudge</cp:lastModifiedBy>
  <dcterms:modified xsi:type="dcterms:W3CDTF">2004-08-27T23:41:39Z</dcterms:modified>
  <cp:revision>94</cp:revision>
  <dc:subject/>
  <dc:title>Apresentação do PowerPoint</dc:title>
</cp:coreProperties>
</file>